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DFC-B784-421A-B066-49BB1E51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C1D-7083-4CE8-82E7-9367F61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BD7-E81E-47C0-A44F-CBCD466F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BAC-DDA1-4D66-8A00-D2B7407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B5D-36BB-4880-ADB6-6E8C844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B97-FE37-43D6-98D6-F90432F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92A-B82C-4EC5-B025-F1C90A63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E8A-F244-4099-875D-A320B561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0FB-8A4C-4E17-9B71-072E5B8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C75-910C-4C74-A717-FCA430E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4E6-B0EF-492D-A8A5-AE78AC9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C0C-89F9-4092-9D61-5376B23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571C-A06B-44B6-8C6A-1AE4DEC3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898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RECHO DE ASOCIAC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19 Nº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nión y asociación. Di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833: no lo contemp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liberal 1874 lo introdu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5 lo volvió a  consag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 Lo consagró ampl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de 1989: Introdujo modificación relativa a los partidos políticos (reserva de milita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IDO DE LA NORM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en general o asociación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con personalidad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prohib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ón Política: Los partidos políticos (LOC 18.6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ismo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en general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s la regla general, la de organizar, ingresar, permanecer y retirars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n permiso previ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cuencias: a) cualquier persona tiene dº a crear asociaciones; b) nadie puede ser forzado a pertenecer a un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Concordancias: arts.1; 19 Nº 16 inc.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 Nº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bate sobre el inciso 3: Consecuencia respecto de los colegios profesionales y crítica(colegiatura no es obligator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con personalidad jurídica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pto  y clasificación según el C.C. , el Código de Comercio y ley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prohib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ntrarias a la moral, orden público y seguridad del Estado (inc.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ordancias: Código Penal art.292 (tipifica “asociaciones ilícitas”);CPR.art.19 Nº 7 letra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encia del recurso de prot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artidos Políticos o asociaciones polític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(ver apunte e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 Concepto de partido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los par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ses constitucionales de los par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1:19:58Z</dcterms:created>
  <dc:creator>Ana Maria</dc:creator>
  <dc:description/>
  <dc:language>en-US</dc:language>
  <cp:lastModifiedBy>Ana Maria</cp:lastModifiedBy>
  <dcterms:modified xsi:type="dcterms:W3CDTF">2009-07-28T00:09:56Z</dcterms:modified>
  <cp:revision>31</cp:revision>
  <dc:subject/>
  <dc:title>DERECHO DE ASOCIACION Art. 19 Nº 15</dc:title>
</cp:coreProperties>
</file>