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2DA-BC06-4FD7-93FB-A00BAFF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56A1-5070-41A6-8119-EFA9ADE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CAC-CE72-4955-A556-CA796848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DA2-C416-40DB-9659-CB1C8CED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41B-F9CC-40A3-908C-4DD1E11A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776-F67E-4091-A026-5669C3BE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01D-AF30-4D2D-8785-041E3E53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708-2BFF-4B39-B3F3-1AC5D5FB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5673-0216-4060-9B98-2DAFC6E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9C6-92FF-4886-B30A-FB97EBA1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874-3F38-4D7B-B426-7CEDE152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D3E7-B692-4628-AB82-50819DC4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CED-4653-4B82-A218-1477A3BE7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9898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ERECHO DE ASOCIAC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. 19 Nº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p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nión y asociación. Difer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833: no lo contempl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orma liberal 1874 lo introdu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5 lo volvió a  consagr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:  Lo consagró ampli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a de 1989: Introdujo modificación relativa a los partidos políticos (reserva de milita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IDO DE LA NORM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en general o asociación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con personalidad jurí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ones prohibi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ación Política: Los partidos políticos (LOC 18.6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ralismo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en general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Es la regla general, la de organizar, ingresar, permanecer y retirars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in permiso previo.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cuencias: a) cualquier persona tiene dº a crear asociaciones; b) nadie puede ser forzado a pertenecer a una asoci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Concordancias: arts.1; 19 Nº 16 inc.4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9 Nº 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 Debate sobre el inciso 3: Consecuencia respecto de los colegios profesionales y crítica(colegiatura no es obligator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con personalidad jurídica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epto  y clasificación según el C.C. , el Código de Comercio y leyes espec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sociaciones prohibi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ontrarias a la moral, orden público y seguridad del Estado (inc. 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cordancias: Código Penal art.292 (tipifica “asociaciones ilícitas”);CPR.art.19 Nº 7 letra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encia del recurso de prot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RECHO DE ASOCI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artidos Políticos o asociaciones polític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(ver apunte en Wo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 Concepto de partido polí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olución de los part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ses constitucionales de los part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1:19:58Z</dcterms:created>
  <dc:creator>Ana Maria</dc:creator>
  <dc:description/>
  <dc:language>en-US</dc:language>
  <cp:lastModifiedBy>Ana Maria</cp:lastModifiedBy>
  <dcterms:modified xsi:type="dcterms:W3CDTF">2009-07-28T00:09:56Z</dcterms:modified>
  <cp:revision>31</cp:revision>
  <dc:subject/>
  <dc:title>DERECHO DE ASOCIACION Art. 19 Nº 15</dc:title>
</cp:coreProperties>
</file>