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A942E-9EFD-49A5-B942-4412787CF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9FC78-3A8A-4B4D-96E2-67F047299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CA8E0-B316-4774-BA1D-1006F60AA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898A8-B7C0-498E-9390-3FC79A16F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C8B66-B861-460B-8D6E-543D4A365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71383-FF39-4110-B692-B9A5AFE76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3F7AE-210D-45FA-87C1-18F49773E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259FC-3B2A-4B49-9ECB-8280742D2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5E8D8-C211-44B6-9BDF-6A4BA8C4F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8C44-55A7-4798-BAF2-FBF5E9EFD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F177-7143-47A3-A34E-FD8E312BD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6FDF5-63DF-4398-83FB-0B0ADC70C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95B1-91B2-42F1-A9E8-0E5E0E54FAAF}"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roducción al Orden Público Económic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íctor Manuel Avilés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Nuestra Hipotesis sobre el Concepto de OP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realidad, siempre ha existido un OPE. Sólo se transforma en un concepto cuando aparecen las normas de 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trata de un concepto neutral (jurídico indeterminado) que sólo se precisa por los contenidos que le dan normas específic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centro del OPE es la consideración colectiva de elementos que pueden tener significación individual o soc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Noción Funcional de OPE (Farjat. Raúl Varela en Chile)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a:t>
            </a:r>
            <a:r>
              <a:rPr b="0" i="1" lang="es-ES_tradnl" sz="2800" spc="-1" strike="noStrike" u="sng">
                <a:solidFill>
                  <a:srgbClr val="000000"/>
                </a:solidFill>
                <a:uFillTx/>
                <a:latin typeface="Arial"/>
              </a:rPr>
              <a:t>Conjunto de medidas adoptadas por la autoridad con el fin de organizar la actividad y las relaciones económicas” (Luis Mont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epto primitivo e intervencionis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contenido especial, se identifica con las normas que limitan la autonomía de la voluntad en el derecho priv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oy superada por la aproximación libertaria del Derecho a la Economía en la Constitución Política de la República (algunos hablan de un “orden privado económico”, por cuanto se limita a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ción Materia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i="1" lang="es-ES_tradnl" sz="2800" spc="-1" strike="noStrike" u="sng">
                <a:solidFill>
                  <a:srgbClr val="000000"/>
                </a:solidFill>
                <a:uFillTx/>
                <a:latin typeface="Arial"/>
              </a:rPr>
              <a:t>Conjunto de principios y normas jurídicas que organizan la economía del país y facultan a la autoridad para regularla en armonía con los valores de la sociedad nacional, formulados en la Constitución</a:t>
            </a:r>
            <a:r>
              <a:rPr b="0" lang="es-ES_tradnl" sz="2800" spc="-1" strike="noStrike">
                <a:solidFill>
                  <a:srgbClr val="000000"/>
                </a:solidFill>
                <a:latin typeface="Arial"/>
              </a:rPr>
              <a:t>” (Cea 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a contenidos y principios al concepto. Son previos a las normas y también las incluy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vance pero en nuestra opinión deja fuera aspectos materiales del OPE previos al derecho positivo y, por otra parte, complica el uso de la noción como bien juríd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epto de Situación o Estado (Fermandois, Avilé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i="1" lang="es-ES_tradnl" sz="3200" spc="-1" strike="noStrike" u="sng">
                <a:solidFill>
                  <a:srgbClr val="000000"/>
                </a:solidFill>
                <a:uFillTx/>
                <a:latin typeface="Arial"/>
              </a:rPr>
              <a:t>Recta disposición de los diferentes elementos sociales y de otro tipo que integran la sociedad –públicos y privados- de la manera que la colectividad estima valiosa para la obtención de su mejor desempeño en la satisfacción de las necesidades materiales del Hombre</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Fundamento del Concepto de Situación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orden jurídico económico” pues engloba toda la aproximación del Derecho a la Economía, incluso en aquella parte previa a la regulación pero relevante a e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coherente decir que el OPE es el orden de la regulación y luego poner énfasis en la libertad y el derecho de propiedad como sus elementos centr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bien jurídico tutelado por el “derecho penal económico” por lo que, al ser los principios y atribuciones normativas intangibles para el delincuente, mal puede sancionarse su afección. Es la situación o estado de OPE el que se afecta por el delito, no la norma o facult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del OPE I</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y elementos positivos y otros prenormativos (sociabilidad, necesidades materiales, escacez de medio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ntro de los elementos positivos se incluyen el derecho público y priva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derecho público, existen formulaciones precisas de la juridicidad en el número 21 (límite a actividad empresarial) y 22 (igualdad) del artículo 19 de la Constitución Política de la República. El derecho tributario y regulatorio se incluy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derecho privado existen las “normas de orden público económico”, las que tradicionalmente se confundían con el concepto de OPE y que limitan la autonomía de la voluntad (ejemplo, prohibición DL 211 de los acuerdos de repartición de zon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tenidos del OPE II (Derecho Privad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propiedad: Propiedad Industrial (más creación); sistema crediticio y protección medios de pago (mejor asignación de recursos); protección al consumidor (interés dif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libertad: Transparencia en mercados y libre acceso (ellos libre competencia y mejor asignación de recur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igualdad: Mercado de val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derechos sociales y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del OPE II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íntesis, se revalora el mercado y los derechos y libertades individuales, estableciendo como rol del Estado el desarrollar una política activa para permitir que los mismos sean una re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Basta con esta Explicación del OP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un concepto bastante neutral que debe precisarse con contenidos norm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hablan derechamente de su abandono y vuelta a la noción de propiedad, libertad, igualdad, etc. (Ruiz-Tag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mplo de la Recepción Jurisprudencial de nuestra Noció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elefónica España (1993) ya controla CTC (telefonía local) y quiere entrar a Entel (tel. Larga distancia). La CPC le indica que debe optar, lo que se ratifica por la CR. La Corte Suprema señala que las normas de libre competencia son de OPE y conjugan la libertar y la igualdad, sin proteger directamente al consumidor sino que al mercado, resguardando el interés colectivo en el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as prácticas predatorias benefician en alguna instancia a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ortancia del Tem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conomía y sus actores no son ajenos al derech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recho económico excede el meramente patrimonial. Actuaciones de privados interesan a la colectividad (ejemplo de la silla y la toma de control/ igualdad, libertad y confianza mercado de capitales como garantía de buena asignación de recurs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PE es un concepto bastante indeterminado al que, no obstante, se apela para resolver conflictos reales entre par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derosas razones de seguridad y certeza jurídica exigen la precisión del OP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E es una realidad inmemorial, que refleja la aproximación del Derecho a la Econom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E es más amplio que límite a la autonomía de la volunt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situación o estado, por lo que puede afectarse y debe protegerse como bien juríd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catálogo de contenidos que debe precisar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ualmente, existe un énfasis colectivo que obliga al resguardo de intereses incluso particula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uestro Concept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Recta disposición de los diferentes elementos sociales y de otro tipo que integran la sociedad –públicos y privados- de la manera que la colectividad estima valiosa para la obtención de su mejor desempeño en la satisfacción de las necesidades materiales del Ho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implificación de las Etapas de la Aproximación del Derecho a la Economía</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a:t>
            </a:r>
            <a:r>
              <a:rPr b="0" lang="es-ES_tradnl" sz="3200" spc="-1" strike="noStrike">
                <a:solidFill>
                  <a:srgbClr val="000000"/>
                </a:solidFill>
                <a:latin typeface="Arial"/>
              </a:rPr>
              <a:t>	</a:t>
            </a:r>
            <a:r>
              <a:rPr b="0" lang="es-ES_tradnl" sz="3200" spc="-1" strike="noStrike">
                <a:solidFill>
                  <a:srgbClr val="000000"/>
                </a:solidFill>
                <a:latin typeface="Arial"/>
              </a:rPr>
              <a:t>Liberalismo puro (Smith, s.X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Mixto estatista (Keynes, gran parte del s. X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Mixto libertario (actual revaloración del mercado con énfasis regulatori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tapa del liberalismo (s.XIX)</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percibe interés económico individual v/s el colectivo: Sólo existe el individu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recho (deber ser) y economía (ser), ámbitos separados y, por ello, el derecho no interviene mayormente en la economí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dominio de los derechos y libertades individuales (propiedad, igualdad, etc.). Labor del Jue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un derecho económico (sólo civil y comer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yormente, se regulan vicios del consentimiento y derechos patrimoniales (con excepciones, como caso de mayorazgo, libre circulación y fideicomi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natural, con centro en autonomía de voluntad (abstención del Estado y terce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tapa Mixta Intervencionista (Guerra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sume el interés económico individual como mayormente contrapuesto al colectivo; No se percibe interés económico individual v/s el colectivo: Sólo existe el individu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el Derecho (deber ser) debe forzar y encuadrar la economía (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rgen derechos sociales (Const. Weimar y México) y derechos individuales irrenunciables (por ejemplo, los laborales). Labor del legislad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e el derecho derecho económico cercano al administrativo (derecho de la regula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como normas que permiten al Estado regular y las regulaciones dictadas en su ejercicio, limitando la autonomía de la volunt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tapa Contemporánea: Revaloración del Mercad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el interés colectivo y el individual, de manera no contrapuesta: El interés colectivo busca asegurar y expandir los derechos y libertades individu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gualmente, el Derecho (deber ser) debe encuadrar la economía (s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recho económico se aleja del administrativo (salvo lo regulatorio) y se aproxima al comercial y constitu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se aproxima a situación óptima de mercado, donde el Estado busca que más personas puedan ejercer su libertad y derechos, en igualdad de condicion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ándo surge el OP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mayoría dice que en el período mixto-intervencionista. Ello es coherente con conceptuarlo como regulación o, incluso, principi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Nuestra tesis</a:t>
            </a:r>
            <a:r>
              <a:rPr b="0" lang="es-ES_tradnl" sz="3200" spc="-1" strike="noStrike">
                <a:solidFill>
                  <a:srgbClr val="000000"/>
                </a:solidFill>
                <a:latin typeface="Arial"/>
              </a:rPr>
              <a:t>: Como bien jurídico siempre ha existido. Se definió como concepto sólo en el s. XX al alero de las regulaciones pues anteriormente no fue necesario (OPE del “</a:t>
            </a:r>
            <a:r>
              <a:rPr b="0" i="1" lang="es-ES_tradnl" sz="3200" spc="-1" strike="noStrike">
                <a:solidFill>
                  <a:srgbClr val="000000"/>
                </a:solidFill>
                <a:latin typeface="Arial"/>
              </a:rPr>
              <a:t>dejar hacer</a:t>
            </a:r>
            <a:r>
              <a:rPr b="0" lang="es-ES_trad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Historia de la Denominación OP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e como denominación en el período mixto intervenci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derecho privado la noción de “orden público” como límite a la autonomía de la voluntad era conoci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apta el surgimiento de normas económicas que operaban como límite a la autonomía de la voluntad y, por ello, se conceptualizan como OPE (Ripert, Farjat, y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1:26:46Z</dcterms:created>
  <dc:creator>Toshiba</dc:creator>
  <dc:description/>
  <dc:language>en-US</dc:language>
  <cp:lastModifiedBy>Victor Manuel Aviles</cp:lastModifiedBy>
  <dcterms:modified xsi:type="dcterms:W3CDTF">2007-03-12T16:52:41Z</dcterms:modified>
  <cp:revision>62</cp:revision>
  <dc:subject/>
  <dc:title>Introducción al Orden Público Económico</dc:title>
</cp:coreProperties>
</file>