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A25D-D297-454E-B83F-BBBA1DF5836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5AC6-D723-4797-8CD1-FEBA86776A0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6E43-81B7-4B8E-8A02-F30FD3FC14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494E-C5F4-4A88-A60B-D40C415FD5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D4A5-5FCD-41D2-A0C4-F88388BCB42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4AD4-7D71-45DB-A271-1CFC20BF41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88ED-9E61-46E4-8F8B-9D1F3D26F6D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6987-DEEB-411E-9A69-AB1A933CE0F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2EB4-C83A-4E8A-ACB3-CC39BD43099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978D-8237-42FA-BEE3-4F66D6B01E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FFC5-8A8B-4299-B06E-8C6DA82E4EF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B0D7-C9BF-4F09-A1FD-74F9381279E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25A9-5CBA-41FF-A919-44A2D6243B1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8CAFA-FBDD-4150-86B9-8E3D77E98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64B0-8539-46C5-ABF9-A4452CF23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A8E24-EA7F-4ED5-9B4B-1902471A9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FD137-B9B0-4162-A78B-B4298F63A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5A891-2D92-407B-BEF6-B55CB64F8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CABCD-EEE3-4A21-AFDA-A388BB4AF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FF8D6-4D2C-43F1-BFBC-F0E648B65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1FB4C-BB89-4B6D-A8E8-0E73145B1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47CFD-58DA-457E-B868-D6E0FBD47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99D2D-6268-4A79-8E72-313A24BB9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871A7-B27B-4084-812E-47FEB3127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A813C-56CC-4019-A187-0208FCC2E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01AD3-51B2-4861-BE24-DD274F805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795B2-81F3-49F2-93B5-0DD481ACD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D1E4D-A11C-4027-BA9D-2C2F7C3E6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B9747-4F76-41EE-8A0C-508787C29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F9049-7B14-4937-8DCD-7211A5413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023A6E-3F5A-469D-A4CF-1250A19EA3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9E2CD-7ED3-48B4-A9FE-92235351E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FBC10-361F-481E-8DC9-D1EE595D2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667A0-E191-498D-98C5-B9ED86F96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A1DA1E-A705-451F-93BD-15A831197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096C4-9534-4B59-9A73-EF10D2531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2B931-010A-4124-9B6A-6CDE15593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204E2-EF4B-42D8-9D11-C5B527662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A4B38-A9C9-46C5-98D6-F1D92D8A5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50FA3-B904-4ABE-974A-50B8EEFFA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BB941-0357-4722-8142-FD90E4114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965BE3-3BC0-404E-ACF4-6AE91C71A4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3314E2-5DFB-4AFF-9713-20086EA428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EB53A-1A6E-45CD-A836-056EC103E4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5253C8-8A0D-4A89-8ADF-76C0E70E5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471BD-5A64-42B9-8D2C-429139FBF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37A8E-1D01-41B1-BAE5-5926D6309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324FE-E772-4934-A4E1-3B178D8E84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0435B-011B-4B77-900B-5CD743FAA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2A3F4-25A9-483F-A036-A42E57A18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45038-E988-4BFF-9D92-D7E853F0B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B5EBA-EC4F-486B-B65D-E5886D6F6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AF141-29F1-411C-B9EA-7C43E8DEF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341BF-F342-4D13-BD1D-AB1E2ACB6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ECF57-1A94-4D6B-9F58-760ADD667E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85F4D5-3B46-4F90-870B-B3D237409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30B5-54C3-422B-8F86-D06E66409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2ED6-AB30-4BB6-8BD6-A71BB831E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27F51-B48B-4972-8532-9441C79FF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28C1-C945-4433-812C-FE482A179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809BB-C56A-4A82-B78F-BF3C922E2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BF60-F06A-48F3-98D9-2AF53EE8A0A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A714-018B-446A-A71C-54C64419A359}"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93F5-3CAA-4F2F-B1DA-6445FBA10406}"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89A3-B822-4652-9211-F194A2D83A6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6686d"/>
                </a:solidFill>
                <a:uFillTx/>
                <a:latin typeface="Constantia"/>
              </a:rPr>
              <a:t>19 Nº 12</a:t>
            </a:r>
            <a:br>
              <a:rPr sz="3600"/>
            </a:br>
            <a:r>
              <a:rPr b="0" lang="es-ES" sz="3600" spc="-1" strike="noStrike" u="sng">
                <a:solidFill>
                  <a:srgbClr val="06686d"/>
                </a:solidFill>
                <a:uFillTx/>
                <a:latin typeface="Constantia"/>
              </a:rPr>
              <a:t> </a:t>
            </a:r>
            <a:endParaRPr b="0" lang="en-US" sz="36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686d"/>
                </a:solidFill>
                <a:latin typeface="Constantia"/>
              </a:rPr>
              <a:t>	</a:t>
            </a:r>
            <a:r>
              <a:rPr b="0" lang="es-ES" sz="3600" spc="-1" strike="noStrike">
                <a:solidFill>
                  <a:srgbClr val="06686d"/>
                </a:solidFill>
                <a:latin typeface="Constantia"/>
              </a:rPr>
              <a:t>Libertad de opinión y de información</a:t>
            </a:r>
            <a:r>
              <a:rPr b="0" lang="es-ES" sz="3600" spc="-1" strike="noStrike">
                <a:solidFill>
                  <a:srgbClr val="000000"/>
                </a:solidFill>
                <a:latin typeface="Constantia"/>
              </a:rPr>
              <a:t>.</a:t>
            </a:r>
            <a:br>
              <a:rPr sz="2800"/>
            </a:br>
            <a:br>
              <a:rPr sz="2000"/>
            </a:br>
            <a:r>
              <a:rPr b="0" lang="es-ES" sz="2000" spc="-1" strike="noStrike">
                <a:solidFill>
                  <a:srgbClr val="06686d"/>
                </a:solidFill>
                <a:latin typeface="Calibri"/>
              </a:rPr>
              <a:t>Profesora: Ana María García B.</a:t>
            </a:r>
            <a:br>
              <a:rPr sz="2000"/>
            </a:br>
            <a:r>
              <a:rPr b="0" lang="es-ES" sz="2000" spc="-1" strike="noStrike">
                <a:solidFill>
                  <a:srgbClr val="06686d"/>
                </a:solidFill>
                <a:latin typeface="Calibri"/>
              </a:rPr>
              <a:t>Derecho Constitucional II</a:t>
            </a:r>
            <a:br>
              <a:rPr sz="2000"/>
            </a:br>
            <a:r>
              <a:rPr b="0" lang="es-ES" sz="2000" spc="-1" strike="noStrike">
                <a:solidFill>
                  <a:srgbClr val="06686d"/>
                </a:solidFill>
                <a:latin typeface="Calibri"/>
              </a:rPr>
              <a:t>Primer Semestre 2009</a:t>
            </a:r>
            <a:endParaRPr b="0" lang="en-US" sz="2000" spc="-1" strike="noStrike">
              <a:solidFill>
                <a:srgbClr val="000000"/>
              </a:solidFill>
              <a:latin typeface="Constantia"/>
            </a:endParaRPr>
          </a:p>
        </p:txBody>
      </p:sp>
      <p:pic>
        <p:nvPicPr>
          <p:cNvPr id="203" name="Picture 6" descr="logo_uchile"/>
          <p:cNvPicPr/>
          <p:nvPr/>
        </p:nvPicPr>
        <p:blipFill>
          <a:blip r:embed="rId1"/>
          <a:stretch/>
        </p:blipFill>
        <p:spPr>
          <a:xfrm>
            <a:off x="357120" y="857160"/>
            <a:ext cx="104472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533520" y="533520"/>
            <a:ext cx="8305560" cy="545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sejo Nacional de Televisión: Ley 18.838, de 1989,</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rgano autónomo, con personalidad jurídica       propia</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Tiene la tuición del “correcto funcionamiento”    de la TV, es decir, comprobar la adecuada y normal emisión de la programación y hacer efectivas las responsabilidades. No es un “cen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457200" y="6094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p:txBody>
      </p:sp>
      <p:sp>
        <p:nvSpPr>
          <p:cNvPr id="224" name="Text Box 3"/>
          <p:cNvSpPr/>
          <p:nvPr/>
        </p:nvSpPr>
        <p:spPr>
          <a:xfrm>
            <a:off x="228600" y="1219320"/>
            <a:ext cx="8915400" cy="78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La Producción Cinematográfica</a:t>
            </a:r>
            <a:r>
              <a:rPr b="0" lang="es-CL" sz="2800" spc="-1" strike="noStrike">
                <a:solidFill>
                  <a:srgbClr val="000000"/>
                </a:solidFill>
                <a:latin typeface="Constantia"/>
              </a:rPr>
              <a:t>: (N° 12, inciso final)</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Hasta el año 2001 se autorizó un sistema de censura previa y existió el Consejo de Censura Cinematográfic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forma Constitucional de 2001 suprimió la censura previ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stema de calificación para la exhibición de la producción cinematográfica regulado por Ley N° 19.846 de 2003. Para ello  existe el “Consejo de Calificación Cinematográfica”, dependiente del Ministerio de Educació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685800"/>
            <a:ext cx="8077320" cy="736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Prohibición de monopolios estatales</a:t>
            </a:r>
            <a:r>
              <a:rPr b="0" lang="es-CL" sz="2800" spc="-1" strike="noStrike">
                <a:solidFill>
                  <a:srgbClr val="000000"/>
                </a:solidFill>
                <a:latin typeface="Constantia"/>
              </a:rPr>
              <a:t> (inc. 2)</a:t>
            </a:r>
            <a:endParaRPr b="0" lang="en-US" sz="2800" spc="-1" strike="noStrike">
              <a:solidFill>
                <a:srgbClr val="000000"/>
              </a:solidFill>
              <a:latin typeface="Arial"/>
            </a:endParaRPr>
          </a:p>
          <a:p>
            <a:pPr marL="343080" indent="-343080">
              <a:lnSpc>
                <a:spcPct val="10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Constitución asegura que los medios de comunicación social pertenezcan a diversos dueños, incluyendo entre ellos al Estado</a:t>
            </a:r>
            <a:r>
              <a:rPr b="0" lang="es-CL" sz="1800" spc="-1" strike="noStrike">
                <a:solidFill>
                  <a:srgbClr val="000000"/>
                </a:solidFill>
                <a:latin typeface="Constantia"/>
              </a:rPr>
              <a:t>.</a:t>
            </a:r>
            <a:endParaRPr b="0" lang="en-US" sz="1800" spc="-1" strike="noStrike">
              <a:solidFill>
                <a:srgbClr val="000000"/>
              </a:solidFill>
              <a:latin typeface="Arial"/>
            </a:endParaRPr>
          </a:p>
          <a:p>
            <a:pPr marL="343080" indent="-343080">
              <a:lnSpc>
                <a:spcPct val="100000"/>
              </a:lnSpc>
              <a:spcBef>
                <a:spcPts val="125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onstantia"/>
              </a:rPr>
              <a:t>JURISPRUDENCIA:</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El libro negro de la justicia chilena”. Recurso de inaplicabilidad por inconstitucionalidad contra resolución que ordena requisamiento de los libros, por violación de la libertad de opinión sin censura previa. 2000.</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película “La última tentación de Cristo”. Recurso interpuesto ante la Comisión Interamericana de DD.HH. contra sentencia de la Corte Suprema que niega la exhibición de la película. 2001.</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LIBERTAD DE OPINION Y DE INFORMACION </a:t>
            </a:r>
            <a:br>
              <a:rPr sz="3600"/>
            </a:br>
            <a:r>
              <a:rPr b="0" lang="es-ES" sz="3600" spc="-1" strike="noStrike">
                <a:solidFill>
                  <a:srgbClr val="04617b"/>
                </a:solidFill>
                <a:latin typeface="Calibri"/>
              </a:rPr>
              <a:t>(Art.19 Nº 12)</a:t>
            </a:r>
            <a:endParaRPr b="0" lang="en-US" sz="36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I  </a:t>
            </a:r>
            <a:r>
              <a:rPr b="1" lang="es-ES" sz="2400" spc="-1" strike="noStrike" u="sng">
                <a:solidFill>
                  <a:srgbClr val="000000"/>
                </a:solidFill>
                <a:uFillTx/>
                <a:latin typeface="Constantia"/>
              </a:rPr>
              <a:t>Evolución e importanci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olución históric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intrínseco a la dignidad de la person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propio de las sociedades libres y democrátic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información es un bien público.</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libertad de información se concreta a través de los medios       </a:t>
            </a:r>
            <a:r>
              <a:rPr b="0" lang="es-ES" sz="2400" spc="-1" strike="noStrike">
                <a:solidFill>
                  <a:srgbClr val="000000"/>
                </a:solidFill>
                <a:latin typeface="Constantia"/>
              </a:rPr>
              <a:t>	</a:t>
            </a:r>
            <a:r>
              <a:rPr b="0" lang="es-ES" sz="2400" spc="-1" strike="noStrike">
                <a:solidFill>
                  <a:srgbClr val="000000"/>
                </a:solidFill>
                <a:latin typeface="Constantia"/>
              </a:rPr>
              <a:t>de comunicación de mas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entuales  colisiones de derechos (honor, vida privada,      </a:t>
            </a:r>
            <a:r>
              <a:rPr b="0" lang="es-ES" sz="2400" spc="-1" strike="noStrike">
                <a:solidFill>
                  <a:srgbClr val="000000"/>
                </a:solidFill>
                <a:latin typeface="Constantia"/>
              </a:rPr>
              <a:t>	</a:t>
            </a:r>
            <a:r>
              <a:rPr b="0" lang="es-ES" sz="2400" spc="-1" strike="noStrike">
                <a:solidFill>
                  <a:srgbClr val="000000"/>
                </a:solidFill>
                <a:latin typeface="Constantia"/>
              </a:rPr>
              <a:t>orden público, salu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IBERTAD DE OPINION Y DE INFORMACION </a:t>
            </a:r>
            <a:br>
              <a:rPr sz="3200"/>
            </a:br>
            <a:r>
              <a:rPr b="0" lang="es-E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II </a:t>
            </a:r>
            <a:r>
              <a:rPr b="1" lang="es-ES" sz="2400" spc="-1" strike="noStrike" u="sng">
                <a:solidFill>
                  <a:srgbClr val="000000"/>
                </a:solidFill>
                <a:uFillTx/>
                <a:latin typeface="Constantia"/>
              </a:rPr>
              <a:t>Antecedentes:</a:t>
            </a:r>
            <a:endParaRPr b="0" lang="en-US" sz="2400" spc="-1" strike="noStrike">
              <a:solidFill>
                <a:srgbClr val="000000"/>
              </a:solidFill>
              <a:latin typeface="Constantia"/>
            </a:endParaRPr>
          </a:p>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eglamento Constitucional de 1812</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posteriores: 1818, 1822, 1823, Ley Federal 1827, 1828, 1833 y 1925 con reforma constitucional 1971.</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cta Constitucional Nº 3 (1976): </a:t>
            </a:r>
            <a:r>
              <a:rPr b="0" i="1" lang="es-ES" sz="2800" spc="-1" strike="noStrike">
                <a:solidFill>
                  <a:srgbClr val="000000"/>
                </a:solidFill>
                <a:latin typeface="Constantia"/>
              </a:rPr>
              <a:t>derecho a recibir</a:t>
            </a:r>
            <a:r>
              <a:rPr b="0" lang="es-ES" sz="2800" spc="-1" strike="noStrike">
                <a:solidFill>
                  <a:srgbClr val="000000"/>
                </a:solidFill>
                <a:latin typeface="Constantia"/>
              </a:rPr>
              <a:t> información veraz , oportuna y objetiva.</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ibertad de opinión y libertad de información.</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Bienes jurídicos comprometidos: personal y social</a:t>
            </a:r>
            <a:endParaRPr b="0" lang="en-US" sz="2800" spc="-1" strike="noStrike">
              <a:solidFill>
                <a:srgbClr val="000000"/>
              </a:solidFill>
              <a:latin typeface="Constantia"/>
            </a:endParaRPr>
          </a:p>
          <a:p>
            <a:pPr marL="245520" indent="-24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recho a </a:t>
            </a:r>
            <a:r>
              <a:rPr b="0" i="1" lang="es-ES" sz="2800" spc="-1" strike="noStrike">
                <a:solidFill>
                  <a:srgbClr val="000000"/>
                </a:solidFill>
                <a:latin typeface="Constantia"/>
              </a:rPr>
              <a:t>emitir</a:t>
            </a:r>
            <a:r>
              <a:rPr b="0" lang="es-ES" sz="2800" spc="-1" strike="noStrike">
                <a:solidFill>
                  <a:srgbClr val="000000"/>
                </a:solidFill>
                <a:latin typeface="Constantia"/>
              </a:rPr>
              <a:t> opinión y a </a:t>
            </a:r>
            <a:r>
              <a:rPr b="0" i="1" lang="es-ES" sz="2800" spc="-1" strike="noStrike">
                <a:solidFill>
                  <a:srgbClr val="000000"/>
                </a:solidFill>
                <a:latin typeface="Constantia"/>
              </a:rPr>
              <a:t>recibir </a:t>
            </a:r>
            <a:r>
              <a:rPr b="0" lang="es-ES" sz="2800" spc="-1" strike="noStrike">
                <a:solidFill>
                  <a:srgbClr val="000000"/>
                </a:solidFill>
                <a:latin typeface="Constantia"/>
              </a:rPr>
              <a:t>inform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IBERTAD DE OPINION Y DE INFORMACION </a:t>
            </a:r>
            <a:br>
              <a:rPr sz="3200"/>
            </a:br>
            <a:r>
              <a:rPr b="0" lang="es-E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II </a:t>
            </a:r>
            <a:r>
              <a:rPr b="1" lang="es-ES" sz="2800" spc="-1" strike="noStrike" u="sng">
                <a:solidFill>
                  <a:srgbClr val="000000"/>
                </a:solidFill>
                <a:uFillTx/>
                <a:latin typeface="Constantia"/>
              </a:rPr>
              <a:t>Leyes complementarias y pactos internacionales</a:t>
            </a:r>
            <a:r>
              <a:rPr b="1" lang="es-E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18.838 de 1989, crea Consejo Nacional de Televisió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19.733 de 2001, Ley de Prensa, regula la libertad de opinión e información y ejercicio del periodismo.</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19.846 de 2003, sobre calificación de la producción cinematográfica.</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DUDH, PDCP, CAD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4617b"/>
                </a:solidFill>
                <a:latin typeface="Calibri"/>
              </a:rPr>
              <a:t>LIBERTAD DE OPINION Y DE INFORMACION </a:t>
            </a:r>
            <a:br>
              <a:rPr sz="2800"/>
            </a:br>
            <a:r>
              <a:rPr b="0" lang="es-ES" sz="2800" spc="-1" strike="noStrike">
                <a:solidFill>
                  <a:srgbClr val="04617b"/>
                </a:solidFill>
                <a:latin typeface="Calibri"/>
              </a:rPr>
              <a:t>(Art.19 Nº 12)</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6000"/>
          </a:bodyPr>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V  </a:t>
            </a:r>
            <a:r>
              <a:rPr b="1" lang="es-ES" sz="2800" spc="-1" strike="noStrike" u="sng">
                <a:solidFill>
                  <a:srgbClr val="000000"/>
                </a:solidFill>
                <a:uFillTx/>
                <a:latin typeface="Constantia"/>
              </a:rPr>
              <a:t>Contenido del precepto</a:t>
            </a:r>
            <a:r>
              <a:rPr b="0" lang="es-ES" sz="2800" spc="-1" strike="noStrike">
                <a:solidFill>
                  <a:srgbClr val="000000"/>
                </a:solidFill>
                <a:latin typeface="Constantia"/>
              </a:rPr>
              <a:t> (art. 19 Nº 12)</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Libertad de opinión e informac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sin censura previa, con responsabilidad)</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Derecho de rectificación o “derecho de répl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Derecho de fundar y mantener medios impresos.</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4.  La televis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5.  La producción cinematográf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6.  Prohibición de crear monopolios estatales.</a:t>
            </a:r>
            <a:endParaRPr b="0" lang="en-US" sz="2800" spc="-1" strike="noStrike">
              <a:solidFill>
                <a:srgbClr val="000000"/>
              </a:solidFill>
              <a:latin typeface="Constantia"/>
            </a:endParaRPr>
          </a:p>
          <a:p>
            <a:pPr marL="585000" indent="-58500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3200"/>
            </a:br>
            <a:r>
              <a:rPr b="0" lang="es-ES" sz="3200" spc="-1" strike="noStrike">
                <a:solidFill>
                  <a:srgbClr val="04617b"/>
                </a:solidFill>
                <a:latin typeface="Calibri"/>
              </a:rPr>
              <a:t>LIBERTAD DE OPINION Y DE INFORMACION </a:t>
            </a:r>
            <a:br>
              <a:rPr sz="3200"/>
            </a:br>
            <a:r>
              <a:rPr b="0" lang="es-E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Libertad de opinión e información:</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nálisis de contenido y alcance del inc.1,Nº 12.</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ohibición de “censura previa”. Concepto.</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incipio de responsabilidad.</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Sistema “represivo” frente a ofensas injustas. </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opera </a:t>
            </a:r>
            <a:r>
              <a:rPr b="0" i="1" lang="es-ES" sz="2600" spc="-1" strike="noStrike">
                <a:solidFill>
                  <a:srgbClr val="000000"/>
                </a:solidFill>
                <a:latin typeface="Constantia"/>
              </a:rPr>
              <a:t>a posteriori</a:t>
            </a:r>
            <a:r>
              <a:rPr b="0" lang="es-ES" sz="2600" spc="-1" strike="noStrike">
                <a:solidFill>
                  <a:srgbClr val="000000"/>
                </a:solidFill>
                <a:latin typeface="Constantia"/>
              </a:rPr>
              <a:t>)</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Doctrina de las “</a:t>
            </a:r>
            <a:r>
              <a:rPr b="0" i="1" lang="es-ES" sz="2600" spc="-1" strike="noStrike">
                <a:solidFill>
                  <a:srgbClr val="000000"/>
                </a:solidFill>
                <a:latin typeface="Constantia"/>
              </a:rPr>
              <a:t>fighting word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IBERTAD DE OPINION Y DE INFORMACION </a:t>
            </a:r>
            <a:br>
              <a:rPr sz="3200"/>
            </a:br>
            <a:r>
              <a:rPr b="0" lang="es-E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2. Derecho de respuesta y rectificación o “derecho de réplica”</a:t>
            </a:r>
            <a:r>
              <a:rPr b="0" lang="es-ES" sz="2600" spc="-1" strike="noStrike">
                <a:solidFill>
                  <a:srgbClr val="000000"/>
                </a:solidFill>
                <a:latin typeface="Constantia"/>
              </a:rPr>
              <a:t> (inc. 3)</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Regulado por la Ley de Prensa Nº 19.733.</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cepto del derecho de réplica</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aracterísticas: </a:t>
            </a:r>
            <a:endParaRPr b="0" lang="en-US" sz="26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s consubstancial al derecho de libertad de opin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s extrajudicial y no impide acciones judiciales posteriores.</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s de ejecución directa e inmediata en el medio de comunicac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No implica la retractación del medio.</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l medio no puede negarse a difundir la aclaración (multa, suspens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80880" y="7621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3"/>
          <p:cNvSpPr/>
          <p:nvPr/>
        </p:nvSpPr>
        <p:spPr>
          <a:xfrm>
            <a:off x="533520" y="60948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4e6d"/>
                </a:solidFill>
                <a:latin typeface="Arial"/>
              </a:rPr>
              <a:t>LIBERTAD DE OPINION Y DE INFORMACION </a:t>
            </a:r>
            <a:br>
              <a:rPr sz="2800"/>
            </a:br>
            <a:r>
              <a:rPr b="0" lang="es-ES" sz="2800" spc="-1" strike="noStrike">
                <a:solidFill>
                  <a:srgbClr val="004e6d"/>
                </a:solidFill>
                <a:latin typeface="Arial"/>
              </a:rPr>
              <a:t>(Art.19 Nº 12)</a:t>
            </a:r>
            <a:endParaRPr b="0" lang="en-US" sz="2800" spc="-1" strike="noStrike">
              <a:solidFill>
                <a:srgbClr val="000000"/>
              </a:solidFill>
              <a:latin typeface="Arial"/>
            </a:endParaRPr>
          </a:p>
        </p:txBody>
      </p:sp>
      <p:sp>
        <p:nvSpPr>
          <p:cNvPr id="218" name="Text Box 4"/>
          <p:cNvSpPr/>
          <p:nvPr/>
        </p:nvSpPr>
        <p:spPr>
          <a:xfrm>
            <a:off x="533520" y="1295280"/>
            <a:ext cx="8229600" cy="617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Derecho de fundar y mantener medios impreso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nstantia"/>
              </a:rPr>
              <a:t>    </a:t>
            </a:r>
            <a:r>
              <a:rPr b="0" lang="es-CL" sz="2800" spc="-1" strike="noStrike">
                <a:solidFill>
                  <a:srgbClr val="000000"/>
                </a:solidFill>
                <a:latin typeface="Constantia"/>
              </a:rPr>
              <a:t>(</a:t>
            </a:r>
            <a:r>
              <a:rPr b="0" lang="es-CL" sz="2400" spc="-1" strike="noStrike">
                <a:solidFill>
                  <a:srgbClr val="000000"/>
                </a:solidFill>
                <a:latin typeface="Constantia"/>
              </a:rPr>
              <a:t>Inciso 4 regulado por la Ley de Prensa</a:t>
            </a:r>
            <a:r>
              <a:rPr b="0" lang="es-CL" sz="2800" spc="-1" strike="noStrike">
                <a:solidFill>
                  <a:srgbClr val="000000"/>
                </a:solidFill>
                <a:latin typeface="Constantia"/>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cultad para crear, editar y mantener diarios, revistas, periódicos, etc.</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cluye todas las facultades necesarias para ejercer el derecho sin discriminaciones (importar maquinaria, papel, tinta....)</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Deben cumplirse los requisitos de publicación y circulación de la Ley de Prensa N° 19.733</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Text Box 5"/>
          <p:cNvSpPr/>
          <p:nvPr/>
        </p:nvSpPr>
        <p:spPr>
          <a:xfrm>
            <a:off x="5176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60948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p:txBody>
      </p:sp>
      <p:sp>
        <p:nvSpPr>
          <p:cNvPr id="221" name="Text Box 3"/>
          <p:cNvSpPr/>
          <p:nvPr/>
        </p:nvSpPr>
        <p:spPr>
          <a:xfrm>
            <a:off x="304920" y="1143000"/>
            <a:ext cx="8534160" cy="547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4. </a:t>
            </a:r>
            <a:r>
              <a:rPr b="1" lang="es-CL" sz="2800" spc="-1" strike="noStrike" u="sng">
                <a:solidFill>
                  <a:srgbClr val="000000"/>
                </a:solidFill>
                <a:uFillTx/>
                <a:latin typeface="Constantia"/>
              </a:rPr>
              <a:t>La Televisión</a:t>
            </a:r>
            <a:r>
              <a:rPr b="0" lang="es-CL" sz="2800" spc="-1" strike="noStrike">
                <a:solidFill>
                  <a:srgbClr val="000000"/>
                </a:solidFill>
                <a:latin typeface="Constantia"/>
              </a:rPr>
              <a:t>: Incisos 5 y 6</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El Estado, las universidades o entidades   que la ley determine podrán operar y   mantener estaciones de televisió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El Estado, TV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Universidades reconocidas como la de Chile, Católica de Chile, UCV, y del Norte.</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tras universidades o entidades públicas o privadas cumpliendo los requisitos leg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01:42:01Z</dcterms:created>
  <dc:creator>Ana Maria</dc:creator>
  <dc:description/>
  <dc:language>en-US</dc:language>
  <cp:lastModifiedBy>Jorge</cp:lastModifiedBy>
  <dcterms:modified xsi:type="dcterms:W3CDTF">2009-07-07T00:16:20Z</dcterms:modified>
  <cp:revision>53</cp:revision>
  <dc:subject/>
  <dc:title>LIBERTAD DE OPINION Y DE INFORMACION</dc:title>
</cp:coreProperties>
</file>