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jpeg" ContentType="image/jpe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75731-4C1F-4A82-8F72-D52A7D3B3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19DA7-941E-478B-A5D7-F357958F4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3DB81-3948-4FE8-935E-1D4236B87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8F063-C500-4F0C-8419-50E5AAFC2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6DB55-4532-4E7C-BEDC-C5BD161E7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04E8F-8BB9-4C98-9E46-D3D77EDD1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DF9F3-45B6-47F2-938A-96E615EFF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70C12-765F-47EB-9E51-0F02CFE61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DDE2D-2BA7-425E-9DF5-8211B3F29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C30A8-C6A8-4AF9-9E78-D359C6821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15F00-4429-4414-93DE-D94F4A0F4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32826-7A7D-4A38-A720-1FC9ED7C4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C0483-515C-485C-BA6C-2BBAAD36D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8918A-72AD-418C-8AF3-9FD5456A3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31344-CA30-4162-8EE4-36D516A53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0A26C-0EE1-4598-8FC5-B5913F092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59F31-54B3-4025-8A6C-94E4F5EC9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938399-3DB0-4C8D-987C-8ECAB3878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C148B9-F142-41E3-9F21-25F6BFC99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0AF66C-E807-45CE-A027-622042796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04991C-EC71-47CD-ACD4-75A1A254A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0DB533-6CF7-4596-92E1-5A72016A0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3C0BE-C860-485A-8A42-9BC53B72C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C75ED2-9FA4-4ED3-8532-18FB9206A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EC5BAB-6306-43A8-BFFE-5F46A72D3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A5D73E-76D7-40B3-A376-6E6362B4D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0CA300-716A-4047-8902-0F1B32DAE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89BC34-398E-48A3-BF2F-7326004BF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413EDB-B95B-40F5-B75A-5DD80D604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77E7B2-2376-40C4-8B12-F54CF884D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19DA25-8E7F-4A80-8054-55AC268BC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9FEB8B-1C50-47BD-ADEF-CD52BCB67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D73D0D-D465-4B7A-931E-C3F9AE9AE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6E1F5-FD45-4057-9C72-AEE423531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8CF680-6D9B-43CF-9D78-CA0474941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D5DC08-E113-45EC-BF9D-123CC4F1F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383915-0663-4E22-9738-FC3DB6C5F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881E2D-3E56-448D-949F-8A565D108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6C429D-11D9-43EC-928F-06E5991C4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B642C4-8BFA-455D-ACB8-1E02E8725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8C2BB0-DC63-4441-8540-EBB9A12A6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32B5E0-DAA0-42A2-B2B4-DDED7B8FD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2CEE78-C786-432D-847C-FA34A40CE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A9E42-2560-4D32-92B0-D9DD776CA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8F342-35FF-4366-8883-4F15B14E6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995B5-C087-48C8-A419-B9052B3EA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A16CD-88AF-4F67-8BF1-732D4163B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2735E-3ABC-4A99-9EF8-7237AE46C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7F26D-FF0B-4402-9E0F-5010F0E19D5C}" type="slidenum">
              <a:rPr b="0" lang="es-E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12 Forma libre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12 Forma libre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3722F-2041-42F1-8492-5B5B3C6AC17D}" type="slidenum">
              <a:rPr b="0" lang="es-ES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12 Forma libre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DF482-E8E7-438E-9163-E3B76D2DD121}" type="slidenum">
              <a:rPr b="0" lang="es-ES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13 Recortar y redondear rectángulo de esquina sencilla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14 Triángulo rectángulo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15 Forma libre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16 Forma libre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1B7FA-99FA-477C-9DF7-13C8B0C60382}" type="slidenum">
              <a:rPr b="0" lang="es-E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0" y="571320"/>
            <a:ext cx="8229600" cy="4895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4617b"/>
                </a:solidFill>
                <a:latin typeface="Calibri"/>
              </a:rPr>
              <a:t>    </a:t>
            </a:r>
            <a:r>
              <a:rPr b="0" lang="es-ES" sz="4000" spc="-1" strike="noStrike" u="sng">
                <a:solidFill>
                  <a:srgbClr val="04617b"/>
                </a:solidFill>
                <a:uFillTx/>
                <a:latin typeface="Calibri"/>
              </a:rPr>
              <a:t>19 Nº 10</a:t>
            </a:r>
            <a:br>
              <a:rPr sz="4000"/>
            </a:br>
            <a:br>
              <a:rPr sz="1800"/>
            </a:br>
            <a:r>
              <a:rPr b="0" lang="es-ES" sz="1800" spc="-1" strike="noStrike">
                <a:solidFill>
                  <a:srgbClr val="04617b"/>
                </a:solidFill>
                <a:latin typeface="Calibri"/>
              </a:rPr>
              <a:t>         </a:t>
            </a:r>
            <a:r>
              <a:rPr b="0" lang="es-ES" sz="4000" spc="-1" strike="noStrike">
                <a:solidFill>
                  <a:srgbClr val="04617b"/>
                </a:solidFill>
                <a:latin typeface="Calibri"/>
              </a:rPr>
              <a:t>El derecho a la educación.</a:t>
            </a:r>
            <a:br>
              <a:rPr sz="4000"/>
            </a:br>
            <a:r>
              <a:rPr b="0" lang="es-ES" sz="40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0" lang="es-ES" sz="4000" spc="-1" strike="noStrike">
                <a:solidFill>
                  <a:srgbClr val="04617b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4617b"/>
                </a:solidFill>
                <a:latin typeface="Calibri"/>
              </a:rPr>
              <a:t>Profesora: Ana María García B.</a:t>
            </a:r>
            <a:br>
              <a:rPr sz="2000"/>
            </a:br>
            <a:r>
              <a:rPr b="0" lang="es-ES" sz="2000" spc="-1" strike="noStrike">
                <a:solidFill>
                  <a:srgbClr val="04617b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4617b"/>
                </a:solidFill>
                <a:latin typeface="Calibri"/>
              </a:rPr>
              <a:t>Derecho Constitucional II</a:t>
            </a:r>
            <a:br>
              <a:rPr sz="2000"/>
            </a:br>
            <a:r>
              <a:rPr b="0" lang="es-ES" sz="2000" spc="-1" strike="noStrike">
                <a:solidFill>
                  <a:srgbClr val="04617b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4617b"/>
                </a:solidFill>
                <a:latin typeface="Calibri"/>
              </a:rPr>
              <a:t>Primer semestre 2009.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96" name="Picture 8" descr="logo_uchile"/>
          <p:cNvPicPr/>
          <p:nvPr/>
        </p:nvPicPr>
        <p:blipFill>
          <a:blip r:embed="rId2"/>
          <a:stretch/>
        </p:blipFill>
        <p:spPr>
          <a:xfrm>
            <a:off x="324000" y="333360"/>
            <a:ext cx="1100160" cy="189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 u="sng">
                <a:solidFill>
                  <a:srgbClr val="04617b"/>
                </a:solidFill>
                <a:uFillTx/>
                <a:latin typeface="Calibri"/>
              </a:rPr>
              <a:t>LIBERTAD DE ENSEÑANZA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67120" indent="-2671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000000"/>
                </a:solidFill>
                <a:uFillTx/>
                <a:latin typeface="Constantia"/>
              </a:rPr>
              <a:t>Antecedentes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- Constitución Política de 1925 (Art. 10 Nº 7)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- Pacto de Garantías Constitucionales 1971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- Declaración Universal de Derechos Humanos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- Pacto de Derechos Económicos, sociales y culturales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- Convención sobre los Derechos del Niño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000000"/>
                </a:solidFill>
                <a:uFillTx/>
                <a:latin typeface="Constantia"/>
              </a:rPr>
              <a:t>Naturaleza Jurídica del derecho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Es un derecho individual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4617b"/>
                </a:solidFill>
                <a:uFillTx/>
                <a:latin typeface="Calibri"/>
              </a:rPr>
              <a:t>LIBERTAD DE ENSEÑANZA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1700280"/>
            <a:ext cx="82296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 u="sng">
                <a:solidFill>
                  <a:srgbClr val="000000"/>
                </a:solidFill>
                <a:uFillTx/>
                <a:latin typeface="Constantia"/>
              </a:rPr>
              <a:t>Contenido del Derecho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1.- Libertad de enseñanza y derecho de los padres de escoger el establecimiento de enseñanza para sus hijo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2.- Límites de la libertad de enseñanza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3.- Una Ley Orgánica Constitucional debe regular la liberta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de enseñanza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4617b"/>
                </a:solidFill>
                <a:uFillTx/>
                <a:latin typeface="Calibri"/>
              </a:rPr>
              <a:t>LIBERTAD DE ENSEÑANZA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108000" y="1413000"/>
            <a:ext cx="892800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1.- 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Libertad de Enseñanza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i="1" lang="es-ES" sz="2400" spc="-1" strike="noStrike">
                <a:solidFill>
                  <a:srgbClr val="000000"/>
                </a:solidFill>
                <a:latin typeface="Constantia"/>
              </a:rPr>
              <a:t>“</a:t>
            </a:r>
            <a:r>
              <a:rPr b="0" i="1" lang="es-ES" sz="2600" spc="-1" strike="noStrike">
                <a:solidFill>
                  <a:srgbClr val="000000"/>
                </a:solidFill>
                <a:latin typeface="Constantia"/>
              </a:rPr>
              <a:t>Libertad de abrir, organizar y mantener establecimientos educacionales.”</a:t>
            </a:r>
            <a:r>
              <a:rPr b="0" i="1" lang="es-ES" sz="2400" spc="-1" strike="noStrike">
                <a:solidFill>
                  <a:srgbClr val="000000"/>
                </a:solidFill>
                <a:latin typeface="Constantia"/>
              </a:rPr>
              <a:t> (inciso 1º)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El TC definido lo que se debe entenderse por “abrir”, “organizar” y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    “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mantener”  (Rol Nº 410,4.06.2004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0" i="1" lang="es-ES" sz="2400" spc="-1" strike="noStrike">
                <a:solidFill>
                  <a:srgbClr val="000000"/>
                </a:solidFill>
                <a:latin typeface="Constantia"/>
              </a:rPr>
              <a:t>-  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Alcances de esta libertad: amplia, cabe dentro del principio de “autonomía”, sólo hay 4 restricciones específicas (TC roles 413 y 423)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- Derecho de los padres a elegir el establecimiento educacional de sus hijos </a:t>
            </a:r>
            <a:r>
              <a:rPr b="0" lang="es-E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      se reafirma el rol de la familia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 u="sng">
                <a:solidFill>
                  <a:srgbClr val="04617b"/>
                </a:solidFill>
                <a:uFillTx/>
                <a:latin typeface="Calibri"/>
              </a:rPr>
              <a:t>LIBERTAD DE ENSEÑANZA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179280" y="1267920"/>
            <a:ext cx="878544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2.- </a:t>
            </a:r>
            <a:r>
              <a:rPr b="1" lang="es-ES" sz="2800" spc="-1" strike="noStrike" u="sng">
                <a:solidFill>
                  <a:srgbClr val="000000"/>
                </a:solidFill>
                <a:uFillTx/>
                <a:latin typeface="Constantia"/>
              </a:rPr>
              <a:t>Límites del derecho</a:t>
            </a:r>
            <a:r>
              <a:rPr b="0" lang="es-ES" sz="2800" spc="-1" strike="noStrike" u="sng">
                <a:solidFill>
                  <a:srgbClr val="000000"/>
                </a:solidFill>
                <a:uFillTx/>
                <a:latin typeface="Constanti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000000"/>
                </a:solidFill>
                <a:uFillTx/>
                <a:latin typeface="Constantia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a) La moral;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b) Las buenas costumbres;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c) El orden público y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d) La seguridad nacional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Además, existe una limitación especial para la enseñanza oficialmente reconocida: </a:t>
            </a:r>
            <a:r>
              <a:rPr b="0" i="1" lang="es-ES" sz="2800" spc="-1" strike="noStrike">
                <a:solidFill>
                  <a:srgbClr val="000000"/>
                </a:solidFill>
                <a:latin typeface="Constantia"/>
              </a:rPr>
              <a:t>“no podrá orientarse a propagar tendencia político partidista alguna” (inciso 3)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4617b"/>
                </a:solidFill>
                <a:uFillTx/>
                <a:latin typeface="Calibri"/>
              </a:rPr>
              <a:t>LIBERTAD DE ENSEÑANZA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34920" y="1052640"/>
            <a:ext cx="9036000" cy="56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67120" indent="-2671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3.- 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Constantia"/>
              </a:rPr>
              <a:t>Ley Orgánica Constitucional de Enseñanza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Una Ley Orgánica Constitucional (LOC) deberá regular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- Requisitos mínimos de aprobación para cada nivel de la enseñanz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          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básica y media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- Normas objetivas (no discriminatorias) para velar por el 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cumplimiento de estos programas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- Requisitos de reconocimiento oficial de  establecimientos 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educacionales todo nivel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Constantia"/>
              </a:rPr>
              <a:t>La LOC Nº 18.962 de 1990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 cumplió este mandato constitucional (LOCE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Hoy está pendiente de aprobación (en control preventivo por el T.C.) un proyecto de nueva LOC de educación, bajo la denominación: </a:t>
            </a:r>
            <a:r>
              <a:rPr b="0" i="1" lang="es-ES" sz="2400" spc="-1" strike="noStrike">
                <a:solidFill>
                  <a:srgbClr val="000000"/>
                </a:solidFill>
                <a:latin typeface="Constantia"/>
              </a:rPr>
              <a:t>Ley General de Educación (LGE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4617b"/>
                </a:solidFill>
                <a:uFillTx/>
                <a:latin typeface="Calibri"/>
              </a:rPr>
              <a:t>LIBERTAD DE ENSEÑANZA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178920" y="1196640"/>
            <a:ext cx="87138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000000"/>
                </a:solidFill>
                <a:uFillTx/>
                <a:latin typeface="Constantia"/>
              </a:rPr>
              <a:t>Algunas discusiones  respecto de este derecho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Consagración constitucional de una educación pública de calidad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Término de la selección de alumnos en la enseñanza básica </a:t>
            </a:r>
            <a:r>
              <a:rPr b="0" i="1" lang="es-ES" sz="2800" spc="-1" strike="noStrike">
                <a:solidFill>
                  <a:srgbClr val="000000"/>
                </a:solidFill>
                <a:latin typeface="Constantia"/>
              </a:rPr>
              <a:t>(Artículo 11 LGE)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Los requisitos para el reconocimiento oficial de establecimientos educacionales de todos los niveles y en especial, el fin de lucro en las instituciones de educación, definido por el objeto social único que debe poseer la persona jurídica sostenedora de un establecimiento educacional. </a:t>
            </a:r>
            <a:r>
              <a:rPr b="0" i="1" lang="es-ES" sz="2800" spc="-1" strike="noStrike">
                <a:solidFill>
                  <a:srgbClr val="000000"/>
                </a:solidFill>
                <a:latin typeface="Constantia"/>
              </a:rPr>
              <a:t>(Artículo 44 a) LGE)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4617b"/>
                </a:solidFill>
                <a:uFillTx/>
                <a:latin typeface="Calibri"/>
              </a:rPr>
              <a:t>DERECHO A LA EDUCACIÓN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08000" y="1197000"/>
            <a:ext cx="89280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lvl="1" marL="606240" indent="-261720">
              <a:spcBef>
                <a:spcPts val="799"/>
              </a:spcBef>
              <a:tabLst>
                <a:tab algn="l" pos="0"/>
                <a:tab algn="l" pos="1038240"/>
                <a:tab algn="l" pos="1557360"/>
                <a:tab algn="l" pos="2076480"/>
                <a:tab algn="l" pos="2595600"/>
                <a:tab algn="l" pos="3114720"/>
                <a:tab algn="l" pos="3633840"/>
                <a:tab algn="l" pos="4152960"/>
                <a:tab algn="l" pos="4672080"/>
                <a:tab algn="l" pos="5191200"/>
                <a:tab algn="l" pos="5710320"/>
                <a:tab algn="l" pos="6229440"/>
                <a:tab algn="l" pos="6748560"/>
                <a:tab algn="l" pos="7267680"/>
                <a:tab algn="l" pos="7786800"/>
                <a:tab algn="l" pos="8305920"/>
                <a:tab algn="l" pos="8825040"/>
                <a:tab algn="l" pos="9344160"/>
                <a:tab algn="l" pos="9863280"/>
                <a:tab algn="l" pos="10382400"/>
                <a:tab algn="l" pos="10901520"/>
              </a:tabLst>
            </a:pPr>
            <a:r>
              <a:rPr b="0" lang="es-ES" sz="3200" spc="-1" strike="noStrike" u="sng">
                <a:solidFill>
                  <a:srgbClr val="000000"/>
                </a:solidFill>
                <a:uFillTx/>
                <a:latin typeface="Constantia"/>
              </a:rPr>
              <a:t>Antecedentes: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606240" indent="-261720">
              <a:spcBef>
                <a:spcPts val="499"/>
              </a:spcBef>
              <a:buClr>
                <a:srgbClr val="0f6fc6"/>
              </a:buClr>
              <a:buSzPct val="85000"/>
              <a:buFont typeface="Constantia"/>
              <a:buChar char="-"/>
              <a:tabLst>
                <a:tab algn="l" pos="1038240"/>
                <a:tab algn="l" pos="1557360"/>
                <a:tab algn="l" pos="2076480"/>
                <a:tab algn="l" pos="2595600"/>
                <a:tab algn="l" pos="3114720"/>
                <a:tab algn="l" pos="3633840"/>
                <a:tab algn="l" pos="4152960"/>
                <a:tab algn="l" pos="4672080"/>
                <a:tab algn="l" pos="5191200"/>
                <a:tab algn="l" pos="5710320"/>
                <a:tab algn="l" pos="6229440"/>
                <a:tab algn="l" pos="6748560"/>
                <a:tab algn="l" pos="7267680"/>
                <a:tab algn="l" pos="7786800"/>
                <a:tab algn="l" pos="8305920"/>
                <a:tab algn="l" pos="8825040"/>
                <a:tab algn="l" pos="9344160"/>
                <a:tab algn="l" pos="9863280"/>
                <a:tab algn="l" pos="10382400"/>
                <a:tab algn="l" pos="1090152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La Constitución de 1925 originalmente consagró este derecho: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06240" indent="-261720">
              <a:spcBef>
                <a:spcPts val="499"/>
              </a:spcBef>
              <a:tabLst>
                <a:tab algn="l" pos="0"/>
                <a:tab algn="l" pos="1038240"/>
                <a:tab algn="l" pos="1557360"/>
                <a:tab algn="l" pos="2076480"/>
                <a:tab algn="l" pos="2595600"/>
                <a:tab algn="l" pos="3114720"/>
                <a:tab algn="l" pos="3633840"/>
                <a:tab algn="l" pos="4152960"/>
                <a:tab algn="l" pos="4672080"/>
                <a:tab algn="l" pos="5191200"/>
                <a:tab algn="l" pos="5710320"/>
                <a:tab algn="l" pos="6229440"/>
                <a:tab algn="l" pos="6748560"/>
                <a:tab algn="l" pos="7267680"/>
                <a:tab algn="l" pos="7786800"/>
                <a:tab algn="l" pos="8305920"/>
                <a:tab algn="l" pos="8825040"/>
                <a:tab algn="l" pos="9344160"/>
                <a:tab algn="l" pos="9863280"/>
                <a:tab algn="l" pos="10382400"/>
                <a:tab algn="l" pos="1090152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i="1" lang="es-ES" sz="2000" spc="-1" strike="noStrike">
                <a:solidFill>
                  <a:srgbClr val="000000"/>
                </a:solidFill>
                <a:latin typeface="Constantia"/>
              </a:rPr>
              <a:t>(Artículo 10 Nº 7: “La educación pública es una atención preferente del Estado. La educación primaria es obligatoria. Habrá una superintendencia de educación pública, a cuyo cargo estará la inspección de la enseñanaza nacional y su dirección, bajo la autoridad del Gobierno.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06240" indent="-261720">
              <a:spcBef>
                <a:spcPts val="499"/>
              </a:spcBef>
              <a:buClr>
                <a:srgbClr val="0f6fc6"/>
              </a:buClr>
              <a:buSzPct val="85000"/>
              <a:buFont typeface="Constantia"/>
              <a:buChar char="-"/>
              <a:tabLst>
                <a:tab algn="l" pos="1038240"/>
                <a:tab algn="l" pos="1557360"/>
                <a:tab algn="l" pos="2076480"/>
                <a:tab algn="l" pos="2595600"/>
                <a:tab algn="l" pos="3114720"/>
                <a:tab algn="l" pos="3633840"/>
                <a:tab algn="l" pos="4152960"/>
                <a:tab algn="l" pos="4672080"/>
                <a:tab algn="l" pos="5191200"/>
                <a:tab algn="l" pos="5710320"/>
                <a:tab algn="l" pos="6229440"/>
                <a:tab algn="l" pos="6748560"/>
                <a:tab algn="l" pos="7267680"/>
                <a:tab algn="l" pos="7786800"/>
                <a:tab algn="l" pos="8305920"/>
                <a:tab algn="l" pos="8825040"/>
                <a:tab algn="l" pos="9344160"/>
                <a:tab algn="l" pos="9863280"/>
                <a:tab algn="l" pos="10382400"/>
                <a:tab algn="l" pos="1090152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Reforma Constitucional de 1971 amplió y extendió este derecho bajo la denominación “libertad de enseñanza” (influencia del derecho comparado, Italia, España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06240" indent="-261720">
              <a:spcBef>
                <a:spcPts val="499"/>
              </a:spcBef>
              <a:buClr>
                <a:srgbClr val="0f6fc6"/>
              </a:buClr>
              <a:buSzPct val="85000"/>
              <a:buFont typeface="Constantia"/>
              <a:buChar char="-"/>
              <a:tabLst>
                <a:tab algn="l" pos="1038240"/>
                <a:tab algn="l" pos="1557360"/>
                <a:tab algn="l" pos="2076480"/>
                <a:tab algn="l" pos="2595600"/>
                <a:tab algn="l" pos="3114720"/>
                <a:tab algn="l" pos="3633840"/>
                <a:tab algn="l" pos="4152960"/>
                <a:tab algn="l" pos="4672080"/>
                <a:tab algn="l" pos="5191200"/>
                <a:tab algn="l" pos="5710320"/>
                <a:tab algn="l" pos="6229440"/>
                <a:tab algn="l" pos="6748560"/>
                <a:tab algn="l" pos="7267680"/>
                <a:tab algn="l" pos="7786800"/>
                <a:tab algn="l" pos="8305920"/>
                <a:tab algn="l" pos="8825040"/>
                <a:tab algn="l" pos="9344160"/>
                <a:tab algn="l" pos="9863280"/>
                <a:tab algn="l" pos="10382400"/>
                <a:tab algn="l" pos="1090152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Pactos internacionales: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966240" indent="-187560">
              <a:spcBef>
                <a:spcPts val="499"/>
              </a:spcBef>
              <a:tabLst>
                <a:tab algn="l" pos="0"/>
                <a:tab algn="l" pos="1038240"/>
                <a:tab algn="l" pos="1557360"/>
                <a:tab algn="l" pos="2076480"/>
                <a:tab algn="l" pos="2595600"/>
                <a:tab algn="l" pos="3114720"/>
                <a:tab algn="l" pos="3633840"/>
                <a:tab algn="l" pos="4152960"/>
                <a:tab algn="l" pos="4672080"/>
                <a:tab algn="l" pos="5191200"/>
                <a:tab algn="l" pos="5710320"/>
                <a:tab algn="l" pos="6229440"/>
                <a:tab algn="l" pos="6748560"/>
                <a:tab algn="l" pos="7267680"/>
                <a:tab algn="l" pos="7786800"/>
                <a:tab algn="l" pos="8305920"/>
                <a:tab algn="l" pos="8825040"/>
                <a:tab algn="l" pos="9344160"/>
                <a:tab algn="l" pos="9863280"/>
                <a:tab algn="l" pos="10382400"/>
                <a:tab algn="l" pos="1090152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“</a:t>
            </a: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Declaración Universal de Derechos Humanos” 1948 (</a:t>
            </a:r>
            <a:r>
              <a:rPr b="0" i="1" lang="es-ES" sz="2000" spc="-1" strike="noStrike">
                <a:solidFill>
                  <a:srgbClr val="000000"/>
                </a:solidFill>
                <a:latin typeface="Constantia"/>
              </a:rPr>
              <a:t>Artículo 23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966240" indent="-187560">
              <a:spcBef>
                <a:spcPts val="499"/>
              </a:spcBef>
              <a:tabLst>
                <a:tab algn="l" pos="0"/>
                <a:tab algn="l" pos="1038240"/>
                <a:tab algn="l" pos="1557360"/>
                <a:tab algn="l" pos="2076480"/>
                <a:tab algn="l" pos="2595600"/>
                <a:tab algn="l" pos="3114720"/>
                <a:tab algn="l" pos="3633840"/>
                <a:tab algn="l" pos="4152960"/>
                <a:tab algn="l" pos="4672080"/>
                <a:tab algn="l" pos="5191200"/>
                <a:tab algn="l" pos="5710320"/>
                <a:tab algn="l" pos="6229440"/>
                <a:tab algn="l" pos="6748560"/>
                <a:tab algn="l" pos="7267680"/>
                <a:tab algn="l" pos="7786800"/>
                <a:tab algn="l" pos="8305920"/>
                <a:tab algn="l" pos="8825040"/>
                <a:tab algn="l" pos="9344160"/>
                <a:tab algn="l" pos="9863280"/>
                <a:tab algn="l" pos="10382400"/>
                <a:tab algn="l" pos="1090152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“</a:t>
            </a: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Declaración de la O.E.A. 1948. (</a:t>
            </a:r>
            <a:r>
              <a:rPr b="0" i="1" lang="es-ES" sz="2000" spc="-1" strike="noStrike">
                <a:solidFill>
                  <a:srgbClr val="000000"/>
                </a:solidFill>
                <a:latin typeface="Constantia"/>
              </a:rPr>
              <a:t>Art. XII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966240" indent="-187560">
              <a:spcBef>
                <a:spcPts val="499"/>
              </a:spcBef>
              <a:tabLst>
                <a:tab algn="l" pos="0"/>
                <a:tab algn="l" pos="1038240"/>
                <a:tab algn="l" pos="1557360"/>
                <a:tab algn="l" pos="2076480"/>
                <a:tab algn="l" pos="2595600"/>
                <a:tab algn="l" pos="3114720"/>
                <a:tab algn="l" pos="3633840"/>
                <a:tab algn="l" pos="4152960"/>
                <a:tab algn="l" pos="4672080"/>
                <a:tab algn="l" pos="5191200"/>
                <a:tab algn="l" pos="5710320"/>
                <a:tab algn="l" pos="6229440"/>
                <a:tab algn="l" pos="6748560"/>
                <a:tab algn="l" pos="7267680"/>
                <a:tab algn="l" pos="7786800"/>
                <a:tab algn="l" pos="8305920"/>
                <a:tab algn="l" pos="8825040"/>
                <a:tab algn="l" pos="9344160"/>
                <a:tab algn="l" pos="9863280"/>
                <a:tab algn="l" pos="10382400"/>
                <a:tab algn="l" pos="1090152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“</a:t>
            </a: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Declaración de los Derechos del Niño.1959</a:t>
            </a:r>
            <a:r>
              <a:rPr b="0" i="1" lang="es-ES" sz="2000" spc="-1" strike="noStrike">
                <a:solidFill>
                  <a:srgbClr val="000000"/>
                </a:solidFill>
                <a:latin typeface="Constantia"/>
              </a:rPr>
              <a:t> (Principio 7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966240" indent="-187560">
              <a:spcBef>
                <a:spcPts val="499"/>
              </a:spcBef>
              <a:tabLst>
                <a:tab algn="l" pos="0"/>
                <a:tab algn="l" pos="1038240"/>
                <a:tab algn="l" pos="1557360"/>
                <a:tab algn="l" pos="2076480"/>
                <a:tab algn="l" pos="2595600"/>
                <a:tab algn="l" pos="3114720"/>
                <a:tab algn="l" pos="3633840"/>
                <a:tab algn="l" pos="4152960"/>
                <a:tab algn="l" pos="4672080"/>
                <a:tab algn="l" pos="5191200"/>
                <a:tab algn="l" pos="5710320"/>
                <a:tab algn="l" pos="6229440"/>
                <a:tab algn="l" pos="6748560"/>
                <a:tab algn="l" pos="7267680"/>
                <a:tab algn="l" pos="7786800"/>
                <a:tab algn="l" pos="8305920"/>
                <a:tab algn="l" pos="8825040"/>
                <a:tab algn="l" pos="9344160"/>
                <a:tab algn="l" pos="9863280"/>
                <a:tab algn="l" pos="10382400"/>
                <a:tab algn="l" pos="1090152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“</a:t>
            </a: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Pacto internacional de derechos económicos, sociales y culturales “1966 (</a:t>
            </a:r>
            <a:r>
              <a:rPr b="0" i="1" lang="es-ES" sz="2000" spc="-1" strike="noStrike">
                <a:solidFill>
                  <a:srgbClr val="000000"/>
                </a:solidFill>
                <a:latin typeface="Constantia"/>
              </a:rPr>
              <a:t>Artículo 13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4617b"/>
                </a:solidFill>
                <a:uFillTx/>
                <a:latin typeface="Calibri"/>
              </a:rPr>
              <a:t>DERECHO A LA EDUCACIÓN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95280" y="1450800"/>
            <a:ext cx="842472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Contenido de este derech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1.- Derecho a la educación y su contenido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ducación y enseñanza son conceptos diferent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2.- Deberes del Estado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3.- Derechos y deberes de la persona y de la comunidad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4.- Recurso de protección y fallo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4617b"/>
                </a:solidFill>
                <a:uFillTx/>
                <a:latin typeface="Calibri"/>
              </a:rPr>
              <a:t>DERECHO A LA EDUCACIÓN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0" y="1341360"/>
            <a:ext cx="864072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1.-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Derecho a la Educació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- Concepto  de Educación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- Titulares del derecho: a) toda persona natural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                                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) la familia (padres “dº preferente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Constantia"/>
              </a:rPr>
              <a:t>                  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- Derecho de carácter social. Razones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- Su </a:t>
            </a: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objetivo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es el desarrollo de la persona en todas las etapas de su vida en pos de la convivencia en comunidad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4617b"/>
                </a:solidFill>
                <a:uFillTx/>
                <a:latin typeface="Calibri"/>
              </a:rPr>
              <a:t>DERECHO A LA EDUCACIÓN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179280" y="1125360"/>
            <a:ext cx="8785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2.- </a:t>
            </a:r>
            <a:r>
              <a:rPr b="1" lang="es-ES" sz="2800" spc="-1" strike="noStrike" u="sng">
                <a:solidFill>
                  <a:srgbClr val="000000"/>
                </a:solidFill>
                <a:uFillTx/>
                <a:latin typeface="Constantia"/>
              </a:rPr>
              <a:t>Deberes del Estado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a) Proteger el derecho preferente de los padre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b) Promover la educación parvularia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c) Financiar un sistema gratuito de educación básica y 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media de carácter  obligatorio: es una manifestación del principio de igualdad  y expresión del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principio de subsidiariedad. (</a:t>
            </a: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concordancia con el numeral 11 de este mismo artículo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d) Fomentar el desarrollo de la educación en todos sus niveles (Ejs. Creación de Fondecyt y Fondart)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4617b"/>
                </a:solidFill>
                <a:uFillTx/>
                <a:latin typeface="Calibri"/>
              </a:rPr>
              <a:t>DERECHO A LA EDUCACIÓN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179280" y="1267920"/>
            <a:ext cx="87854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248040" indent="-248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3.-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onstantia"/>
              </a:rPr>
              <a:t>Derechos y deberes de la persona y la comunidad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a) </a:t>
            </a:r>
            <a:r>
              <a:rPr b="0" i="1" lang="en-US" sz="2800" spc="-1" strike="noStrike">
                <a:solidFill>
                  <a:srgbClr val="000000"/>
                </a:solidFill>
                <a:latin typeface="Constantia"/>
              </a:rPr>
              <a:t>Derecho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preferente y </a:t>
            </a:r>
            <a:r>
              <a:rPr b="0" i="1" lang="en-US" sz="2800" spc="-1" strike="noStrike">
                <a:solidFill>
                  <a:srgbClr val="000000"/>
                </a:solidFill>
                <a:latin typeface="Constantia"/>
              </a:rPr>
              <a:t>deber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de los padres de educar a los hijos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Familia núcleo fundamental de la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sociedad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b) Derecho a la educación básica y media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gratuitas, proporcionadas por el Estado. (El Estado debe garantizar el acceso a ellas de toda la población)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c)  Deber de la comunidad: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Contribuir al desarrollo y perfeccionamiento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de la educación, sin perjuicio de los deberes del Estado. (Manifestación del principio de subsidiariedad)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Recurso de protección y fallo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179280" y="1267920"/>
            <a:ext cx="878544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No es procedente la acción de protección. Sin embargo, en virtud de la </a:t>
            </a:r>
            <a:r>
              <a:rPr b="0" i="1" lang="en-US" sz="2800" spc="-1" strike="noStrike">
                <a:solidFill>
                  <a:srgbClr val="000000"/>
                </a:solidFill>
                <a:latin typeface="Constantia"/>
              </a:rPr>
              <a:t>convertibilidad de los derechos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, se acostumbra a recurrir argumentando en base a la </a:t>
            </a:r>
            <a:r>
              <a:rPr b="0" i="1" lang="en-US" sz="2800" spc="-1" strike="noStrike">
                <a:solidFill>
                  <a:srgbClr val="000000"/>
                </a:solidFill>
                <a:latin typeface="Constantia"/>
              </a:rPr>
              <a:t>igualdad ante la ley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y el </a:t>
            </a:r>
            <a:r>
              <a:rPr b="0" i="1" lang="en-US" sz="2800" spc="-1" strike="noStrike">
                <a:solidFill>
                  <a:srgbClr val="000000"/>
                </a:solidFill>
                <a:latin typeface="Constantia"/>
              </a:rPr>
              <a:t>derecho de propiedad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sobre el derecho subjetivo que emana del contrato educacional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onstantia"/>
              </a:rPr>
              <a:t> 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nstantia"/>
              </a:rPr>
              <a:t>Sentencias relevantes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- Núñez y Molina contra Liceo A-1: Por la expulsión de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las alumnas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- Torres Méndez contra Universidad Regional El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Libertador: Por aplicación de medidas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disciplinarias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	</a:t>
            </a: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	</a:t>
            </a: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	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 u="sng">
                <a:solidFill>
                  <a:srgbClr val="000000"/>
                </a:solidFill>
                <a:uFillTx/>
                <a:latin typeface="Constantia"/>
              </a:rPr>
              <a:t>Sentencias de relevancia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(continuación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- Recurso de protección alumna universitaria por no habérsele asignado crédito universitario. (Corte de Apelaciones de Santiago, 2003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- Recurso de protección por cancelación de matrícula (Corte Suprema, 2004)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1628640"/>
            <a:ext cx="8229600" cy="4824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 u="sng">
                <a:solidFill>
                  <a:srgbClr val="04617b"/>
                </a:solidFill>
                <a:uFillTx/>
                <a:latin typeface="Calibri"/>
              </a:rPr>
              <a:t>19 Nº 11</a:t>
            </a:r>
            <a:br>
              <a:rPr sz="4000"/>
            </a:br>
            <a:br>
              <a:rPr sz="1800"/>
            </a:br>
            <a:r>
              <a:rPr b="0" lang="es-ES" sz="4000" spc="-1" strike="noStrike">
                <a:solidFill>
                  <a:srgbClr val="04617b"/>
                </a:solidFill>
                <a:latin typeface="Calibri"/>
              </a:rPr>
              <a:t>La libertad de enseñanza.</a:t>
            </a:r>
            <a:br>
              <a:rPr sz="4000"/>
            </a:br>
            <a:br>
              <a:rPr sz="32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0" lang="es-ES" sz="2000" spc="-1" strike="noStrike">
                <a:solidFill>
                  <a:srgbClr val="04617b"/>
                </a:solidFill>
                <a:latin typeface="Calibri"/>
              </a:rPr>
              <a:t>Profesora: Ana María García B.</a:t>
            </a:r>
            <a:br>
              <a:rPr sz="2000"/>
            </a:br>
            <a:r>
              <a:rPr b="0" lang="es-ES" sz="2000" spc="-1" strike="noStrike">
                <a:solidFill>
                  <a:srgbClr val="04617b"/>
                </a:solidFill>
                <a:latin typeface="Calibri"/>
              </a:rPr>
              <a:t>  Derecho Constitucional II</a:t>
            </a:r>
            <a:br>
              <a:rPr sz="2000"/>
            </a:br>
            <a:r>
              <a:rPr b="0" lang="es-ES" sz="2000" spc="-1" strike="noStrike">
                <a:solidFill>
                  <a:srgbClr val="04617b"/>
                </a:solidFill>
                <a:latin typeface="Calibri"/>
              </a:rPr>
              <a:t>  Primer semestre 2009.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grpSp>
        <p:nvGrpSpPr>
          <p:cNvPr id="212" name="Group 4"/>
          <p:cNvGrpSpPr/>
          <p:nvPr/>
        </p:nvGrpSpPr>
        <p:grpSpPr>
          <a:xfrm>
            <a:off x="324000" y="404640"/>
            <a:ext cx="2305080" cy="935280"/>
            <a:chOff x="324000" y="404640"/>
            <a:chExt cx="2305080" cy="935280"/>
          </a:xfrm>
        </p:grpSpPr>
        <p:pic>
          <p:nvPicPr>
            <p:cNvPr id="213" name="Picture 5" descr="Facultad"/>
            <p:cNvPicPr/>
            <p:nvPr/>
          </p:nvPicPr>
          <p:blipFill>
            <a:blip r:embed="rId2"/>
            <a:stretch/>
          </p:blipFill>
          <p:spPr>
            <a:xfrm>
              <a:off x="324000" y="404640"/>
              <a:ext cx="2305080" cy="62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Text Box 6"/>
            <p:cNvSpPr/>
            <p:nvPr/>
          </p:nvSpPr>
          <p:spPr>
            <a:xfrm>
              <a:off x="324000" y="1106280"/>
              <a:ext cx="2305080" cy="23364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Arial Narrow"/>
                </a:rPr>
                <a:t>DEPARTAMENTO DE DERECHO PÚBLIC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05T01:42:04Z</dcterms:created>
  <dc:creator>usuario</dc:creator>
  <dc:description/>
  <dc:language>en-US</dc:language>
  <cp:lastModifiedBy>Ana Maria</cp:lastModifiedBy>
  <dcterms:modified xsi:type="dcterms:W3CDTF">2009-06-30T23:07:29Z</dcterms:modified>
  <cp:revision>82</cp:revision>
  <dc:subject/>
  <dc:title>DERECHO A LA EDUCACION (Art. 19 No 10)</dc:title>
</cp:coreProperties>
</file>