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95D-A826-423B-9878-B7ACAE6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AF8-C3ED-4B39-A307-BD455D39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48E-3ED8-401D-9610-0F288860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A33-DCD7-4506-BFB1-18D6A820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0E5D-FB43-48A8-BEAD-531FB12C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D0EC-ED81-4D03-B853-18041AFF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4DB3-8E15-4FEF-B582-F9AE535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619-5717-46F9-9480-7148AAD9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2D2B-6D82-45C7-9348-824A5F65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0BD2-66D9-44FC-9C4C-BD811E41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9EDF-159A-473D-BF0A-632C852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F11-65FC-4A75-9E01-CCF4704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4D7E-75B8-4448-A419-0557FC3A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180-584D-401D-9E43-B595054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1E2-84BE-4DA9-B40E-22BB1B45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EB98-6622-446D-80F4-8063D2D8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708E-AE39-4EF4-8AD9-353837CC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A2D9-F59C-4EF9-B08C-3EA9AA7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BEBF-745F-44E9-8800-1998DFCD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81BA-3760-4D49-A08C-C05AF6A9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544A-6916-4ABD-AA13-F58AA947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3B43-D736-481F-BB6A-0E609A86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A03-5D3B-4FC1-8254-5634714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902C-CCEE-4D52-AA6B-A945995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41DD-DB0E-46A0-A242-B6846E2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B34A-B159-4E42-8C4B-2E60BED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B641-2469-49F3-9473-D980CFDA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9013-19DF-4DAA-B60A-05502444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F6FC-50C0-41FE-9319-D048B7A9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536F-16C7-498C-812E-7585726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1193-6AEA-4F9E-821F-4F14B672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76C8-0F13-46ED-9382-53C3618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4CFD-3A27-447D-80D2-621E3770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132-77A1-4953-8981-9FC74EE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E146F-DDC8-4976-A740-A8553A1C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75D62-961C-4B9F-A2E4-417E9F2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90862-34E2-48B0-91D6-5BBBF98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F037-7130-470E-A481-F6B1606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322B-7EB9-4CF0-B6B5-36E40D97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4550F-5C1E-482F-ABA6-D5B9C19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FA9C-3DED-49EA-BC61-6BBED978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AB90-DFC2-4248-A7E9-6F1167DD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63E3-FA12-4A52-9200-228F67DC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FE8-F74E-4BA2-A2D5-B8A3F57F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F5F-DC1E-4132-AB8B-8C22551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DC3-2477-473E-BE21-1B15C4AB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D0A-016E-4D9C-B1FC-46102B6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01F-0BF2-42B4-AC8C-7BC18E0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13F5-263A-483F-AF5A-9E2995E58F7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E92-7550-493F-AC39-133A7B87EFBD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7AFF-FF64-40DC-B6F8-4A4CA0F1255F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31E-CE93-4057-AF9C-894ADE06E3C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0</a:t>
            </a:r>
            <a:br>
              <a:rPr sz="4000"/>
            </a:br>
            <a:br>
              <a:rPr sz="1800"/>
            </a:br>
            <a:r>
              <a:rPr b="0" lang="es-ES" sz="1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educación.</a:t>
            </a: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2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stitución Política de 1925 (Art. 10 Nº 7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Garantías Constitucionales 197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Declaración Universal de Derechos Human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acto de Derechos Económicos, sociales y cultura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Convención sobre los Derechos del Niñ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Naturaleza Jurídica del derech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 derecho individu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Libertad de enseñanza y derecho de los padres de escoger el establecimiento de enseñanza para sus h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Límites de la libertad 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Una Ley Orgánica Constitucional debe regular la libert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enseñan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41300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Libertad de Enseñanz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600" spc="-1" strike="noStrike">
                <a:solidFill>
                  <a:srgbClr val="000000"/>
                </a:solidFill>
                <a:latin typeface="Constantia"/>
              </a:rPr>
              <a:t>Libertad de abrir, organizar y mantener establecimientos educacionales.”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(inciso 1º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TC definido lo que se debe entenderse por “abrir”, “organizar” 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antener”  (Rol Nº 410,4.06.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cances de esta libertad: amplia, cabe dentro del principio de “autonomía”, sólo hay 4 restricciones específicas (TC roles 413 y 42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Derecho de los padres a elegir el establecimiento educacional de sus hijos 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  se reafirma el rol de la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Límites del derech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La moral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Las buenas costumbres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El orden público y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La seguridad nacional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demás, existe una limitación especial para la enseñanza oficialmente reconocida: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“no podrá orientarse a propagar tendencia político partidista alguna” (inciso 3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ey Orgánica Constitucional de Enseñanz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na Ley Orgánica Constitucional (LOC) deberá regula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mínimos de aprobación para cada nivel de la enseñanz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básica y med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Normas objetivas (no discriminatorias) para velar por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umplimiento de estos program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quisitos de reconocimiento oficial de  establecimiento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ducacionales todo ni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a LOC Nº 18.962 de 199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cumplió este mandato constitucional (LOC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oy está pendiente de aprobación (en control preventivo por el T.C.) un proyecto de nueva LOC de educación, bajo la denominación: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ey General de Educación (LG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4617b"/>
                </a:solidFill>
                <a:uFillTx/>
                <a:latin typeface="Calibri"/>
              </a:rPr>
              <a:t>LIBERTAD DE ENSEÑANZ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lgunas discusiones  respecto de este derech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agración constitucional de una educación pública de calid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érmino de la selección de alumnos en la enseñanza básica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11 LG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requisitos para el reconocimiento oficial de establecimientos educacionales de todos los niveles y en especial, el fin de lucro en las instituciones de educación, definido por el objeto social único que debe poseer la persona jurídica sostenedora de un establecimiento educacional.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(Artículo 44 a) LG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6240" indent="-261720">
              <a:spcBef>
                <a:spcPts val="7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La Constitución de 1925 originalmente consagró este derecho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(Artículo 10 Nº 7: “La educación pública es una atención preferente del Estado. La educación primaria es obligatoria. Habrá una superintendencia de educación pública, a cuyo cargo estará la inspección de la enseñanaza nacional y su dirección, bajo la autoridad del Gobierno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Reforma Constitucional de 1971 amplió y extendió este derecho bajo la denominación “libertad de enseñanza” (influencia del derecho comparado, Italia, Españ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6240" indent="-261720">
              <a:spcBef>
                <a:spcPts val="499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s internaciona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Universal de Derechos Humanos” 1948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2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a O.E.A. 1948.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. XI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Declaración de los Derechos del Niño.1959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 (Principio 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66240" indent="-187560">
              <a:spcBef>
                <a:spcPts val="499"/>
              </a:spcBef>
              <a:tabLst>
                <a:tab algn="l" pos="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Pacto internacional de derechos económicos, sociales y culturales “1966 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3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45080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este derec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Derecho a la educación y su con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ducación y enseñanza son conceptos difere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- Deberes del Es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- Derechos y deberes de la persona y de la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- Recurso de protección y fal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34136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recho a la Edu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ncepto  de Educ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itulares del derecho: a) toda persona natur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la familia (padres “dº preferen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Derecho de carácter social. Razon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u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objetiv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s el desarrollo de la persona en todas las etapas de su vida en pos de la convivencia en com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Deberes d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) Proteger el derecho preferente de los pad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) Promover la educación parvular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) Financiar un sistema gratuito de educación básica y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edia de carácter  obligatorio: es una manifestación del principio de igualdad  y expresión de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ncipio de subsidiariedad. (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concordancia con el numeral 11 de este mismo artícul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) Fomentar el desarrollo de la educación en todos sus niveles (Ejs. Creación de Fondecyt y Fondar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DERECHO A LA EDUCA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9280" y="1267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rechos y deberes de la persona y la comunidad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preferente y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de los padres de educar a los hij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amilia núcleo fundamental de l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e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) Derecho a la educación básica y media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tuitas, proporcionadas por el Estado. (El Estado debe garantizar el acceso a ellas de toda la població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)  Deber de la comunidad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ibuir al desarrollo y perfeccionamiento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 la educación, sin perjuicio de los deberes del Estado. (Manifestación del principio de subsidiariedad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s procedente la acción de protección. Sin embargo, en virtud de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convertibilidad de los derech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se acostumbra a recurrir argumentando en base a la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igualdad ante la le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y el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erecho de propieda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sobre el derecho subjetivo que emana del contrato educaciona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Núñez y Molina contra Liceo A-1: Por la expulsión 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s alumn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 Torres Méndez contra Universidad Regional El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bertador: Por aplicación de medida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ciplinari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Sentencias de relevanci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alumna universitaria por no habérsele asignado crédito universitario. (Corte de Apelaciones de Santiago, 2003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- Recurso de protección por cancelación de matrícula (Corte Suprema, 2004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1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enseñanza.</a:t>
            </a:r>
            <a:br>
              <a:rPr sz="4000"/>
            </a:br>
            <a:br>
              <a:rPr sz="32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  Primer semestre 2009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24000" y="404640"/>
            <a:ext cx="2305080" cy="935280"/>
            <a:chOff x="324000" y="404640"/>
            <a:chExt cx="2305080" cy="935280"/>
          </a:xfrm>
        </p:grpSpPr>
        <p:pic>
          <p:nvPicPr>
            <p:cNvPr id="213" name="Picture 5" descr="Facultad"/>
            <p:cNvPicPr/>
            <p:nvPr/>
          </p:nvPicPr>
          <p:blipFill>
            <a:blip r:embed="rId2"/>
            <a:stretch/>
          </p:blipFill>
          <p:spPr>
            <a:xfrm>
              <a:off x="324000" y="404640"/>
              <a:ext cx="23050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324000" y="1106280"/>
              <a:ext cx="2305080" cy="233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Arial Narrow"/>
                </a:rPr>
                <a:t>DEPARTAMENTO DE DERECHO PÚBL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1:42:04Z</dcterms:created>
  <dc:creator>usuario</dc:creator>
  <dc:description/>
  <dc:language>en-US</dc:language>
  <cp:lastModifiedBy>Ana Maria</cp:lastModifiedBy>
  <dcterms:modified xsi:type="dcterms:W3CDTF">2009-06-30T23:07:29Z</dcterms:modified>
  <cp:revision>82</cp:revision>
  <dc:subject/>
  <dc:title>DERECHO A LA EDUCACION (Art. 19 No 10)</dc:title>
</cp:coreProperties>
</file>