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890-A700-4BC0-B2E3-7B9BA11E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261-EC0C-46A4-87A5-EDC403E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EF0-0809-453A-9A9F-31E8435C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963-FCC1-4B7F-99F4-2D2FDA4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2919-B236-4000-9DBF-4AD3462A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0A4-CA76-4A03-BF9C-F82F088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CCF-7CC8-482D-9817-7757210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552-C8BA-401B-A092-7BAF3A6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EC05-0B99-47CE-865F-842DD1BD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53E2-C55F-440E-B3F3-4017ED7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CB5-8894-49B9-B4F3-1B8CF2B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D5B-2023-4E42-B08D-0B874122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4FED-C299-4B6A-BB8E-28647FA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B03F-9CC7-426D-967D-FDD2FB28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E5F-10FA-4890-9876-19E2F6BB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243-25EF-420B-B470-B3924612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C31B-747E-4F55-8327-61324A08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4DBD-09F2-4971-99FB-0F46F798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2BA5-24EB-4FCD-AE22-F22A963C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D7D7-033B-4FC2-B186-1BA7E08A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D524-9C9C-4141-9478-151B3DC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B02D-1A17-452F-B004-F8A9E0EB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934-E004-47EB-BD90-539CE37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2147-A05C-4D61-B130-40869AD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67DA-AB6A-496F-BB64-53D6C37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DD8A-D1EE-4D27-8283-87BBC13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9E5B-8835-4C98-B9E9-0B73D01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5CCA-0084-4F9C-A2E6-83C1F33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51C7-B74B-4EB1-A27F-30BF662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1415-B673-402B-94BE-347F9B9C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5E5F-4714-4973-951A-92CC1521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53B7-1CDD-47A6-8A30-4711615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E619-3AD1-4E5A-86C2-C3836C6F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5CD-6672-4804-9DC8-F2A787C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C88C-F45A-4F85-97BB-AC5B586C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3535-2B9E-4946-A55E-C0FD494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B51E-6EDD-431E-8B1C-1B6BBD7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102B-1F02-472D-8AC1-868BA85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F7EF-448E-469F-B452-4708116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A38C-7CC7-4855-9BDB-777DAC45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90EF-FB56-4D17-9DDF-38D5774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3953-30CF-4EDE-88F2-16AD1DF1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F523-1671-4990-9666-0F738178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C4F-8747-428A-BD27-FC62AA47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AFA-CEC3-42FF-A865-4DAAA44F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325-8477-471A-B80E-911F43E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757-4158-4D3B-87C6-D721D3D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A00-2192-45B7-9F55-C338250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63D-CAF4-49D5-BEEF-1976243C7EC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E21-27F2-4406-B235-9D8FF2BE0FE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27E-4A1A-4150-BE66-E087C110DD06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946-C397-4CAF-9C83-8D41BA8DC6C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0</a:t>
            </a:r>
            <a:br>
              <a:rPr sz="4000"/>
            </a:br>
            <a:br>
              <a:rPr sz="1800"/>
            </a:br>
            <a:r>
              <a:rPr b="0" lang="es-ES" sz="1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educación.</a:t>
            </a: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2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stitución Política de 1925 (Art. 10 Nº 7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Garantías Constitucionales 197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claración Universal de Derechos Human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Derechos Económicos, sociales y cultur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sobre los Derechos del Ni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eza Jurídica del derech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 derecho individ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Libertad de enseñanza y derecho de los padres de escoger el establecimiento de enseñanza para sus h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ímites de la libertad 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Una Ley Orgánica Constitucional debe regular la libert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41300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ibertad de Enseñanz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Libertad de abrir, organizar y mantener establecimientos educacionales.”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(inciso 1º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TC definido lo que se debe entenderse por “abrir”, “organizar”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tener”  (Rol Nº 410,4.06.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cances de esta libertad: amplia, cabe dentro del principio de “autonomía”, sólo hay 4 restricciones específicas (TC roles 413 y 42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erecho de los padres a elegir el establecimiento educacional de sus hijos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se reafirma el rol de la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Límites del derech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La moral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Las buenas costumbr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El orden público 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La seguridad naciona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, existe una limitación especial para la enseñanza oficialmente reconocida: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“no podrá orientarse a propagar tendencia político partidista alguna” (inciso 3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ey Orgánica Constitucional de Enseñanz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Ley Orgánica Constitucional (LOC) deberá re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mínimos de aprobación para cada nivel de la enseña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ásica y med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rmas objetivas (no discriminatorias) para velar por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umplimiento de estos program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de reconocimiento oficial de  establecimiento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ducacionales todo ni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LOC Nº 18.962 de 199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umplió este mandato constitucional (LO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oy está pendiente de aprobación (en control preventivo por el T.C.) un proyecto de nueva LOC de educación, bajo la denominación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ey General de Educación (LG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lgunas discusiones  respecto de este derech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agración constitucional de una educación pública de cal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érmino de la selección de alumnos en la enseñanza básica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11 LG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requisitos para el reconocimiento oficial de establecimientos educacionales de todos los niveles y en especial, el fin de lucro en las instituciones de educación, definido por el objeto social único que debe poseer la persona jurídica sostenedora de un establecimiento educacional.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44 a) LG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6240" indent="-261720">
              <a:spcBef>
                <a:spcPts val="7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itución de 1925 originalmente consagró este derech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(Artículo 10 Nº 7: “La educación pública es una atención preferente del Estado. La educación primaria es obligatoria. Habrá una superintendencia de educación pública, a cuyo cargo estará la inspección de la enseñanaza nacional y su dirección, bajo la autoridad del Gobierno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forma Constitucional de 1971 amplió y extendió este derecho bajo la denominación “libertad de enseñanza” (influencia del derecho comparado, Italia, Españ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s internaciona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Universal de Derechos Humanos” 1948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2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a O.E.A. 1948.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. XI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os Derechos del Niño.1959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(Principio 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 internacional de derechos económicos, sociales y culturales “1966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45080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este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Derecho a la educación y su con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ucación y enseñanza son conceptos difer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- Deberes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- Derechos y deberes de la persona y de la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- Recurso de protección y fal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341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recho a la Edu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ncepto  de Edu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tulares del derecho: a) toda persona natur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la familia (padres “dº preferen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recho de carácter social. Razon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u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bjetiv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 el desarrollo de la persona en todas las etapas de su vida en pos de la convivencia en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Deberes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Proteger el derecho preferente de los pad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Promover la educación parvular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Financiar un sistema gratuito de educación básica y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edia de carácter  obligatorio: es una manifestación del principio de igualdad  y expresión de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ncipio de subsidiariedad. (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cordancia con el numeral 11 de este mismo artícul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Fomentar el desarrollo de la educación en todos sus niveles (Ejs. Creación de Fondecyt y Fondar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rechos y deberes de la persona y la comunida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preferente y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 los padres de educar a los hij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amilia núcleo fundamental de l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) Derecho a la educación básica y medi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tuitas, proporcionadas por el Estado. (El Estado debe garantizar el acceso a ellas de toda la població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)  Deber de la comunidad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ibuir al desarrollo y perfeccionamiento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 la educación, sin perjuicio de los deberes del Estado. (Manifestación del principio de subsidiariedad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s procedente la acción de protección. Sin embargo, en virtud de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convertibilidad de los derech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se acostumbra a recurrir argumentando en base a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gualdad ante la le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y el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 de propieda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obre el derecho subjetivo que emana del contrato educacion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Núñez y Molina contra Liceo A-1: Por la expulsión 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s alum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Torres Méndez contra Universidad Regional El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bertador: Por aplicación de medida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ciplinar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de relevanci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alumna universitaria por no habérsele asignado crédito universitario. (Corte de Apelaciones de Santiago, 200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por cancelación de matrícula (Corte Suprema, 200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enseñanza.</a:t>
            </a:r>
            <a:br>
              <a:rPr sz="4000"/>
            </a:br>
            <a:br>
              <a:rPr sz="3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24000" y="404640"/>
            <a:ext cx="2305080" cy="935280"/>
            <a:chOff x="324000" y="404640"/>
            <a:chExt cx="2305080" cy="935280"/>
          </a:xfrm>
        </p:grpSpPr>
        <p:pic>
          <p:nvPicPr>
            <p:cNvPr id="213" name="Picture 5" descr="Facultad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23050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324000" y="1106280"/>
              <a:ext cx="2305080" cy="23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 Narrow"/>
                </a:rPr>
                <a:t>DEPARTAMENTO DE DERECHO PÚBL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1:42:04Z</dcterms:created>
  <dc:creator>usuario</dc:creator>
  <dc:description/>
  <dc:language>en-US</dc:language>
  <cp:lastModifiedBy>Ana Maria</cp:lastModifiedBy>
  <dcterms:modified xsi:type="dcterms:W3CDTF">2009-06-30T23:07:29Z</dcterms:modified>
  <cp:revision>82</cp:revision>
  <dc:subject/>
  <dc:title>DERECHO A LA EDUCACION (Art. 19 No 10)</dc:title>
</cp:coreProperties>
</file>