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55240" y="680760"/>
            <a:ext cx="4543560" cy="3406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27760"/>
            <a:ext cx="297036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3C1D-1644-44BC-85C0-6DAA61B9B2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5600" y="681120"/>
            <a:ext cx="4543560" cy="3406680"/>
          </a:xfrm>
          <a:prstGeom prst="rect">
            <a:avLst/>
          </a:prstGeom>
          <a:ln w="0">
            <a:noFill/>
          </a:ln>
        </p:spPr>
      </p:sp>
      <p:sp>
        <p:nvSpPr>
          <p:cNvPr id="253"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4"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3281-17B0-4E76-A072-F2A37CAE86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6C2BA-4FBF-4FB8-B93D-7FD42CA2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2C65-8377-4ECB-AD09-46D4F892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8207-ADCC-49A7-BB3A-B9090CAAC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52708-31D4-4F2E-AA04-9BE90DB23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5D8EE-EEB4-49B3-89AE-F60026CE1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470D6-3BE3-42EC-A002-528E636C3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B4D79-93B6-4584-A29C-A9D8323E3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7D504-5AAE-45B2-B1BB-FA6D23707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93C83-F4DE-4224-B967-B4478A5D9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258DE-D654-4434-AFD5-3629B95D9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1CC41-A5D3-46DC-98C9-76EA9478E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8A7C-E09E-4AB5-90B7-605FC49B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B2F6-06F6-4190-BB89-3CA5C6FFE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B88E-77B1-4FEB-A997-78217FF9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28C08-EB1F-481A-B8D7-99BAA0C22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A71E9-A8FB-4DA7-B82B-D6BFB2252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A1532-D8CB-4C87-9740-4B4E2F8E7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3854B-1A35-479C-90F4-4F665006FD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C258B-5D1F-476C-81BC-8A8AFA989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9096E-3DE2-47D4-9395-5B99E0C93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FCA52-2AD3-4468-8424-2B680158D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5293B-7778-4DDF-BBF7-F4A6FE4D6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D78D-D46C-4FB0-A50A-8163ACC0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CADBD-BDBC-48C7-ABEC-0C36B9C87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A9CEF-F888-4662-ABA3-EF6036BC7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98972-404B-4AE3-BF1E-7AE794AF0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846FC-CF3E-4AFC-A401-E519B4F14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19910-E61A-420B-B885-621B15A4D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569F4-4606-4490-A080-26982F172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761DF-E84E-4373-BC46-DA6D03249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49EAE-2834-408B-B892-FFC4895A3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B4CE6-3A5C-4A38-9259-A6FAE741A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5CB95-B64F-44DA-A140-11C6F6006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2532-4150-436D-9C0D-79B9160D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B6808-93F5-4735-9784-9B2C7073C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154DA-89FB-4C40-9EF1-A5737EE65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60CC4-09E5-41CB-B2CA-0A3278524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3DA93-44C7-45E5-AE49-9F5229620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55806-60DF-4946-B1E0-7013E0F3F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53E9C-2C34-407E-AD84-FA3FC311C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E2DB24-5881-489F-9939-F8C40258D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76300F-BF59-4730-B515-5243A0015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1BCF57-0FA4-4A1E-89F4-280B24C3B0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6A899-E811-43AA-8D33-63D097EC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4C1E-1AE3-48BD-AAAF-2DA5F8305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F85E-9B12-4051-B90B-151CB14A8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63A3-75BE-45B5-9303-A69898D1F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0BF6-3A0F-454A-904E-3237D972F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D2B5-2675-4AB4-ACDF-D7F74492B06A}"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1838-FE8B-4104-BA24-8F7852B898DD}"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48E9-72C6-4947-B778-C2C8B7BE626B}"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51B1-260B-4213-91FE-CBF727C2E92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sp>
        <p:nvSpPr>
          <p:cNvPr id="203"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2"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24"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26"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pic>
        <p:nvPicPr>
          <p:cNvPr id="228"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0"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2"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7"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9"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1"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3"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6"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5"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7"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9"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51"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8"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Continuación)</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0"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2"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4"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6"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8"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d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0"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usuiario</cp:lastModifiedBy>
  <dcterms:modified xsi:type="dcterms:W3CDTF">2009-06-21T19:16:59Z</dcterms:modified>
  <cp:revision>106</cp:revision>
  <dc:subject/>
  <dc:title>DERECHO A VIVIR EN  UN MEDIO AMBIENTE LIBRE DE CONTAMINACION</dc:title>
</cp:coreProperties>
</file>