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781-1875-471B-BFDF-6CB23B6E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A0E-78F9-451B-90C4-55335BF4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8A2-D585-470E-B964-CF7FEC4F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7F5-5977-408F-9D73-45138A18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50E8-EDA1-4DBE-8645-5B87896D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7FF1-575B-4472-A758-62CF2195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62DD-6FBA-45D8-B6A1-4433C898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7766-4929-48F5-85F5-3E364F52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310E-3543-4580-9BCF-73649586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F85C-FBAF-4673-B06B-851E9CA5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7881-447D-4881-BDB4-82FDB8A6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4FE-A1D1-4524-9347-29086EF1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C8E1-C570-45F7-8DF2-82853673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7653-8DC1-41A6-978E-E63331A5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A93A-F0A7-442E-8EB2-581462DC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9EC7-1381-4647-899E-ABA0F0FC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F154-B8ED-47D8-8E5E-CEF623F7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4E5B7-848C-469F-BBCB-CE97F18D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7A3A6-C3A2-4EEC-ACA1-65D7DB7A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7CB4C-D57F-4783-B7A5-7CE2586B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8DF0-CCC7-46F9-94D9-38FBF959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EEE00-DFD9-4200-A157-CFFFBD33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78B-73BD-4DCB-950E-E0B86968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2F021-A0D9-4E6A-8506-6B8C7A74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7208B-0CC5-4C88-9944-A6263E89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41127-B60B-4B59-9B55-AE85D09C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177F1-D80B-41AD-81D6-DCD15E46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B507-7C9C-4229-A3C2-561497BC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94E30-83CF-453E-ACCF-B2A011E6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BE0A-FD24-4733-BC15-296C3D3E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5F427-C732-4284-9592-69DD2909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EDA21-57B1-4BC6-BB16-F22C1E2F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EB5AD-A52D-4973-9A77-C158367D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1A5-9396-49C8-B96C-B0B0B2B8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948F1-DF68-4A79-8734-F1BCC5C5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765E3-E453-411A-B5AF-559D6CB3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AD5F9-4D1A-4DDB-8987-A79B060A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D7514-216F-408B-BD3D-B72AF1E3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E8463-1185-4605-8C47-2552E8D6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D5DEC-B199-4A78-8F2E-094AF5E5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3E453-1A14-41B6-9FD3-E8905EB4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8EC44-65DE-4357-805C-0E90A275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C7BC8-35F5-4AE9-87F7-0F52A667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551-E6D2-4EFB-A2C7-AC8D20E8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766-00A7-4E0A-ABAF-5065D055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510-5B6E-4BB1-901F-209744AC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752-D474-4F17-B4BA-4C7BB743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4D9-058F-4DD9-8373-21400AB4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24E9-C24B-49EF-AE40-98B07092062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2464-DA25-4D0C-865E-CD3147DDBD25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0F26-264C-4337-B395-EDA786B50F2B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2967-11A3-4632-AE3E-D2932819DD2E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86684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4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El respeto y protección a la vida privada y a la honra de la persona y su familia.</a:t>
            </a: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6" descr="logo_uchile"/>
          <p:cNvPicPr/>
          <p:nvPr/>
        </p:nvPicPr>
        <p:blipFill>
          <a:blip r:embed="rId1"/>
          <a:stretch/>
        </p:blipFill>
        <p:spPr>
          <a:xfrm>
            <a:off x="179280" y="260280"/>
            <a:ext cx="1044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5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La inviolabilidad del hogar y de toda forma de comunicación privada.</a:t>
            </a: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4" descr="logo_uchile"/>
          <p:cNvPicPr/>
          <p:nvPr/>
        </p:nvPicPr>
        <p:blipFill>
          <a:blip r:embed="rId1"/>
          <a:stretch/>
        </p:blipFill>
        <p:spPr>
          <a:xfrm>
            <a:off x="250920" y="333360"/>
            <a:ext cx="112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67292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titución francesa de 1791: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“La protección de la casa familiar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PR 1833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“La correspondencia epistolar es inviolable. No podrá abrirse ni interceptarse, ni rejistrarse los papeles o efectos, sino en los casos espresamente señalados por la lei.” (Artículo 147. No era derecho fundamenta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PR 1925: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Nº 12 La inviolabilidad del hog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La casa de toda persona que habite el territorio chileno solo puede ser allanada por un motivo especial determinado por la ley, y en virtud de orden de autoridad competente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Nº 13 La inviolabilidad de la correspondencia  epistolar y telegráfica. No podrán abrirse, ni interceptarse, ni registrarse los papeles o efectos públicos, sino en los casos expresamente señalados por la ley;”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 Inviolabilidad del Ho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 Inviolabilidad de las comunicacion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 Allanamiento e intercept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Inviolabilidad del ho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) Concepto de “hogar”.  Ampl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iferencias con “domicilio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* El domicilio en el Código Civ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) Fundamento: Protección de la “intimidad”.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lación con 19 nº 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Inviolabilidad de comunicaciones priv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odo tipo de medio de comunicación privada.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mplo, conversación telefónica. No limitad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1833 y 1925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Amplitud de la expresión “documento”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Este derecho frente a la tecnología ho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Ley  No 19.423  de 1995, Inviolabilidad de las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unicaciones (modificó  Código Penal)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3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Allanamiento e interceptación de comunic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asos y formas determinadas por la ley”. Legalidad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 la persona que da la orden, quien la cumple y su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oportun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ódigo Procesal Penal: Artículos 205 a 209; y 222 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24: Diligencias de investigación; Autorización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evia del Juez de Garantí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94920" y="16002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virtud del artículo 20 de la Carta Fundamental, procede el recurso de protección para garantizar el derecho a la inviolabilidad del hogar y toda forma de comunicación privad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Sentencias relevant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Funcionarios del Ministerio de Obras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úblicas con Chevesic. Sobre la revisión de correos electrónicos como medida de investigación en el proceso MOP – GA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19 Nº 6</a:t>
            </a:r>
            <a:br>
              <a:rPr sz="4400"/>
            </a:br>
            <a:br>
              <a:rPr sz="2000"/>
            </a:br>
            <a:r>
              <a:rPr b="0" lang="es-ES" sz="4400" spc="-1" strike="noStrike">
                <a:solidFill>
                  <a:srgbClr val="04617b"/>
                </a:solidFill>
                <a:latin typeface="Calibri"/>
              </a:rPr>
              <a:t>La libertad de conciencia, la manifestación de todas las creencias y el ejercicio libre de todos los cultos</a:t>
            </a:r>
            <a:br>
              <a:rPr sz="4400"/>
            </a:br>
            <a:br>
              <a:rPr sz="4400"/>
            </a:b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400"/>
            </a:b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400"/>
            </a:b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4" descr="logo_uchile"/>
          <p:cNvPicPr/>
          <p:nvPr/>
        </p:nvPicPr>
        <p:blipFill>
          <a:blip r:embed="rId1"/>
          <a:stretch/>
        </p:blipFill>
        <p:spPr>
          <a:xfrm>
            <a:off x="179280" y="189000"/>
            <a:ext cx="960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 algn="just"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833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“La relijión de la República de Chile es la Católica, Apostólica, Romana; con exclusión del ejercicio público de cualquier otra.”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(Artículo 5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* (Institución del “patronato”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 algn="just"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y interpretativa de 1865: Permitió el ejercicio privado de otros cultos, que no fueran el católico, apostólico y roman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Antecedentes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925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. consagra el derecho en términos muy similares a los actu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98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solo modificaciones formales respecto a la redacción del año 192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Fundament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n Estados Unido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Warren y Brandeis: “El derecho a la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ivacidad” (189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Juez Cooley: “The right to be let alon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n Chil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ilva Bascuñan: </a:t>
            </a: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“…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Si no se le deja al individuo ninguna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intimidad,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entonces la sociedad se va a masificar en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una serie de individuos sin ninguna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posibilidad de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aportar algo de progreso, algo de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perfeccionamiento a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la sociedad entera …”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(Sesión 129 de la Comisión d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studios para la nueva Constitución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 Libertad de conciencia y cul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  Estatuto constitucional de las instituciones dedicadas al cul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Libertad de conciencia y cul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cepto: amplio y restringido. (toda creencia – religios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anifestación de todas las creencias: consagra el pluralismo propio de la separación entre la iglesia y 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xpresión de la libertad de opin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ibre ejercicio de todos los cultos: derecho desarrollado y protegido por la Ley No 19.638 de 1999, sobre Constitución Jurídica de las Iglesias y Organizaciones Religios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imitaciones a la libertad anterior: la moral,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uenas costumbres, orden público. Ejemplo: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ctas que atentan contra la vida o la integridad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ís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statuto constitucional de las instituciones dedicadas al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ulto religios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Derecho a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Edificar templos, conservarlos  bajo las norm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gales de seguridad e higi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Exención de contribuciones a dependenci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xclusivamente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” destinadas al cul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Personalidad Jurídica de las iglesias en general: D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recho públi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te acciones u omisiones arbitrarias o ilegales que atenten contra el derecho a la libertad de conciencia, rige el recurso de protección en virtud del artículo 20 de la Constitu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encias releva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Transfusiones de sangre: En conflicto con el derecho a la vid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Exhibición película “La ultima tentación de Cristo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09844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Antecede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No estaba en la Constitución de 19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venciones Internacion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misión Estudio Nueva Constitución (CENC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sejo de Estado: Son “derechos personalísimos” o del “patrimonio de la personalidad”, pero no es absolut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220464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.- 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Contenido de la norma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1.- Respeto y protección de la vida priv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- Respeto y protección a la honra de la persona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y de su famil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3224160"/>
            <a:ext cx="857880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1.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Respeto y protección de la vida privada de las person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recho de la personalidad, no puede ser vulnerado, salvo escasas excep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ceptos de “respeto”, “protección”, “vida privada” o “intimidad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otección legal que el ordenamiento otorga a este derech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66560" y="2363760"/>
            <a:ext cx="734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.- 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 la norma (continua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3158640"/>
            <a:ext cx="822960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2.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Respeto y protección a la honra de la persona y de su famili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cepto de “honor”. Sentido objetivo y subjetivo. (apreciación general – persona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cepto de “honra” (Honor en sentido objetivo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onra de la “persona” (natural y jurídic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onra de la familia . Sentido de “familia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95280" y="2276640"/>
            <a:ext cx="64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.- 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 la norma (continua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.- 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Protección legal del derecho a la privacidad y hon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ódigo Penal: artículo 412 a 420 que consagran los delitos de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injurias y de calumn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 Código procesal penal (acción penal privad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ey 19.628: Sobre protección de la vida privada o protección de datos de carácter personal. Artículo 12, crea la acción de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Habeas Dat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ey 19.733: Sobre libertades de opinión e información y ejercicio del periodismo. Artículo 16 y siguientes, consagran el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derecho de aclaración y rectific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ratados Internacion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207880"/>
            <a:ext cx="836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Regulación constitucional, previa a la reforma del   año 2005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contemplaba el respeto y protección a la vida “pública”, basado en el interés general que existía en conocer antecedentes de ciertas personas. Ejemplo, autoridades públic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gulaba la infracción a este precepto cometida a través de un medio de comunicación social. Se creaba el delito constitucional de </a:t>
            </a:r>
            <a:r>
              <a:rPr b="0" i="1" lang="es-ES" sz="2600" spc="-1" strike="noStrike">
                <a:solidFill>
                  <a:srgbClr val="000000"/>
                </a:solidFill>
                <a:latin typeface="Constantia"/>
              </a:rPr>
              <a:t>Difam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criticado y hoy suprimido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0400" y="90756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derecho al respeto de la vida privada y honra de la persona y su familia, se encuentra tutelado por el recurso de protección en virtud del artículo 20 de nuestra Carta Fundament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Sentencias relevant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Luksic con Martorell por la publicación del libro “Impunidad Diplomática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Koch Alvarado con Tesorería General de la República (DICOM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1:16:36Z</dcterms:created>
  <dc:creator>usuario</dc:creator>
  <dc:description/>
  <dc:language>en-US</dc:language>
  <cp:lastModifiedBy>usuiario</cp:lastModifiedBy>
  <dcterms:modified xsi:type="dcterms:W3CDTF">2009-06-21T19:16:29Z</dcterms:modified>
  <cp:revision>63</cp:revision>
  <dc:subject/>
  <dc:title>DERECHO A LA PRIVACIDAD Y A LA   HONRA  (Art. 19 No 4)</dc:title>
</cp:coreProperties>
</file>