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E77-9101-4942-AEBC-DDBE0A08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9E0-D5C3-4BEA-9CEA-969583B4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9B7-30BE-48E2-98B0-8FB36ACC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5DC-9827-4D5D-848F-B55F37CD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D98C-1484-49CC-B25F-E0945556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33BC-2A2C-4357-B917-AD59EF3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3E75-BF94-48C3-A969-6F64FEDD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140A-DB35-4020-A052-B255DCC8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D49B-ED54-42D8-8744-664065A4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6D43-6B0C-4ABB-8BAC-3A810834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A951-3DB9-450B-AA73-42746AE3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F9C-67C6-465A-90ED-F25BD456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E853-4190-4393-88FD-72E53CED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2C43-CF3E-480D-B34E-B79D00D4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1C8A-0548-40BA-8E95-6B99AD8B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3DE4-5CA8-4A8D-89AB-9D9F9D67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78D2-F5FA-46D8-A2DA-38DF6C1A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44E3-ADB7-40E2-A8DA-9C59D25E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30B48-8ECC-40A8-A8D2-4CE82747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1DDD-5008-49BC-A66F-EFC2D70A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F641-9433-49B5-A763-7F48BE63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34AD-CE6E-4B2E-82CC-B756166A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45D-209E-4645-A4EA-9995E34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88FF-8F4D-48B2-86A6-50C0DD1D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35D6-EDFE-44E5-9FBC-28AD73E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B77B-3AC9-443B-AC11-7316859D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E9C4-0FD6-4775-BDD1-E0B2543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FBDE-8D90-42CB-8E06-3BBB88C8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79F1-C6E8-4156-9CC2-C0626E17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8148-3325-4385-A629-69365972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EBCD-14F5-485A-9A62-DC466072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A3B87-559D-46EB-BEBC-9BCFF67C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2BB9C-E314-421A-A58B-AE8C987E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83E-DD22-41AD-B6BA-F92B67FD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8AEE-BE15-4CCA-8254-9C12897A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750D-E3EA-4C48-95E1-702FB480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2E86-4821-4CE7-B280-8B48EE8E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B32E-F1A3-45EC-93CC-3EC61B7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3E75-B916-48CE-A7E6-605E3E36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F0F61-5F5C-47DC-8D3D-0288CB79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1054-2B65-49FB-9B5F-849CB342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5E21-78F3-442B-B67D-C47044D6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CB7E-E3CD-4DF4-AB15-25DC9CC5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3E2-8514-4889-8BE9-9A8A08AB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A58-4F00-423F-9467-1B60250A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CBE-D590-4F03-9CFD-E594F72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E04-A86E-49BB-BE29-F9AA396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8AA-7A17-4E0F-A1D6-CDD4D67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D4B4-0860-42D4-8677-E44B6762F96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53B1-E1D4-45ED-AAAA-6192770C9BA6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6D3A-400F-49E2-9ECF-927B74A61AA0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B995-7727-4DEA-A682-286169E1C55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86684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4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respeto y protección a la vida privada y a la honra de la persona y su famili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5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inviolabilidad del hogar y de toda forma de comunicación privad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4" descr="logo_uchile"/>
          <p:cNvPicPr/>
          <p:nvPr/>
        </p:nvPicPr>
        <p:blipFill>
          <a:blip r:embed="rId1"/>
          <a:stretch/>
        </p:blipFill>
        <p:spPr>
          <a:xfrm>
            <a:off x="250920" y="333360"/>
            <a:ext cx="112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672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ón francesa de 1791: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protección de la casa familiar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PR 1833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correspondencia epistolar es inviolable. No podrá abrirse ni interceptarse, ni rejistrarse los papeles o efectos, sino en los casos espresamente señalados por la lei.” (Artículo 147. No era derecho fundament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PR 1925: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º 12 La inviolabilidad del hog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La casa de toda persona que habite el territorio chileno solo puede ser allanada por un motivo especial determinado por la ley, y en virtud de orden de autoridad competente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Nº 13 La inviolabilidad de la correspondencia  epistolar y telegráfica. No podrán abrirse, ni interceptarse, ni registrarse los papeles o efectos públicos, sino en los casos expresamente señalados por la ley;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Inviolabilidad de las comunicacio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 Allanamiento e intercept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) Concepto de “hogar”.  Ampl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ferencias con “domicili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El domicilio en el Código Civ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) Fundamento: Protección de la “intimidad”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lación con 19 nº 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Inviolabilidad de comunicaciones priv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odo tipo de medio de comunicación privada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mplo, conversación telefónica. No limitad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1833 y 1925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mplitud de la expresión “documento”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ste derecho frente a la tecnología ho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Ley  No 19.423  de 1995, Inviolabilidad de las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unicaciones (modificó  Código Penal)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llanamiento e interceptación de comunic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sos y formas determinadas por la ley”. Legal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la persona que da la orden, quien la cumple y su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oport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rocesal Penal: Artículos 205 a 209; y 222 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24: Diligencias de investigación; Autorización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evia del Juez de Garant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virtud del artículo 20 de la Carta Fundamental, procede el recurso de protección para garantizar el derecho a la inviolabilidad del hogar y toda forma de comunicación privad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uncionarios del Ministerio de Obr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úblicas con Chevesic. Sobre la revisión de correos electrónicos como medida de investigación en el proceso MOP – G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19 Nº 6</a:t>
            </a:r>
            <a:br>
              <a:rPr sz="4400"/>
            </a:br>
            <a:br>
              <a:rPr sz="2000"/>
            </a:br>
            <a:r>
              <a:rPr b="0" lang="es-ES" sz="4400" spc="-1" strike="noStrike">
                <a:solidFill>
                  <a:srgbClr val="04617b"/>
                </a:solidFill>
                <a:latin typeface="Calibri"/>
              </a:rPr>
              <a:t>La libertad de conciencia, la manifestación de todas las creencias y el ejercicio libre de todos los cultos</a:t>
            </a:r>
            <a:br>
              <a:rPr sz="4400"/>
            </a:br>
            <a:br>
              <a:rPr sz="4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4" descr="logo_uchile"/>
          <p:cNvPicPr/>
          <p:nvPr/>
        </p:nvPicPr>
        <p:blipFill>
          <a:blip r:embed="rId1"/>
          <a:stretch/>
        </p:blipFill>
        <p:spPr>
          <a:xfrm>
            <a:off x="179280" y="189000"/>
            <a:ext cx="960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833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relijión de la República de Chile es la Católica, Apostólica, Romana; con exclusión del ejercicio público de cualquier otra.”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(Artículo 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(Institución del “patronato”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interpretativa de 1865: Permitió el ejercicio privado de otros cultos, que no fueran el católico, apostólico y roman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25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 consagra el derecho en términos muy similares a los ac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8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solo modificaciones formales respecto a la redacción del año 192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Fundamen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n Estados Unido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arren y Brandeis: “El derecho a l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ivacidad” (189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Juez Cooley: “The right to be let alon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ilva Bascuñan: </a:t>
            </a: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“…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Si no se le deja al individuo ningun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intimidad,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entonces la sociedad se va a masificar en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una serie de individuos sin ningun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posibilidad de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aportar algo de progreso, algo de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perfeccionamiento 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la sociedad entera …”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(Sesión 129 de la Comisión d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tudios para la nueva Constitución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 Estatuto constitucional de las instituciones dedicadas al cul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: amplio y restringido. (toda creencia – religios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nifestación de todas las creencias: consagra el pluralismo propio de la separación entre la iglesia y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resión de la libertad de opin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ibre ejercicio de todos los cultos: derecho desarrollado y protegido por la Ley No 19.638 de 1999, sobre Constitución Jurídica de las Iglesias y Organizaciones Religios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imitaciones a la libertad anterior: la moral,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enas costumbres, orden público. Ejemplo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ctas que atentan contra la vida o la integr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ís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statuto constitucional de las instituciones dedicadas al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ulto religio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Derecho a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dificar templos, conservarlos  bajo las norm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gales de seguridad e higi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xención de contribuciones a dependenci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xclusivament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 destinadas al cu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Personalidad Jurídica de las iglesias en general: D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rech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te acciones u omisiones arbitrarias o ilegales que atenten contra el derecho a la libertad de conciencia, rige el recurso de protección en virtud del artículo 20 de la Constitu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Transfusiones de sangre: En conflicto con el derecho a la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xhibición película “La ultima tentación de Cristo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0984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staba en la Constitución de 19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misión Estudio Nueva Constitución (CENC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ejo de Estado: Son “derechos personalísimos” o del “patrimonio de la personalidad”, pero no es absolut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20464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Respeto y protección de la vida priv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Respeto y protección a la honra de la person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y de su famil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3224160"/>
            <a:ext cx="857880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de la vida privada de las person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recho de la personalidad, no puede ser vulnerado, salvo escasas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s de “respeto”, “protección”, “vida privada” o “intimidad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otección legal que el ordenamiento otorga a este derech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66560" y="236376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 (continu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15864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2.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a la honra de la persona y de su famil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 de “honor”. Sentido objetivo y subjetivo. (apreciación general – person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 de “honra” (Honor en sentido objetiv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onra de la “persona” (natural y jurídic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onra de la familia . Sentido de “familia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95280" y="2276640"/>
            <a:ext cx="64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 (continu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Protección legal del derecho a la privacidad y hon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enal: artículo 412 a 420 que consagran los delitos de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injurias y de calumn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 Código procesal penal (acción penal priv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19.628: Sobre protección de la vida privada o protección de datos de carácter personal. Artículo 12, crea la acción de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Habeas Dat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19.733: Sobre libertades de opinión e información y ejercicio del periodismo. Artículo 16 y siguientes, consagran el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derecho de aclaración y rectific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atados Internacio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0788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gulación constitucional, previa a la reforma del   año 2005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contemplaba el respeto y protección a la vida “pública”, basado en el interés general que existía en conocer antecedentes de ciertas personas. Ejemplo, autoridades públ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gulaba la infracción a este precepto cometida a través de un medio de comunicación social. Se creaba el delito constitucional de </a:t>
            </a: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Difam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criticado y hoy suprimido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derecho al respeto de la vida privada y honra de la persona y su familia, se encuentra tutelado por el recurso de protección en virtud del artículo 20 de nuestra Carta Fundamen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Luksic con Martorell por la publicación del libro “Impunidad Diplomátic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Koch Alvarado con Tesorería General de la República (DICOM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usuiario</cp:lastModifiedBy>
  <dcterms:modified xsi:type="dcterms:W3CDTF">2009-06-21T19:16:29Z</dcterms:modified>
  <cp:revision>63</cp:revision>
  <dc:subject/>
  <dc:title>DERECHO A LA PRIVACIDAD Y A LA   HONRA  (Art. 19 No 4)</dc:title>
</cp:coreProperties>
</file>