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1258-36BB-4B9F-8C59-18ADD38F5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4128-D7E3-4EFB-A965-D4A129A9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07CF-7DC9-4B93-A792-7F3C027CE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83E3-4B43-4334-ABC1-5E4801067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D65F-41C3-4901-BAC3-6CF21891E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487D-531E-4843-B4E8-220EDA08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9814A-1025-49BF-A3C0-290D2736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3DBFC-86FF-4166-894D-B0D76344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8307-F455-4415-BC8A-8EB208E8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3337-E4BD-4131-B69B-1B9B6AD6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EB42-8B3A-4638-B249-28C6151A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43B1-9C90-4124-AACD-0364944E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C270-7769-4B97-93F8-7DA9D849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9D71-B550-44E8-BC5B-E6F41804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1D96-55A4-4E4E-8BCD-D2A1D48E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D9AD-0DAB-4C41-B90E-7258DD1B3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91FB-4245-4BBB-A992-45F0278E4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A262-85DC-4CCA-95E7-C5FD60CD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D4C7-59AB-4388-8D8C-B695CAE1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4A1E-AD6C-421F-88AB-58EA3BE9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CD2E-566E-4DB8-8461-65FAA41E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004A-ABC4-45B6-BFA4-86C3ABED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FEFE-EF78-48BA-BDC4-52BBE7D6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DF8C-9AF5-4115-8FA4-A3BCDB9D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C165-2B50-4436-8750-C1AAE267B9DB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6224-4327-4F6E-9F49-A8CD50119CC1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s-ES" sz="4500" spc="-1" strike="noStrike" u="sng">
                <a:solidFill>
                  <a:srgbClr val="04617b"/>
                </a:solidFill>
                <a:uFillTx/>
                <a:latin typeface="Calibri"/>
              </a:rPr>
              <a:t>19 Nº 2</a:t>
            </a:r>
            <a:br>
              <a:rPr sz="4500"/>
            </a:br>
            <a:br>
              <a:rPr sz="1300"/>
            </a:b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Igualdad ante la ley</a:t>
            </a:r>
            <a:br>
              <a:rPr sz="4500"/>
            </a:br>
            <a:br>
              <a:rPr sz="4500"/>
            </a:br>
            <a:br>
              <a:rPr sz="4500"/>
            </a:br>
            <a:r>
              <a:rPr b="0" lang="es-ES" sz="2200" spc="-1" strike="noStrike">
                <a:solidFill>
                  <a:srgbClr val="04617b"/>
                </a:solidFill>
                <a:latin typeface="Calibri"/>
              </a:rPr>
              <a:t>Fernanda Villena Herrera</a:t>
            </a:r>
            <a:br>
              <a:rPr sz="2200"/>
            </a:br>
            <a:r>
              <a:rPr b="0" lang="es-ES" sz="2200" spc="-1" strike="noStrike">
                <a:solidFill>
                  <a:srgbClr val="04617b"/>
                </a:solidFill>
                <a:latin typeface="Calibri"/>
              </a:rPr>
              <a:t>Derecho Constitucional II</a:t>
            </a:r>
            <a:br>
              <a:rPr sz="2200"/>
            </a:br>
            <a:r>
              <a:rPr b="0" lang="es-ES" sz="2200" spc="-1" strike="noStrike">
                <a:solidFill>
                  <a:srgbClr val="04617b"/>
                </a:solidFill>
                <a:latin typeface="Calibri"/>
              </a:rPr>
              <a:t>Primer semestre 2009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96" name="Picture 8" descr="logo_uchile"/>
          <p:cNvPicPr/>
          <p:nvPr/>
        </p:nvPicPr>
        <p:blipFill>
          <a:blip r:embed="rId1"/>
          <a:stretch/>
        </p:blipFill>
        <p:spPr>
          <a:xfrm>
            <a:off x="324000" y="333360"/>
            <a:ext cx="11001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 u="sng">
                <a:solidFill>
                  <a:srgbClr val="04617b"/>
                </a:solidFill>
                <a:uFillTx/>
                <a:latin typeface="Calibri"/>
              </a:rPr>
              <a:t>Fallo Abogado de turn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Inaplicabilidad por inconstitucionalida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rt. 595 COT: </a:t>
            </a:r>
            <a:r>
              <a:rPr b="0" i="1" lang="es-CL" sz="2600" spc="-1" strike="noStrike">
                <a:solidFill>
                  <a:srgbClr val="000000"/>
                </a:solidFill>
                <a:latin typeface="Constantia"/>
              </a:rPr>
              <a:t>“Corresponde a los jueces de letras designar cada vez y por turno, entre los no exentos, un abogado que defienda gratuitamente las causas civiles y otros que defiendan las causas del trabajo de las personas que hubieren gozado o debieran gozar del mencionado privilegio. Con todo, cuando las necesidades lo requieran, la Corte de Apelaciones respectiva podrá disponer que los jueces de letras  dos o más abogados en cada turno, estableciendo la forma en que se deban discutir las causas entre los abogados designados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 u="sng">
                <a:solidFill>
                  <a:srgbClr val="04617b"/>
                </a:solidFill>
                <a:uFillTx/>
                <a:latin typeface="Calibri"/>
              </a:rPr>
              <a:t>Fallo Abogado de turn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Hecho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undamentos de la institución del abogado de turn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rt. 19 número 3 de la CP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bogados colaboradores de la administración de justici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título de abogado es entregado por el Esta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 abogado de turn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aturaleza jurídica de la profesión: Actividad pública de colaboración con la administración de justicia v/s Actividad Jurídica privada. Aplicable Art. 19 N° 21 de la Carta Fundament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Otorgamiento del título por parte del Estado certifica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 abogado de turn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rechos constitucionales afect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Infracción de la igualdad ante las cargas públic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igualdad se refiere a los profesionales, no a los abogad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medio legislativo es inadecuado al fin que persigu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oporcionalidad de la carga, exclusivamente a los abogad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 abogado de turn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Infracción igualdad ante la le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sigualdad de los abogados sobre las demás cargas públicas personal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Obligación del Estado  indemnizar a los gravados (Galletué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 abogado de turn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Infracción de la libertad para desarrollar actividades económic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ctividad de abogado, actividad económica y no función públ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Infracción a la libertad de trabaj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áctica forza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 abogado de turn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arte recurri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utilizaron las procedimientos abogad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ecesidad del abogado de turn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 abogado de turn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Vistos del tribun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rt. 93 n° 6 inc. 1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quisitos para el conocimiento del T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1.- Gestión pendient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2.- Solicitud conocida por alguna de las partes o del juez que conoce del asun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3.- Aplicación del precepto decisiva en la resolución de un asunto y contraria a la CP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 u="sng">
                <a:solidFill>
                  <a:srgbClr val="04617b"/>
                </a:solidFill>
                <a:uFillTx/>
                <a:latin typeface="Calibri"/>
              </a:rPr>
              <a:t>Fallo Abogado de turn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4.- Que la impugnación esté fundada razonablemen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5.- Que se cumplan los demás requisitos legal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nálisis histórico de la institución del abogado de turn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Infracción de la igualdad ante la ley y las cargas públic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 u="sng">
                <a:solidFill>
                  <a:srgbClr val="04617b"/>
                </a:solidFill>
                <a:uFillTx/>
                <a:latin typeface="Calibri"/>
              </a:rPr>
              <a:t>Fallo Abogado de turn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Igualdad ante la ley a personas que se encuentran en las mismas circunstancias. Distinción razonable entre quienes no se encuentran en la mism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azonabilidad estándar que mide igualdad o desigualda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título de abogado se entrega por el Estado. Particularidad de la profes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93116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 u="sng">
                <a:solidFill>
                  <a:srgbClr val="04617b"/>
                </a:solidFill>
                <a:uFillTx/>
                <a:latin typeface="Calibri"/>
              </a:rPr>
              <a:t> </a:t>
            </a:r>
            <a:r>
              <a:rPr b="0" lang="es-ES" sz="5000" spc="-1" strike="noStrike" u="sng">
                <a:solidFill>
                  <a:srgbClr val="04617b"/>
                </a:solidFill>
                <a:uFillTx/>
                <a:latin typeface="Calibri"/>
              </a:rPr>
              <a:t>Fallo jueza Karen Atal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50560" y="1125000"/>
            <a:ext cx="87138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Hecho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Matrimonio de Karen Atala y Jaime López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Separació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Madre asume condición de homosexu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 u="sng">
                <a:solidFill>
                  <a:srgbClr val="04617b"/>
                </a:solidFill>
                <a:uFillTx/>
                <a:latin typeface="Calibri"/>
              </a:rPr>
              <a:t>Fallo Abogado de turn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e corresponde a Estado proporcionar asistencia legal a las personas que no tengan medi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fensoría Penal, Corporación de asistencia judici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Institución del abogado de turno excepcionalísim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in de la norma, acceso a todas las personas a la justici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 u="sng">
                <a:solidFill>
                  <a:srgbClr val="04617b"/>
                </a:solidFill>
                <a:uFillTx/>
                <a:latin typeface="Calibri"/>
              </a:rPr>
              <a:t>Fallo Abogado de turn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inalidad que persigue la norm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decua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ecesari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Tolera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oblema con el medio, “gratuidad”, no así con la finalidad. El medio es gravoso, no es necesario ni se justifica para el f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instrumento del abogado de turno, para cumplir la finalidad es adecuado, lo que no es adecuado es la gratuida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 u="sng">
                <a:solidFill>
                  <a:srgbClr val="04617b"/>
                </a:solidFill>
                <a:uFillTx/>
                <a:latin typeface="Calibri"/>
              </a:rPr>
              <a:t>Fallo Abogado de turn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Obligación del Estado, no de los abogad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uede trasferir la obligación a los abogados, pero no sin retribu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argas públicas: Aplicación del principio de igualdad ante la le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- Es un medio gravoso que influye en el patrimonio de los abogados. Deberes cívicos son retribuidos por el Estado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 u="sng">
                <a:solidFill>
                  <a:srgbClr val="04617b"/>
                </a:solidFill>
                <a:uFillTx/>
                <a:latin typeface="Calibri"/>
              </a:rPr>
              <a:t>Fallo Abogado de turn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Infracción a la libertad de trabajo y a la libertad de empres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bogados colaboradores de la administración de justicia. Única profesión que el título es entregad por el Esta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carga legal debe ir acompañada con una justa retribución pecuniari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 u="sng">
                <a:solidFill>
                  <a:srgbClr val="04617b"/>
                </a:solidFill>
                <a:uFillTx/>
                <a:latin typeface="Calibri"/>
              </a:rPr>
              <a:t>Fallo Abogado de turn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requirente no se vio privado de ejercer su trabajo por las dos causas asignad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resuelv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coge el requerimiento de inaplicabilidad en la expresión “gratuitamente”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 u="sng">
                <a:solidFill>
                  <a:srgbClr val="04617b"/>
                </a:solidFill>
                <a:uFillTx/>
                <a:latin typeface="Calibri"/>
              </a:rPr>
              <a:t>Fallo Abogado de turn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Votos Concurrent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Bertelse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Inaplicable de todo el Art. 595 inc. 1, por la indefinición de la le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Vodanovic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 el Estado el que tiene la obliga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arga recae en todos los chilenos, no en el grupo de los abogad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ntrario a la libertad de trabajo, tanto de elección como de libre contrata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Argumentos de la parte recurrent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- Desarrolla integral de la niñas es afectado por la opción sexual de la madr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- Interés superior de las niñas, exige sacar a la menores de las consecuencias perniciosas de una madre homosexual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- La vida junto al padre traerá mayor seguridad en el desarrollo emocional y psicológico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 Jueza Karen Atal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Fallo Jueza Karen Atal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Jueces de segunda instancia privilegiaron el interés de la madre sobre el de las menor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os Jueces de segunda instancia transgredieron los principios que permiten apreciar la prueba en concienc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0" lang="es-ES" sz="5000" spc="-1" strike="noStrike" u="sng">
                <a:solidFill>
                  <a:srgbClr val="04617b"/>
                </a:solidFill>
                <a:uFillTx/>
                <a:latin typeface="Calibri"/>
              </a:rPr>
              <a:t>Fallo Jueza Karen Atal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rgumentos de la Corte. (José Luis Pérez, Urbano Marín, Jorge Medina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ejercicio de las potestades y la ejecución de los deberes deben siempre llevarse a cabo en el marco básico que orienta el ordenamiento jurídico Art. 222 CC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regla que le entrega a la madre el cuidado personal de los menores no es absolut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 u="sng">
                <a:solidFill>
                  <a:srgbClr val="04617b"/>
                </a:solidFill>
                <a:uFillTx/>
                <a:latin typeface="Calibri"/>
              </a:rPr>
              <a:t>Fallo Jueza Karen Atal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Jueces cometieron falta o abuso grave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1.- Aplicar la normativ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2.- Apreciar los antecedentes. (Privilegio prueba pericial a la testimonial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xplicitación de la condición homosexual antepone los interés en desmedro de las niña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onfusión de roles sexua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 jueza Karen Atal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sarrollo del bienestar psíquico y emocional de las menor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do de vulnerabilidad soci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ircunstancias que llevan a otorgar el cuidado personal al otro pad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 Jueza Karen Atal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Voto disidente (José Benquis, Orlando Álvare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recurso de queja es un recurso disciplinario, para corregir falta grave o abus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Tuición como regla general a la mad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los antecedentes no puede especularse que la madre haya descuidado o maltratado a las hij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 Jueza Karen Atal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madre no tiene inhabilidad mor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anción innominada sobre la mad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Jueces de segunda instancia han dado correcta aplicación a la normativa vigent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1T03:46:14Z</dcterms:created>
  <dc:creator>usuario</dc:creator>
  <dc:description/>
  <dc:language>en-US</dc:language>
  <cp:lastModifiedBy>Fernanda</cp:lastModifiedBy>
  <dcterms:modified xsi:type="dcterms:W3CDTF">2009-04-14T03:54:49Z</dcterms:modified>
  <cp:revision>52</cp:revision>
  <dc:subject/>
  <dc:title>IGUALDAD ANTE LA LEY</dc:title>
</cp:coreProperties>
</file>