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A9E-ED7D-4458-9E78-A08C1183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CF4-3F79-4DEB-89ED-F5031A8D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A21-53E5-45CD-8CD5-903CF40B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1BF-7B71-4402-8BCA-6648A673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F73C-B25D-4E84-86BC-D633F375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D4A9-80FB-4271-822B-8529B407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E74E-31E3-4FC9-B842-5104A43A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FC59-773B-4602-ADEA-43D4E512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8841-D768-47E4-86AB-B128CB3D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7B50-BC55-4475-8995-0FA1F06B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73E5-6AEE-44AC-91D8-ACD3FAE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615-7B29-49A1-BD42-DD3B089C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BD5B-BF3B-4F0C-9C33-16A1E4D6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B535-5089-4907-A047-EC398A8A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188B-B4E2-4CDB-BE05-812313A6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671E-F136-4FBC-BCDD-48ED013E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ABF2-1270-45F7-BF62-29A39C70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6B3-72D4-4063-BDD5-248A79F4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87A-C42F-460B-AFE8-909A6F83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076-D683-419E-BB8C-35FBC4BD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F52-6F9A-461B-9F23-C72C4409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AA7-BAC6-4EA5-BA77-27205D6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19A-76A6-4424-8FF5-E427CF5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017-19AD-460E-816E-2D78E97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5E12-EB0E-4B45-95A0-FFCEE93898D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E008-B471-4927-BEE6-6EEDF6A8840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ES" sz="4500" spc="-1" strike="noStrike" u="sng">
                <a:solidFill>
                  <a:srgbClr val="04617b"/>
                </a:solidFill>
                <a:uFillTx/>
                <a:latin typeface="Calibri"/>
              </a:rPr>
              <a:t>19 Nº 2</a:t>
            </a:r>
            <a:br>
              <a:rPr sz="4500"/>
            </a:br>
            <a:br>
              <a:rPr sz="1300"/>
            </a:b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gualdad ante la ley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Fernanda Villena Herrera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6" name="Picture 8" descr="logo_uchile"/>
          <p:cNvPicPr/>
          <p:nvPr/>
        </p:nvPicPr>
        <p:blipFill>
          <a:blip r:embed="rId1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aplicabilidad por inconstituciona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t. 595 COT: 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“Corresponde a los jueces de letras designar cada vez y por turno, entre los no exentos, un abogado que defienda gratuitamente las causas civiles y otros que defiendan las causas del trabajo de las personas que hubieren gozado o debieran gozar del mencionado privilegio. Con todo, cuando las necesidades lo requieran, la Corte de Apelaciones respectiva podrá disponer que los jueces de letras  dos o más abogados en cada turno, estableciendo la forma en que se deban discutir las causas entre los abogados designado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ech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ndamentos de la institución del abogado de tur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t. 19 número 3 de la CP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bogados colaboradores de la administración de justi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título de abogado es entregado por el Est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turaleza jurídica de la profesión: Actividad pública de colaboración con la administración de justicia v/s Actividad Jurídica privada. Aplicable Art. 19 N° 21 de la Carta Fundamen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orgamiento del título por parte del Estado certific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rechos constitucionales afec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de la igualdad ante las cargas públ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igualdad se refiere a los profesionales, no a los abog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medio legislativo es inadecuado al fin que persig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porcionalidad de la carga, exclusivamente a los abog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igualdad ante la le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igualdad de los abogados sobre las demás cargas públicas person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bligación del Estado  indemnizar a los gravados (Galletué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de la libertad para desarrollar actividades económ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ividad de abogado, actividad económica y no función públ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a la libertad de trabaj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áctica forz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te recurr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utilizaron las procedimientos abog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ecesidad del abogado de tur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istos del tribu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t. 93 n° 6 inc. 1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quisitos para el conocimiento del T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1.- Gestión pend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2.- Solicitud conocida por alguna de las partes o del juez que conoce del asu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3.- Aplicación del precepto decisiva en la resolución de un asunto y contraria a la CP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4.- Que la impugnación esté fundada razonable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5.- Que se cumplan los demás requisitos leg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histórico de la institución del abogado de tur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de la igualdad ante la ley y las cargas públ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gualdad ante la ley a personas que se encuentran en las mismas circunstancias. Distinción razonable entre quienes no se encuentran en la mis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azonabilidad estándar que mide igualdad o desigual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título de abogado se entrega por el Estado. Particularidad de la profes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 </a:t>
            </a: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Hecho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trimonio de Karen Atala y Jaime López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epar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dre asume condición de homosexu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 corresponde a Estado proporcionar asistencia legal a las personas que no tengan medi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fensoría Penal, Corporación de asistencia judi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stitución del abogado de turno excepcionalís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 de la norma, acceso a todas las personas a la justi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alidad que persigue la nor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decu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ecesari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ler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blema con el medio, “gratuidad”, no así con la finalidad. El medio es gravoso, no es necesario ni se justifica para el f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instrumento del abogado de turno, para cumplir la finalidad es adecuado, lo que no es adecuado es la gratu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bligación del Estado, no de los abog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 trasferir la obligación a los abogados, pero no sin retribu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gas públicas: Aplicación del principio de igualdad ante la le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Es un medio gravoso que influye en el patrimonio de los abogados. Deberes cívicos son retribuidos por el Est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a la libertad de trabajo y a la libertad de empre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bogados colaboradores de la administración de justicia. Única profesión que el título es entregad por el Es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arga legal debe ir acompañada con una justa retribución pecuniar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equirente no se vio privado de ejercer su trabajo por las dos causas asigna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resuelv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oge el requerimiento de inaplicabilidad en la expresión “gratuitamente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s Concurr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ertels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aplicable de todo el Art. 595 inc. 1, por la indefinición de la l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danov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Estado el que tiene la oblig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ga recae en todos los chilenos, no en el grupo de los abog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trario a la libertad de trabajo, tanto de elección como de libre contrat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Argumentos de la parte recurrent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- Desarrolla integral de la niñas es afectado por la opción sexual de la mad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- Interés superior de las niñas, exige sacar a la menores de las consecuencias perniciosas de una madre homosexu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- La vida junto al padre traerá mayor seguridad en el desarrollo emocional y psicológ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Jueces de segunda instancia privilegiaron el interés de la madre sobre el de las meno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os Jueces de segunda instancia transgredieron los principios que permiten apreciar la prueba en concie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gumentos de la Corte. (José Luis Pérez, Urbano Marín, Jorge Medin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jercicio de las potestades y la ejecución de los deberes deben siempre llevarse a cabo en el marco básico que orienta el ordenamiento jurídico Art. 222 C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la que le entrega a la madre el cuidado personal de los menores no es absolu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Jueces cometieron falta o abuso grav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1.- Aplicar la normati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2.- Apreciar los antecedentes. (Privilegio prueba pericial a la testimonial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plicitación de la condición homosexual antepone los interés en desmedro de las niñ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nfusión de roles sexu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arrollo del bienestar psíquico y emocional de las men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de vulnerabilidad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ircunstancias que llevan a otorgar el cuidado personal al otro p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(José Benquis, Orlando Álvare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ecurso de queja es un recurso disciplinario, para corregir falta grave o abu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uición como regla general a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antecedentes no puede especularse que la madre haya descuidado o maltratado a las hij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madre no tiene inhabilidad mo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anción innominada sobre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de segunda instancia han dado correcta aplicación a la normativa vig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3:46:14Z</dcterms:created>
  <dc:creator>usuario</dc:creator>
  <dc:description/>
  <dc:language>en-US</dc:language>
  <cp:lastModifiedBy>Fernanda</cp:lastModifiedBy>
  <dcterms:modified xsi:type="dcterms:W3CDTF">2009-04-14T03:54:49Z</dcterms:modified>
  <cp:revision>52</cp:revision>
  <dc:subject/>
  <dc:title>IGUALDAD ANTE LA LEY</dc:title>
</cp:coreProperties>
</file>