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ED9-3B6E-4961-B42F-0F034862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341-4850-4CCB-8AB0-4A0ECC2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0E7-C1AF-4510-9B94-3080062B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C75-51EB-4098-8020-25EA1BF4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8EF-DD60-4348-85AF-71189CE0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5966-2ECB-4625-B651-1AC1B33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A617-108D-4E31-A020-95D6D37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F468-2E1D-4CC6-952B-576C63D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B35B-F0F7-4B9A-9E31-3CD2B8D3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B88-FD91-4940-B327-D7417B02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C603-4F96-47FB-8971-EAC6837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F6A-5AAC-47A3-BE36-DF8EB9FF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08F-48A7-4723-818F-1A04522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669F-24AC-47C0-ADAF-3A4F6C65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593-54E5-40B9-8329-7513B70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201-E55C-4AE2-ABEF-66838C53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9AA-A36B-4C95-A721-2B14CC3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2989-BEA8-4D08-AD3F-CD34B995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022C-3A69-4E33-BA68-CFDB3F7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4CEF-C263-420D-8034-DACAC0D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D4F4-42CF-4C33-9CC1-880CA58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D43A-C588-454D-B57A-E23584C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52E-B862-4D9D-96A5-E6EC820B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363B-B529-47A0-87C6-4702BF4C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2D22-1771-49DA-B9D6-503D1C2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102D-FB1D-49F3-B601-7533FEC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CAD8-CEFE-474A-A615-BC51551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371D-BC9F-468C-AAFE-3E7479D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6D67-EEA0-4D2F-ADB5-2102BF0D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F7E0-2D30-4635-9CA3-21CBE1D7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96B1-6F97-46C3-BB8C-8341798B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B8E4-D1FF-409F-8D34-1271AD2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E9CD-A4A2-456F-BAC0-DB7F9817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F91-2DC6-42F8-AB0B-0A88403A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5314-BACD-40F2-8CE2-17955A9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28EF-AB6B-4454-B3DE-9A7FD9B5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B1CA-9821-48ED-B43C-3743767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330E-E49C-4938-A8BB-525E5B17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70BB-1F42-4920-A67E-FA3581B9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0571-1586-48A2-8E34-B2B7DA2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AB7E-6613-4F28-8EC4-AC54699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469E-37E2-4743-9DD2-A98696CB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C52D-C9FB-49F3-949F-82AD9E40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A81-B0B1-4104-A414-5D4E047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D05-31B5-4D96-8737-9EC56186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6DE-E8C5-4953-A878-874FB95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C50-00C0-401B-A35C-C0C6AEC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15E-D16F-4AEE-9D94-1A61CFA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0BD-A460-4B20-8B5E-70EFCF045C7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1A69-D73E-4D04-A720-1C96953CD75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213-543E-4586-99CF-63A6C28028B2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43A-6F88-4B45-9533-6CBDBA9F4EC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2723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Artículo 19 nº 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vida y a la integridad física y psíquica de la person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73000"/>
            <a:ext cx="814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logo_uchile"/>
          <p:cNvPicPr/>
          <p:nvPr/>
        </p:nvPicPr>
        <p:blipFill>
          <a:blip r:embed="rId1"/>
          <a:stretch/>
        </p:blipFill>
        <p:spPr>
          <a:xfrm>
            <a:off x="250920" y="189000"/>
            <a:ext cx="1058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5104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APREMIOS ILEGITIM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3176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ntecedentes y 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Apremios legítimos / ilegítimos. Ejemplo: deten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mplitud de la norma: no admite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Caso especial de la Tortura como el apremio ilegítimo mas gr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mportancia de las convenciones internacionales. “Convención internacional contra la tortura y otros tratos o penas crueles, inhumanas o degradantes” de las Naciones Unidas, 198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xcepción: Derecho Penal del Enemig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a la Vida reconocido en el art. 19 Nº 1 se encuentra resguardado por el Recurso de Protección establecido en el artículo 20 de la Constitu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Píldora del día despué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ransfusiones de sang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Evacuación a habitantes de Chaité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 A  LA 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ste derecho no se encontraba en la Constitución de 1925 ya que se consideraba como un presupues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fluencia de las declaraciones internacionales: Hacen patente la importancia que tiene la estipulación expresa de este derecho</a:t>
            </a: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(Declaración Universal de DD.HH.; Convención Americana de DD.HH.; Convenios de Ginebra; Pacto Internacional de derechos civiles y políticos; Convención de derechos del niñ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onocimiento explícito del derecho en la Constitución de 1980, artículo 19 nº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93240"/>
            <a:ext cx="77151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A LA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844280"/>
            <a:ext cx="820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Temas que se distinguen en este derecho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1. La vida y la integridad física y psíquica de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2. La ley protege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3. La pena de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4. Apremios ilegíti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I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a vida humana es un bien juríd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objetivo debe otorgar protección a este bien jurídico  subjetivo. (Código Penal, Código Civil, legislación lab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Jurisprudenc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ber de protección del marido respecto de su mujer (C.Stgo.199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Medida de protección”(C.Valpso.1994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Transfusión sanguínea” (C.Suprema 1992,1995, 1996, 197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urso de Protección para la evacuación de  la ciudad de Chaitén” (C de Puerto Montt,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836640"/>
            <a:ext cx="75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9987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Anteced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rtículo 75 Código Civi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Convención Americana de DD.HH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 “Este derecho estará protegido por la ley y, en general, a partir del momento de la concepción” (artículo 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 Doble encargo al legisl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El aborto y el derecho a la vid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rtículo 342  a 345 del Código Pe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ódigo Sanitario antes de 1989: “Sólo con fines terapéuticos se podrá interrumpir un embarazo…” …”opinión documentada de dos médicos cirujano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ey 18.826 de 1989: “No podrá ejecutarse ninguna acción cuyo fin sea provocar el aborto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2463480"/>
            <a:ext cx="85690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Importancia de la determinación del inicio de la existencia humana o comienzo de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3974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cidencia de los descubrimientos bi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eorías al respecto: Concepción, anidación,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viabilidad, desarrollo del sistema nervioso, auto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uficiencia, nac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n donde comienza la protección legal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Jurisprudencia: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Fallo del T.C. ante el requerimiento de inconstitucionalidad del DS Nº 48 del Ministerio de Salud “Normas nacionales sobre regulación de fertilidad” (Píldora del día después)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49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206064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a pena de  muerte sólo podrá establecerse por delito contemplado en ley aprobada con quórum calificad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constituyente de 1980 tiende a la restricción en la aplicación de la pena de muerte, poniendo como requisito, su estipulación con quórum calific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olémica ético-jurídico y tendencia internacional hacia su aboli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Antecedentes de su regulació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C. Penal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; Código de Justicia Militar; D.T Nº1 C.Pol.198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18.314 de 1984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“Conductas terroristas”, modificada por leyes de 1990 y 1991 que rebajaron penas y derogaron conduc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 19.734 de 2001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la reemplazó por presidio perpetuo derogándola en la práctica (adecuación a Tratados de DD.HH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Problemas jurídicos en torno la muerte e importancia jurídica del momento en que se produce. Derecho de la persona a disponer de su propio cuerpo. Ley de Trasplantes.  La Bioét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8:58:32Z</dcterms:created>
  <dc:creator>usuario</dc:creator>
  <dc:description/>
  <dc:language>en-US</dc:language>
  <cp:lastModifiedBy>Fernanda</cp:lastModifiedBy>
  <dcterms:modified xsi:type="dcterms:W3CDTF">2009-04-14T02:00:12Z</dcterms:modified>
  <cp:revision>34</cp:revision>
  <dc:subject/>
  <dc:title>DERECHO  A  LA  VIDA</dc:title>
</cp:coreProperties>
</file>