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E51-180B-4789-82D4-37BD4875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C41-8CE1-440E-AD5E-CF00F1F0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DC7-E452-414C-9283-C95763D0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C09-3AFD-4372-86EE-A875109A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7A35-06DE-45BE-8D0D-06C09E47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5220-742F-45BE-909A-661CFC5F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9A5E-7D2A-4F00-A91C-629CD803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463D-5BB0-476E-9151-A3090B51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9F42-E414-4B50-9C39-721C8CDC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2FC0-562D-4A06-A123-D6AAC53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BCAE-AE7B-45E3-8C00-F353C700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A4A-5887-4E92-A227-EA77E010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6724-57D6-42B1-ABFB-4D5B6B1D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3698-CEE0-4BE5-AE32-4542829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1557-3EF1-4064-8AE1-FF23ABA6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A59F-ACE9-4F0C-A467-0E59A487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C287-F40B-41E1-847F-F68157B0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7F8E-AA83-403E-9924-7E2A4068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9AC6-C34F-49F5-B5D2-A9D5D174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5343-066B-4352-871F-54F95C92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3A9D-1852-4158-AE92-25CD573A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A0D63-F510-46AF-B1D0-963CE7A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D31-2768-49FE-9A96-1D12DE3E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30DC-4931-4429-B253-B26B8B22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00B7-F527-46DD-A219-BB0626B7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1FD8-314F-44D5-8296-1FCC7338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C801-BD23-4F52-B6E4-32FAF9B4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8E81-5368-4928-9512-73C105B9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0A1A-0A41-481D-BC73-1F5F4B80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750A-963F-48F9-8DFE-63605D7C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69D7-71D7-492F-8C02-D1246B1C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FEB0-B26B-4907-B0ED-8ECBAEC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523B-0008-4365-AC4B-D2D3852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B75-AE43-4617-8772-A3E1A59F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6139-FC6D-4542-BE8B-0ED11A9F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9B94-9D67-4633-9036-11689582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42540-15BE-465B-A5A2-6A192C0B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1CED-CB22-45BF-84D8-4D9DD4E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CCDE-8B5E-46DD-B63F-9059A0BB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7FC3-B3FB-47D4-8DBB-B81EFF2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8F9B-B78F-4C9C-8A99-D334EA5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B8A0-913F-4CEE-B239-219A18C9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783B-31E7-4421-9C38-F07B8185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066-C087-438F-AD31-512B13D2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D4B-27EB-4BA6-A545-A2200A7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42C-73E1-4309-9363-0BEB749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A4D-3FBC-4601-A24B-8117094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E9F-E19D-4D30-B1F8-0F858D92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8B37-9CA9-46DB-B418-DF21353B6AF3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BCAB-CD81-4990-A920-ABD0D18BB6F2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8455-B342-4927-8484-4B57AE4CADD8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044-FA41-4AB4-BA1C-2501D462BF3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1640" y="1052640"/>
            <a:ext cx="72723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Artículo 19 nº 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vida y a la integridad física y psíquica de la persona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773000"/>
            <a:ext cx="8147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7" descr="logo_uchile"/>
          <p:cNvPicPr/>
          <p:nvPr/>
        </p:nvPicPr>
        <p:blipFill>
          <a:blip r:embed="rId1"/>
          <a:stretch/>
        </p:blipFill>
        <p:spPr>
          <a:xfrm>
            <a:off x="250920" y="189000"/>
            <a:ext cx="1058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85104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4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APREMIOS ILEGITIM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31768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ntecedentes y 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Apremios legítimos / ilegítimos. Ejemplo: deten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mplitud de la norma: no admite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Caso especial de la Tortura como el apremio ilegítimo mas gra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mportancia de las convenciones internacionales. “Convención internacional contra la tortura y otros tratos o penas crueles, inhumanas o degradantes” de las Naciones Unidas, 198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xcepción: Derecho Penal del Enemig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2349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a la Vida reconocido en el art. 19 Nº 1 se encuentra resguardado por el Recurso de Protección establecido en el artículo 20 de la Constitu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Sentencias relev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Píldora del día despué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ransfusiones de sang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Evacuación a habitantes de Chaité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30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 A  LA 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1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ste derecho no se encontraba en la Constitución de 1925 ya que se consideraba como un presupues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fluencia de las declaraciones internacionales: Hacen patente la importancia que tiene la estipulación expresa de este derecho</a:t>
            </a: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(Declaración Universal de DD.HH.; Convención Americana de DD.HH.; Convenios de Ginebra; Pacto Internacional de derechos civiles y políticos; Convención de derechos del niñ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onocimiento explícito del derecho en la Constitución de 1980, artículo 19 nº 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993240"/>
            <a:ext cx="77151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A LA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280" y="1844280"/>
            <a:ext cx="8209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Temas que se distinguen en este derecho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1. La vida y la integridad física y psíquica de la perso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2. La ley protege la vida del que está por nac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3. La pena de muer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4. Apremios ilegíti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I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a vida humana es un bien juríd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objetivo debe otorgar protección a este bien jurídico  subjetivo. (Código Penal, Código Civil, legislación labor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Jurisprudenci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ber de protección del marido respecto de su mujer (C.Stgo.199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Medida de protección”(C.Valpso.1994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Transfusión sanguínea” (C.Suprema 1992,1995, 1996, 1979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urso de Protección para la evacuación de  la ciudad de Chaitén” (C de Puerto Montt, 200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836640"/>
            <a:ext cx="75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99872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Antecedent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rtículo 75 Código Civi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Convención Americana de DD.HH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 “Este derecho estará protegido por la ley y, en general, a partir del momento de la concepción” (artículo 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 Doble encargo al legisl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El aborto y el derecho a la vid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rtículo 342  a 345 del Código Pe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ódigo Sanitario antes de 1989: “Sólo con fines terapéuticos se podrá interrumpir un embarazo…” …”opinión documentada de dos médicos cirujanos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ey 18.826 de 1989: “No podrá ejecutarse ninguna acción cuyo fin sea provocar el aborto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2463480"/>
            <a:ext cx="85690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30920" indent="-43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Importancia de la determinación del inicio de la existencia humana o comienzo de la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3974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cidencia de los descubrimientos bi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eorías al respecto: Concepción, anidación,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viabilidad, desarrollo del sistema nervioso, auto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suficiencia, nacimien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n donde comienza la protección legal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Jurisprudencia: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Fallo del T.C. ante el requerimiento de inconstitucionalidad del DS Nº 48 del Ministerio de Salud “Normas nacionales sobre regulación de fertilidad” (Píldora del día después)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49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206064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a pena de  muerte sólo podrá establecerse por delito contemplado en ley aprobada con quórum calificad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constituyente de 1980 tiende a la restricción en la aplicación de la pena de muerte, poniendo como requisito, su estipulación con quórum calific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olémica ético-jurídico y tendencia internacional hacia su aboli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Antecedentes de su regulació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C. Penal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; Código de Justicia Militar; D.T Nº1 C.Pol.1980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18.314 de 1984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“Conductas terroristas”, modificada por leyes de 1990 y 1991 que rebajaron penas y derogaron conduc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 19.734 de 2001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la reemplazó por presidio perpetuo derogándola en la práctica (adecuación a Tratados de DD.HH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Problemas jurídicos en torno la muerte e importancia jurídica del momento en que se produce. Derecho de la persona a disponer de su propio cuerpo. Ley de Trasplantes.  La Bioét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8:58:32Z</dcterms:created>
  <dc:creator>usuario</dc:creator>
  <dc:description/>
  <dc:language>en-US</dc:language>
  <cp:lastModifiedBy>Fernanda</cp:lastModifiedBy>
  <dcterms:modified xsi:type="dcterms:W3CDTF">2009-04-14T02:00:12Z</dcterms:modified>
  <cp:revision>34</cp:revision>
  <dc:subject/>
  <dc:title>DERECHO  A  LA  VIDA</dc:title>
</cp:coreProperties>
</file>