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EC71-30C8-4BD2-B037-59CA7A4E2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8273-01CC-46C8-B86F-020316E5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AEE6-4AD5-4144-8F22-56A2C27F6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0AF2-4DB6-472F-8FE1-157BC4EAF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3370C-8D34-4E77-B2CC-3E6DFC4FB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BAB6-32E6-469A-AF2A-9BAB12C5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FFAA5-DB99-4E9D-8986-F78DC835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E0B0F-AB3E-4924-98F9-4BC994CD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2265-5DCF-4006-9390-65AAA7A7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0339-CBA9-439C-9833-B162A408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481A-3121-4EA0-9128-2A7BE29F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D757-BC27-401B-96B0-C6863DE1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438B-9617-400A-8984-835C389E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36C3-AFCD-468E-B4A3-68B8D114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B653-7051-45FE-BEC5-58794A4A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FB0FB-FA1C-4469-BDEF-F4BD4682E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AEB0-8E23-4359-86DF-B43F6D779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7D0D8-BDA7-4413-93B1-F4E8D685E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E7553-FA50-4278-B97E-070A9642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D528C-E198-4725-BE13-AAD5C9FC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E3634-AA16-4709-B14C-36538CF4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E66FA-7209-4A93-B7FF-062BAA7D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8D8D-93CA-4BB5-A6EA-58A3E45C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394D5-EAAB-4C69-9217-7A90C111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0ACCD-773F-440E-9FF4-CA0CCA6F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2216B-B205-4148-BF34-5A6E1AF7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39884-3F22-4A3D-8344-CA2450BE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BFEC2-0260-4E0F-B1BD-2621A929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6CDCD-3CE6-4890-9A45-CC6E83A72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D0427-18A7-484E-9EC0-CBC3E26F7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E19D2-A32B-4A12-B6E6-A64195AE7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8C268-1C61-463E-BA13-35A6D59F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A5A88-A68F-4435-8971-91BFC563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678F-1232-4D9C-8324-5CFEC0D3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2C198-AB20-43B9-BBFD-9FA3F898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D8658-6712-4686-ADBF-7110BD3B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87926-12A8-4AB1-A2BF-A7F6C538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CBA91-4D12-4F89-A39B-80801274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D3912-FBBD-4598-9D9D-171D55E0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7842A-C115-4853-A6B4-D1B13A20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867C6-FC6C-4D81-A8AE-C8915A94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67550-DCA5-4F48-B8FF-E2859B01C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60A76-9DEA-4260-974D-739DD9630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4D0B-C455-4E4F-88D9-5E06E826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E521-DD27-44A0-A731-3C1211C6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FCFC-174E-430B-B6E7-C73B7127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60F9-3162-4C76-9F2B-3D7B0ABA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F25C-3820-4643-A650-D6700BF6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1923-924D-4F15-B57C-4ED2E791CA8C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0BD3-FAB1-414F-8B97-38076FC2AA81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8FAD-1226-4299-A275-37DB79DE55F0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3B63-7B69-40A1-9212-F6E23BBFA84B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s-ES" sz="4500" spc="-1" strike="noStrike" u="sng">
                <a:solidFill>
                  <a:srgbClr val="04617b"/>
                </a:solidFill>
                <a:uFillTx/>
                <a:latin typeface="Calibri"/>
              </a:rPr>
              <a:t>19 Nº 2</a:t>
            </a:r>
            <a:br>
              <a:rPr sz="4500"/>
            </a:br>
            <a:br>
              <a:rPr sz="1300"/>
            </a:b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Igualdad ante la Ley</a:t>
            </a:r>
            <a:br>
              <a:rPr sz="4500"/>
            </a:br>
            <a:br>
              <a:rPr sz="4500"/>
            </a:br>
            <a:br>
              <a:rPr sz="4500"/>
            </a:br>
            <a:r>
              <a:rPr b="0" lang="es-ES" sz="2200" spc="-1" strike="noStrike">
                <a:solidFill>
                  <a:srgbClr val="04617b"/>
                </a:solidFill>
                <a:latin typeface="Calibri"/>
              </a:rPr>
              <a:t>Profesora: Ana María García B.</a:t>
            </a:r>
            <a:br>
              <a:rPr sz="2200"/>
            </a:br>
            <a:r>
              <a:rPr b="0" lang="es-ES" sz="2200" spc="-1" strike="noStrike">
                <a:solidFill>
                  <a:srgbClr val="04617b"/>
                </a:solidFill>
                <a:latin typeface="Calibri"/>
              </a:rPr>
              <a:t>Derecho Constitucional II</a:t>
            </a:r>
            <a:br>
              <a:rPr sz="2200"/>
            </a:br>
            <a:r>
              <a:rPr b="0" lang="es-ES" sz="2200" spc="-1" strike="noStrike">
                <a:solidFill>
                  <a:srgbClr val="04617b"/>
                </a:solidFill>
                <a:latin typeface="Calibri"/>
              </a:rPr>
              <a:t>Primer semestre 2009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6" name="Picture 8" descr="logo_uchile"/>
          <p:cNvPicPr/>
          <p:nvPr/>
        </p:nvPicPr>
        <p:blipFill>
          <a:blip r:embed="rId1"/>
          <a:stretch/>
        </p:blipFill>
        <p:spPr>
          <a:xfrm>
            <a:off x="324000" y="333360"/>
            <a:ext cx="11001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93116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4617b"/>
                </a:solidFill>
                <a:uFillTx/>
                <a:latin typeface="Calibri"/>
              </a:rPr>
              <a:t>IGUALDAD ANTE LA LEY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50560" y="1628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Antecedentes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Origen y concepto originario: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“Sometimiento de todas las personas a un mismo estatuto jurídico fundamental para el ejercicio de sus derechos y para el cumplimiento de sus deberes, sin que sea procedente efectuar entre ellas distinciones favorables o adversas en razón de raza, nacionalidad, sexo, profesión grupo social o económico a que se pertenezca”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Convenciones internacionales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: Declaración Univ. DD.HH., Pacto internacional de derechos civiles y políticos; Pacto de derechos económicos sociales y culturales; Convención americana de DD.HH.;Convención internacional sobre eliminación de todas las formas de discriminación racial; Convención sobre la eliminación  de todas las formas de discriminación contra la mujer; Convención sobre los derechos del niño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Derecho comparado: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lemania, Franc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4617b"/>
                </a:solidFill>
                <a:uFillTx/>
                <a:latin typeface="Calibri"/>
              </a:rPr>
              <a:t>IGUALDAD ANTE LA LEY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50920" y="1773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Igualdad ante la ley en Chil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nsagración actual (art. 19 Nº 2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Innovaciones en relación a la Constitución Política 1925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La igualdad ante la ley. En Chile no hay clase 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privilegiad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En Chile no hay esclavos, y el que pise su territorio, 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queda libre. No puede hacerse este tráfico por chilenos. 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El extranjero que lo hiciere, no puede habitar en Chile, ni 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nacionalizarse en la República.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(Artículo 10 nº1, Constitución de 1925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a igualdad es un principio rector que rige todo el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ordenamiento jurídic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90400" y="907560"/>
            <a:ext cx="822960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4617b"/>
                </a:solidFill>
                <a:uFillTx/>
                <a:latin typeface="Calibri"/>
              </a:rPr>
              <a:t>IGUALDAD ANTE LA LEY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4.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Alcances e interpretación de la norma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 Expresión de una igualdad “sociológica”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* No existe igualdad absolut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 Expresión del principio de la “generalidad” (fallo Corte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uprema de 1948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5.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Mandato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constitucional al legislador y a la autoridad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 Control jurídico a favor del principio de supremacía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nstitucional y del derecho de igualda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 Mecanismos de defensa contra las infracciones o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gravi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4617b"/>
                </a:solidFill>
                <a:uFillTx/>
                <a:latin typeface="Calibri"/>
              </a:rPr>
              <a:t>IGUALDAD ANTE LA LEY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rohibición de discriminaciones </a:t>
            </a:r>
            <a:r>
              <a:rPr b="1" i="1" lang="es-ES" sz="2600" spc="-1" strike="noStrike">
                <a:solidFill>
                  <a:srgbClr val="000000"/>
                </a:solidFill>
                <a:latin typeface="Constantia"/>
              </a:rPr>
              <a:t>arbitrarias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(no fundadas en la razón, caprichosas, falto al bien común) CENC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ey 19.585 eliminación de la distinción entre hijos legítimos e ilegítim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Discriminación </a:t>
            </a:r>
            <a:r>
              <a:rPr b="1" i="1" lang="es-ES" sz="2400" spc="-1" strike="noStrike">
                <a:solidFill>
                  <a:srgbClr val="000000"/>
                </a:solidFill>
                <a:latin typeface="Constantia"/>
              </a:rPr>
              <a:t>no arbitraria.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jemplo: Exención tributaria a una determinada zona geográfica o la discriminación del artículo 19 y 20 del Código del Trabaj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o prohibido es hacer diferencias entre iguales, mas no entre distintos (CENC y jurisprudencia de Corte Suprema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4617b"/>
                </a:solidFill>
                <a:uFillTx/>
                <a:latin typeface="Calibri"/>
              </a:rPr>
              <a:t>Recurso de protección y fallo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l numeral 2º del artículo 19 está garantizado por el recurso de protección y,  gracias a su amplitud, es utilizado como instrumento para cautelar otros derechos constitucionales no tutelados por esta acción. Ejemplo, derecho a la educació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entencias relevant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Tribunal Constitucional, inaplicabilidad por inconstitucionalidad del Art. 595 del COT, que estable la institución del abogado de turno (Rol 755-2007, TC. Marzo 2008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Fallo de la cuarta sala de la Corte Suprema, que priva de la tuición de tres menores a madre homosexual. (jueza Karen Atala, CS200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1T03:46:14Z</dcterms:created>
  <dc:creator>usuario</dc:creator>
  <dc:description/>
  <dc:language>en-US</dc:language>
  <cp:lastModifiedBy>Fernanda</cp:lastModifiedBy>
  <dcterms:modified xsi:type="dcterms:W3CDTF">2009-04-14T01:59:28Z</dcterms:modified>
  <cp:revision>38</cp:revision>
  <dc:subject/>
  <dc:title>IGUALDAD ANTE LA LEY</dc:title>
</cp:coreProperties>
</file>