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B856-EA52-4DD6-9A50-1F9D8FBAB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75F4-10E6-4FB2-B0EC-CC3E68877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25F7-2573-43F0-8283-1C935E7E6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0E4E-CEAE-4233-A9BD-C893E5158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094FB-A159-4857-BCAA-C99EE9B92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3671B-C0A6-4AF7-9718-B54A80A0B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EC76A-5442-4605-B1A1-C42BCE901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7FF61-4340-4E7C-A250-E7B6442F3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918E7-A07F-4B21-A2AC-B650FCCC0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D93C3-BB08-49D4-BB4D-3E5DC64A7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65602-91A7-49C6-9BC6-1B5D3E79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413F-D813-4CBE-A0FB-C4996B744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E630A-5099-4C7D-A0AB-51E6DF08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2196B-5A29-4301-855E-072925A0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A73F8-FC58-4D19-AA17-4E22FCE77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735FC-517E-4309-8FF5-F98C465E9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D13E4-A0C4-45AD-929A-CA3C3ED12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FF7B4-10FA-4B05-B431-1C80E73D5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6A27E-8297-4E81-916E-EB43D7F4B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EC786-4A37-4790-B172-00238E865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15E7D-7208-4777-99D1-B37BE4873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C1465-843B-424D-8389-D3725C107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B9A1-B7A4-49F9-92E9-27CFDAD47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931B8-42CB-4081-A8AA-0150DE8AD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7F77C-1658-4E73-8281-2EAB3B22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80DE9-3486-4370-83B6-75E26BD4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944EE-B56B-4D1F-A631-95BEEB11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A3912-CA7A-41CD-8889-DBAC23884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613F5-F731-4D95-9F67-B2717D84E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3707F-718D-4D2C-B0A2-3517DE46E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059D6-735E-4D22-91A0-EDF88FD05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1CEDA-D258-43C0-87B7-38C759F1E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398E4-C4BB-4DAB-A2B3-E88DE9282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0DC2-269C-46E2-950A-3B3807249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59155-7848-4B41-ACE6-1AB6D0093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9F42E-160F-49AA-83F9-3B7390770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72BC7-EE04-4B74-BB26-A6F928E9A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B1774-A0DD-413B-AC0D-4657B5DA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3340A-7832-4EA1-ADC3-0D9B9DE7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7BE55-4333-4AD6-8C36-75CBDF93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F72EE-5CA7-44DA-9EB7-DA9BDFAF4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F2A1B-0F33-4EE7-A89E-293E2BC54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33532-59CB-49A9-89F2-285ED82C6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98A1-A8C0-46F7-B7FC-8EBE0D33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F775-743F-460F-A0F2-F951049DB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D99D-9C8B-4366-8E15-B76CC536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43AA-9839-4707-A88B-61E08A33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F565-CFB6-4734-94E9-37DA50B0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99A03-761C-40BA-A26A-E9C08B156AE2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C55B1-4738-43EC-8A3E-5B0C6B9203A5}" type="slidenum">
              <a:rPr b="0" lang="es-E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E3F93-BCF8-450A-8CED-51D25F4692F8}" type="slidenum">
              <a:rPr b="0" lang="es-E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96037-769F-47CD-889A-2C8AAD9B3936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0" lang="es-ES" sz="4500" spc="-1" strike="noStrike" u="sng">
                <a:solidFill>
                  <a:srgbClr val="04617b"/>
                </a:solidFill>
                <a:uFillTx/>
                <a:latin typeface="Calibri"/>
              </a:rPr>
              <a:t>19 Nº 2</a:t>
            </a:r>
            <a:br>
              <a:rPr sz="4500"/>
            </a:br>
            <a:br>
              <a:rPr sz="1300"/>
            </a:b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Igualdad ante la Ley</a:t>
            </a:r>
            <a:br>
              <a:rPr sz="4500"/>
            </a:br>
            <a:br>
              <a:rPr sz="4500"/>
            </a:br>
            <a:br>
              <a:rPr sz="4500"/>
            </a:br>
            <a:r>
              <a:rPr b="0" lang="es-ES" sz="2200" spc="-1" strike="noStrike">
                <a:solidFill>
                  <a:srgbClr val="04617b"/>
                </a:solidFill>
                <a:latin typeface="Calibri"/>
              </a:rPr>
              <a:t>Profesora: Ana María García B.</a:t>
            </a:r>
            <a:br>
              <a:rPr sz="2200"/>
            </a:br>
            <a:r>
              <a:rPr b="0" lang="es-ES" sz="2200" spc="-1" strike="noStrike">
                <a:solidFill>
                  <a:srgbClr val="04617b"/>
                </a:solidFill>
                <a:latin typeface="Calibri"/>
              </a:rPr>
              <a:t>Derecho Constitucional II</a:t>
            </a:r>
            <a:br>
              <a:rPr sz="2200"/>
            </a:br>
            <a:r>
              <a:rPr b="0" lang="es-ES" sz="2200" spc="-1" strike="noStrike">
                <a:solidFill>
                  <a:srgbClr val="04617b"/>
                </a:solidFill>
                <a:latin typeface="Calibri"/>
              </a:rPr>
              <a:t>Primer semestre 2009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6" name="Picture 8" descr="logo_uchile"/>
          <p:cNvPicPr/>
          <p:nvPr/>
        </p:nvPicPr>
        <p:blipFill>
          <a:blip r:embed="rId1"/>
          <a:stretch/>
        </p:blipFill>
        <p:spPr>
          <a:xfrm>
            <a:off x="324000" y="333360"/>
            <a:ext cx="110016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93116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04617b"/>
                </a:solidFill>
                <a:uFillTx/>
                <a:latin typeface="Calibri"/>
              </a:rPr>
              <a:t>IGUALDAD ANTE LA LEY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50560" y="1628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1.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Antecedentes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Origen y concepto originario: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“Sometimiento de todas las personas a un mismo estatuto jurídico fundamental para el ejercicio de sus derechos y para el cumplimiento de sus deberes, sin que sea procedente efectuar entre ellas distinciones favorables o adversas en razón de raza, nacionalidad, sexo, profesión grupo social o económico a que se pertenezca”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Convenciones internacionales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: Declaración Univ. DD.HH., Pacto internacional de derechos civiles y políticos; Pacto de derechos económicos sociales y culturales; Convención americana de DD.HH.;Convención internacional sobre eliminación de todas las formas de discriminación racial; Convención sobre la eliminación  de todas las formas de discriminación contra la mujer; Convención sobre los derechos del niño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Derecho comparado: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Alemania, Franci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04617b"/>
                </a:solidFill>
                <a:uFillTx/>
                <a:latin typeface="Calibri"/>
              </a:rPr>
              <a:t>IGUALDAD ANTE LA LEY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50920" y="17730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2.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Igualdad ante la ley en Chil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onsagración actual (art. 19 Nº 2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Innovaciones en relación a la Constitución Política 1925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La igualdad ante la ley. En Chile no hay clase 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privilegiad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En Chile no hay esclavos, y el que pise su territorio, 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queda libre. No puede hacerse este tráfico por chilenos. 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El extranjero que lo hiciere, no puede habitar en Chile, ni 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nacionalizarse en la República.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(Artículo 10 nº1, Constitución de 1925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La igualdad es un principio rector que rige todo el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ordenamiento jurídic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90400" y="907560"/>
            <a:ext cx="822960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04617b"/>
                </a:solidFill>
                <a:uFillTx/>
                <a:latin typeface="Calibri"/>
              </a:rPr>
              <a:t>IGUALDAD ANTE LA LEY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4.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Alcances e interpretación de la norma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 Expresión de una igualdad “sociológica”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* No existe igualdad absolut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 Expresión del principio de la “generalidad” (fallo Corte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Suprema de 1948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5.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Mandato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constitucional al legislador y a la autoridad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 Control jurídico a favor del principio de supremacía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onstitucional y del derecho de igualda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 Mecanismos de defensa contra las infracciones o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agravio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866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04617b"/>
                </a:solidFill>
                <a:uFillTx/>
                <a:latin typeface="Calibri"/>
              </a:rPr>
              <a:t>IGUALDAD ANTE LA LEY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rohibición de discriminaciones </a:t>
            </a:r>
            <a:r>
              <a:rPr b="1" i="1" lang="es-ES" sz="2600" spc="-1" strike="noStrike">
                <a:solidFill>
                  <a:srgbClr val="000000"/>
                </a:solidFill>
                <a:latin typeface="Constantia"/>
              </a:rPr>
              <a:t>arbitrarias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(no fundadas en la razón, caprichosas, falto al bien común) CENC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Ley 19.585 eliminación de la distinción entre hijos legítimos e ilegítimo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Discriminación </a:t>
            </a:r>
            <a:r>
              <a:rPr b="1" i="1" lang="es-ES" sz="2400" spc="-1" strike="noStrike">
                <a:solidFill>
                  <a:srgbClr val="000000"/>
                </a:solidFill>
                <a:latin typeface="Constantia"/>
              </a:rPr>
              <a:t>no arbitraria.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Ejemplo: Exención tributaria a una determinada zona geográfica o la discriminación del artículo 19 y 20 del Código del Trabaj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Lo prohibido es hacer diferencias entre iguales, mas no entre distintos (CENC y jurisprudencia de Corte Suprema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04617b"/>
                </a:solidFill>
                <a:uFillTx/>
                <a:latin typeface="Calibri"/>
              </a:rPr>
              <a:t>Recurso de protección y fallo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El numeral 2º del artículo 19 está garantizado por el recurso de protección y,  gracias a su amplitud, es utilizado como instrumento para cautelar otros derechos constitucionales no tutelados por esta acción. Ejemplo, derecho a la educació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Sentencias relevant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Tribunal Constitucional, inaplicabilidad por inconstitucionalidad del Art. 595 del COT, que estable la institución del abogado de turno (Rol 755-2007, TC. Marzo 2008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Fallo de la cuarta sala de la Corte Suprema, que priva de la tuición de tres menores a madre homosexual. (jueza Karen Atala, CS2004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1T03:46:14Z</dcterms:created>
  <dc:creator>usuario</dc:creator>
  <dc:description/>
  <dc:language>en-US</dc:language>
  <cp:lastModifiedBy>Fernanda</cp:lastModifiedBy>
  <dcterms:modified xsi:type="dcterms:W3CDTF">2009-04-14T01:59:28Z</dcterms:modified>
  <cp:revision>38</cp:revision>
  <dc:subject/>
  <dc:title>IGUALDAD ANTE LA LEY</dc:title>
</cp:coreProperties>
</file>