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E50-B4F4-4B27-8EDD-1B00E02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E25-235B-4A88-91A5-BDE5ABA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C12-472A-400E-9102-DA5FB813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E69-DF1D-4EC9-AC43-0FC69806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DD0-7510-47BA-B6C9-1AD1752E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5D7F-A5AD-4764-BD15-8CDF70B6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47E-DBDC-4B1E-9104-AA3D829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6E9-AD42-45EE-A061-AB000B5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CF3-BD55-412C-B8BB-6E860C12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D5E-6B15-4132-B12E-5BEC84D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352-B2A9-4FB3-B1D7-73BF7E2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77C-81FE-44F7-8095-2359FC9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3AB-AD42-403E-A4D1-3FB4573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B3FA-7073-418E-8C81-1CD3955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127-F3E3-4070-B277-29B7D39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8B6D-AD93-4DE9-9906-4745DE35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CEB-1FD8-45EE-BD1A-911C5A55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A3BB-FA25-441E-BCE1-B8FDA2D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C4B3-2421-4C61-99F1-CC9CB5B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38CF-123D-4B54-80CD-62BE5C7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C677-3253-4773-89B2-11EE64E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80EE-3188-4A40-ACC2-92A85EC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807-B312-46EE-84DB-8760A02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60D1-03EB-4EF1-B819-B3DD512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3386-1F76-4A9A-8A0D-28F0395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571E-2781-4BD5-B4D5-0B70616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2390-81D5-4923-B2B5-CA35CC98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B65-93F9-43BA-BEAD-3B27614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83FB-9A52-4C5F-B7B3-D59F402D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18EF-109F-4C44-8621-F50BCFD7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23FB-8E92-4F0F-880C-A3DF17E3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45F6-4AEC-4E2E-A66B-3465EA93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4C49-01DE-4E35-8256-B1555190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CE5-5E7D-4FF1-AFDD-186EC22C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F74D-9AAD-4611-B15A-F4031C4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F13D-5392-455A-BDF1-D5DF9872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5A97-F5CE-41FC-8665-BF673A1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420E-0B02-4688-BC30-5D583B2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D655-C459-43DB-AF95-A86F596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4688C-558F-42E1-811D-B4525A6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8967-2F57-45E7-872F-C24CBF9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6610-67ED-47B5-BCB2-D53D2D23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6560-DC75-49FE-B575-A707B2A0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149-862E-4DEB-9477-5B08D30E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04A-1951-4157-B071-78DAB7BF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EA2-A3D3-4FC1-A33A-76774E9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D8A-B3EC-46BC-A857-8BF15FD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28A-769E-4015-8191-17CAFAC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E36-983C-414C-A117-8B8C6A4C0D7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46E-9FF8-43E5-AD6C-AE2E5CB25849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3A04-8523-4C23-9388-9AF778DEF3AE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0B0-BC2E-4E33-9D07-C6E7C310EBB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 y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claración Univ. DD.HH., Pacto internacional de derechos civiles y políticos; Pacto de derechos económicos sociales y culturales; Convención americana de DD.HH.;Convención internacional sobre eliminación de todas las formas de discriminación racial; Convención sobre la eliminación  de todas las formas de discriminación contra la mujer; 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comparado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lemania, Fra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Artículo 10 nº1, Constitución de 19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Fernanda</cp:lastModifiedBy>
  <dcterms:modified xsi:type="dcterms:W3CDTF">2009-04-14T01:59:28Z</dcterms:modified>
  <cp:revision>38</cp:revision>
  <dc:subject/>
  <dc:title>IGUALDAD ANTE LA LEY</dc:title>
</cp:coreProperties>
</file>