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5A6-4269-47C8-AFC7-8FD6D6A0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C2B-D2D4-46C5-A872-116F3981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926-AA32-475D-A22B-FDE205F0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B4A-8C71-40DB-9373-B2D5D8EF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06B7-C958-4252-8AA1-4052DC54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7B8E-3666-4FB1-A293-1DFC84C8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881F-B4E9-456B-950B-13187223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8E59-70A4-4212-9158-239D52F9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79FB-8C98-4431-A3D8-8B04D771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0F40-9619-46A6-9FAF-C041AA13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AE34-9B2C-4A4D-AFB8-71E9139A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B8A-33B8-4ED5-A5AB-F6217E69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1EBE-1E94-4999-9683-871A7D50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0B92-8261-4ABF-9ED4-170F3FD7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7784-357D-481D-AE8A-F32383D4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A9F0-C5D7-4B76-9A28-1ED89CB3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10AE-727F-4C1D-9B26-C59462F5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E90-55B5-4410-827E-C0B91784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BB4-21A8-44BA-AA48-2DE78BD8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0F0-C2E7-4CC1-AA28-887BD722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8C1-F0CB-4EEF-A1C5-7F16D5B6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EC4-7324-4C2B-9843-C036F864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EF1-0F11-45C5-84BF-54748BA1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9D4-6632-4A15-B871-4080489B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8505-E173-4EF3-96E9-C2263AADB7C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4379-20A6-4735-A162-891DDF54265E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1 </a:t>
            </a:r>
            <a:br>
              <a:rPr sz="4000"/>
            </a:b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vida y a la integridad física y psíquica de la persona.</a:t>
            </a: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Fernanda Villena Herrera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6" name="Picture 6" descr="logo_uchile"/>
          <p:cNvPicPr/>
          <p:nvPr/>
        </p:nvPicPr>
        <p:blipFill>
          <a:blip r:embed="rId1"/>
          <a:stretch/>
        </p:blipFill>
        <p:spPr>
          <a:xfrm>
            <a:off x="179280" y="260280"/>
            <a:ext cx="1044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6840" y="159984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 DFL. N° 1 de 2005. M.S. políticas gubernamentales de salu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 Normas de regulación de fertilidad, no constituyen un acto impositivo del Estad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 No existe exclusión ni inclusión de la familia en la entrega de anticonceptivo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allo: “Píldora del día después”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Precedentes jurisprudenci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Resolución exenta N°584- 2006. Las normas nacionales de regulación de fertilidad, deben abordarse mediante D.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Rol 2186-2005. C.S. Centro juvenil AGES contra el registro sanitar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uestiones de previo y especial pronunciamiento.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Impugnación de una cuestión de hecho ajena a la competencia del tribun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La oportunidad para evaluar si un medicamento puede afectar los derechos de las personas, se presenta cuando aquel se registra. (Plazo 30 días, luego de la publicación o notificación del D.S. impugnado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Se ha solicitado al Tribunal efectuar juicios de méri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Fallo: “Píldora del día después”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Observaciones en cuanto al fond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1.- En cuanto a la eventual vulneración del derecho a la vid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Desde cuando se considera existe embaraz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onvención interamericana de DDHH, no interpreta el d° a la vida desde la concepció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La Constitución no se pronuncia desde cuando comienza la vida lo remite al legislado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Desiguldad que produciría el acoger el reclam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Inconstitucionalidad planteada respecto del Art. 19 N° 10 de la Constitu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El D.S. 48 de 2007, es para los profesionales de la salud, no imponiendo derechos ni deberes a los pad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Confidencialidad médico paci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Niños y niñas titulares de derechos origin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Convención de derechos del niño: Art. 24, derecho de niño de ejercer por si mismo una salud sexual y reproductiv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Art. 4 Conv. de d° del niño.Libertad de pensamiento, conciencia  y relig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4920" y="16002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	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Observaciones  del Contralor General de la Repúbl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Competencia de la Contraloría General de la Rep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No se vulnera la igualdad ante la ley por el fallo de la C.S. de 200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No violenta derecho preferente de los padres a educar a los hijos, no es una imposición del Est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19 N° 9. El E° vela por el libre e igualitario acceso a la salu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mplicancias de los Ministros Raúl Bertelsen y Enrique Navarr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tecedentes acompañados al proces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ISTA DE LA CAUS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arte requirente: Carmen Domíngu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arte requerida: Davor Harasi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.- Cuestiones de Previo y especial pronunciamien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Cuestión de hecho ajena a la potestad del T.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PR, faculta al TC, para resolver la constitucionalidad en términos amplios. “cualquiera sea el vicio invocado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Inoportunidad para evaluar los efectos de un fármaco que ya cuenta con un registro sanitar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TC no puede desconocer los eventuales efectos nocivos que puede provocar su inges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Improcedencia de la formulación de juicios de méri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analizan cuestiones de constituciona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nunciamiento del T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Píldora del día despué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a dosis de Levonogestrel, o,75 m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arias dosis de método Yuzp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DIU. (no se pronunci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Infracción por parte de un órgano público de valores, principios, o reglas contenidas en la Carta Funda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1.- Posible vulneración del Art. 19 N° 10 de la Constitu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arco de confidencialidad médico paci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2.- Infracción del Art. 19 N° 2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3.-Derecho a la vi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octrina científica, coincidencia en que la “píldora del día después es anticonceptiv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iferencia entre anticoncepción de emergencia y contracepción de emergenc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osibles implicancias en el embrión determinarían al juicio de constitucional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ALLO ROL: 740-2007. Tribunal Constitucion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Fallo “Píldora del día después”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Impugnación por inconstitucionalidad del D.S. 48 DEL 2007 del Ministerio de Salud. “Normas nacionales sobre regulación de la fertilidad”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Art. 93 N° 16 de la Constitución de 1980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2640"/>
            <a:ext cx="8642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Tanto en el método Yuzpe como en el de levonorgestrel 0.75 mg., coincidencia dificultad y complejidad en su determinació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Efectos de la pastilla del días despué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1.- Impedir la ovulació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2.- Impedir la migración de los espermatozoides para fecundar el ovul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3.- Impedir la implementación del óvulo fecunda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Evidencia científica contradictoria, no hay claridad en relación ala determinación si el fármaco afectará la vida de un ser human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fectos de la indeterminación en relación a la implementació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Momento en que se generaría la vid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s advertencias en los fármacos, señalan que trae riesgo en su implementació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ciencia médica no puede excluir que la píldora del día después, pueda afectar la implementación.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octrina predominante señala que el inicio de la vida, comienza con la concepción. (singularidad del embrió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mbio constitucional de “hombres” a “personas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rt. 19 N° 1 de la CPR orden al Legislador a proteger la vida del que está por nac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rmas sobre regulación de fertilidad, duda razonab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vilegio de la interpretación que favorezca a la person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resuelv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1-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acoge el requerimiento, únicamente en la parte del D.S. 48 de 2007 del M.S. donde se refiere a la anticoncepción de emergenc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2.- Se desestima la referencia a los DI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3.- Se rechaza la impugnación de consejería a adolescentes en el marco de confidencia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 ministr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 José Luis Ce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 Raúl Bertels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Marisol Peñ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s concurre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rio Fernánde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rcelo Veneg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inistros diside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an Colomb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ernán Vodanov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rancisco Fernánde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orge Correa Sut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 disidente de Juan Colombo Campbe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1.- Procedencia del requerimien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2.- Derechos garantizados por el constituyente en el Art. 19 N° 1. Nasciturus no tiene protección constituci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) Art. 74 CC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i) Art. 75 del CC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ii) Art. 119 del Código Sanitari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v) Art. 342 y ss del Código Penal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rga de la prueb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terminación del inicio de la vi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tos que gozan de presunción de legalidad. Ley 1988º, número 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testad reglamentaria de ejecución del Presidente de la República. Art. 32 N° 6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Órganos representantes del pueblo soberano, presunción de leg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osibilidad de imponer concepciones religiosas y morales. Ejercicio de la libertad de creenci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 disidente Hernán Vodanovi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untos de la controvers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1.- La existencia, rango y entidad de los derechos del embrión preimplantaci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2.- Eventual conflicto entre un interés constitucionalmente protegido y otros derechos fundamentales, como lo orden reproductivo y sexu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aborto no es un ilícito constituci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rechos sexuales y reproductivos de la mujer. Art. 5 inc.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ventual conflicto entre el interés protegido del nasciturus y los derechos de la muj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fectos reales de la decisión jurisdiccion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Fallo “Píldora del día después”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impugnad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istribución de la píldora del día despué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 Una sola pastilla, generalmente,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evornogestrel 0.75 m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Varias concentraciones a través de método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Yuzp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ispositivo intrauterino. (DIU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Constant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nstantia"/>
              </a:rPr>
              <a:t>- T de Cobre 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ech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trimonio de Karen Atala y Jaime Lóp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par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dre asume condición de homosexu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rgumentos de la parte recurr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arrolla integral de la niñas es afectado por la opción sexual de la m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terés superior de las niñas, exige sacar a la menores de as consecuencias perniciosas de una madre homosexu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vida junto al padre traerá mayor seguridad en el desarrollo emocional y psicológ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eces de segunda instancia privilegiaron el interés de la madre que el de las men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Jueces de segunda instancia transgredieron los principios que permiten apreciar la prueba en concienc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Jueza Karen Atal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rgumentos de la Corte. (José Luis Pérez, Urbano Marín, Jorge Medin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ejercicio de las potestades y la ejecución de los deberes deben siempre llevarse a cabo en el marco básico que orienta el ordenamiento jurídico Art. 222 C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regla que le entrega a la madre el cuidado personal de los menores no es absolu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Jueza Karen Atal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eces cometieron falta o abuso grav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1.- Aplicar la norm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2.- Apreciar los antecedentes. (Privilegio prueba pericial a la testimonia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xplicitación de la condición homosexual antepone los interés en desmedro de las niñ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fusión de roles sex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Jueza Karen Atal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arrollo del bienestar psíquico y emocional de las men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do de vulnerabilidad so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ircunstancias que llevan a otorgar el cuidado personal al otro p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Jueza Karen Atal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 disidente (José Benquis, Orlando Álvare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recurso de queja es un recurso disciplinario, para corregir falta grave o abus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uición como regla general a la m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antecedentes no puede especularse que la madre haya descuidado o maltratado a las hij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Jueza Karen Atal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madre no tiene inhabilidad mor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anción innominada sobre la m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eces de segunda instancia han dado correcta aplicación a la normativa vig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Fallo “Píldora del día después”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Fundamento de la impugnació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efectos tanto de la pastilla del día después, como del DIU, impiden la anidación de individu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Disposiciones constitucionales afectad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5 inc. 2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19 N° 10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6 y 7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19 N°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19 N°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2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allo : “Píldora del día después”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gumentación require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Regulación contendida en el DS N° 48 del año 2007, es materia de le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Eventual vulneración del derecho a la vid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Fallo C.S. 30 de Agosto de 2001. Rol 2186- 2001: “Philippi Izquierdo con Laboratorio Chile S.A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Art. 19 N° 1 le confiere al nasciturus la calidad de sujeto de derech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Art. 5 inc. 2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vención Americana de DDHH. Art. 4 inc. 1 “Toda persona tiene derecho a que se le respete su vid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e derecho estará protegido por ley, en general, desde el momento de la concepció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onvención de Derechos del niño: Art. 1, 3.2 y 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ódigo Civil: Art. 7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ódigo Penal, Art. 85 “Presunción moral”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Década del 1990, prohibición por parte del M.S. de pastillas con levornogentrel 0.75 mg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Principio pro vid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Art. 119 del Código Sanitari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Principio pro homb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3.- Las disposiciones administrativas, vulnerarían la igualdad ante la le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4.- Las normas administrativas cuestionadas pueden contravenir el derecho preferente y el deber de los padres de educar a sus hij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Fallo: “Píldora del día después”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Observaciones realizadas por la Presidenta de la Repúblic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1.- Antecedentes generales del D.S. N° 48 de 2007 del M.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gulación de la fertilidad es una materia que debe regularse por D.S. sujeto al trámite de toma de razón por parte de la C.G.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Objetos del decre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) Reducción de la inequidad reproductiv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i) Reducción de los abor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ii) Reducción de los embarazos no desead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No se vulnera el deber ni el derecho de educación preferente de los padres, por el elemento voluntariedad y la relación que debe darse entre médico paci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2.- Antecedentes respecto de las normas nacionales de regulación de la fertil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Art. 113 de la CPR, obliga a la administración a establecer políticas de desarroll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1:16:36Z</dcterms:created>
  <dc:creator>usuario</dc:creator>
  <dc:description/>
  <dc:language>en-US</dc:language>
  <cp:lastModifiedBy>Fernanda</cp:lastModifiedBy>
  <dcterms:modified xsi:type="dcterms:W3CDTF">2009-03-27T05:23:32Z</dcterms:modified>
  <cp:revision>65</cp:revision>
  <dc:subject/>
  <dc:title>DERECHO A LA PRIVACIDAD Y A LA   HONRA  (Art. 19 No 4)</dc:title>
</cp:coreProperties>
</file>