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CEE-D9C6-4D18-8FE1-A1F8D78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175-98F0-41FA-A706-E1678F3F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D89-E57F-44E0-A426-B07EBD47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52D-2164-47C4-BC78-40B150E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DCD-5987-43CE-B10B-AC42D4C6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0A9F-3419-47C4-9F23-58EBC38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DD7-CC5E-45E0-BC88-EBF995D4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561A-48D5-4FBD-AE90-527B8AC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0F4-6682-4DB1-BEAB-42C676BA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7EC-555A-4668-B261-38414B6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83F7-D03E-42FA-803E-6F2CAE7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E2C-8089-4810-9D39-0B0B9F4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7D17-3F03-4514-BA64-B9A4AF7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DD8-A3F2-48A7-AC51-49C3076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37F-B6E7-446D-8BAD-5545CEB4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B5A-A4AA-4F11-BB91-1B49E4E4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18CB-5E7B-4076-A5CA-3DFD5129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947-F6EC-4404-A41C-98D317D4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E91-E375-4CEB-A0C6-26346F0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4BD-BE2E-42AA-B5A0-060AD8E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C6C-0226-4466-9FE6-7781C5C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EE8-777D-4842-9B70-0D1724C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722-50C9-4021-936E-9AD1B120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64E-F42D-43F2-8B6C-0120F4B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D0F0-7EA8-4091-BDAF-A4A322055FE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9A0-FB70-4A86-9BCB-54EB1384ABA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1 </a:t>
            </a: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vida y a la integridad física y psíquica de la person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Fernanda Villena Herrera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DFL. N° 1 de 2005. M.S. políticas gubernamentales de salu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rmas de regulación de fertilidad, no constituyen un acto impositivo del Estad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 existe exclusión ni inclusión de la familia en la entrega de anticonceptivo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Precedentes jurisprudenci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esolución exenta N°584- 2006. Las normas nacionales de regulación de fertilidad, deben abordarse mediante D.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ol 2186-2005. C.S. Centro juvenil AGES contra el registro sanita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estiones de previo y especial pronunciamiento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mpugnación de una cuestión de hecho ajena a la competencia del tribu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a oportunidad para evaluar si un medicamento puede afectar los derechos de las personas, se presenta cuando aquel se registra. (Plazo 30 días, luego de la publicación o notificación del D.S. impugnad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Se ha solicitado al Tribunal efectuar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en cuanto al fond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En cuanto a la eventual vulneración del 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de cuando se considera existe embaraz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interamericana de DDHH, no interpreta el d° a la vida des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a Constitución no se pronuncia desde cuando comienza la vida lo remite al legislad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iguldad que produciría el acoger el reclam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constitucionalidad planteada respecto del Art. 19 N° 1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l D.S. 48 de 2007, es para los profesionales de la salud, no imponiendo derechos ni deberes a los pad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fidencialidad médico pac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iños y niñas titulares de derechos origin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vención de derechos del niño: Art. 24, derecho de niño de ejercer por si mismo una salud sexual y reproduc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4 Conv. de d° del niño.Libertad de pensamiento, conciencia  y relig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	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Observaciones  del Contralor General de la Repúbl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mpetencia de la Contraloría General de la Re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se vulnera la igualdad ante la ley por el fallo de la C.S. de 2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violenta derecho preferente de los padres a educar a los hijos, no es una imposición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19 N° 9. El E° vela por el libre e igualitario acceso a la sal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ncias de los Ministros Raúl Bertelsen y Enrique Navarr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cedentes acompañados a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TA DE LA CAU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irente: Carmen Domíngu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erida: Davor Haras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.- Cuestiones de Previo y especial pronuncia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Cuestión de hecho ajena a la potestad del T.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PR, faculta al TC, para resolver la constitucionalidad en términos amplios. “cualquiera sea el vicio invocad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Inoportunidad para evaluar los efectos de un fármaco que ya cuenta con un registro sanit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TC no puede desconocer los eventuales efectos nocivos que puede provocar su inges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mprocedencia de la formulación de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analizan cuestiones de constitucion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nunciamiento del 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Píldora del día despué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osis de Levonogestrel, o,75 m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arias dosis de método Yuz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DIU. (no se pronu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fracción por parte de un órgano público de valores, principios, o reglas contenidas en la Carta Funda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Posible vulneración del Art. 19 N° 10 de la Constitu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rco de confidencialidad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Infracción del Art. 19 N° 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Derecho a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octrina científica, coincidencia en que la “píldora del día después es anticoncep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ferencia entre anticoncepción de emergencia y contracepción de emerg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bles implicancias en el embrión determinarían al juicio de constitucio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ROL: 740-2007. Tribunal Constitucio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allo “Píldora del día después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Impugnación por inconstitucionalidad del D.S. 48 DEL 2007 del Ministerio de Salud. “Normas nacionales sobre regulación de la fertilidad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93 N° 16 de la Constitución de 198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Tanto en el método Yuzpe como en el de levonorgestrel 0.75 mg., coincidencia dificultad y complejidad en su determin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fectos de la pastilla del días despué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1.- Impedir la ovul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2.- Impedir la migración de los espermatozoides para fecundar el ovul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3.- Impedir la implementación del óvulo fecund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videncia científica contradictoria, no hay claridad en relación ala determinación si el fármaco afectará la vida de un ser human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fectos de la indeterminación en relación a la implementació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omento en que se generarí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s advertencias en los fármacos, señalan que trae riesgo en su implementa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ciencia médica no puede excluir que la píldora del día después, pueda afectar la implementación.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octrina predominante señala que el inicio de la vida, comienza con la concepción. (singularidad del embrió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mbio constitucional de “hombres” a “persona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t. 19 N° 1 de la CPR orden al Legislador a proteger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rmas sobre regulación de fertilidad, duda razon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ilegio de la interpretación que favorezca a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resuel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coge el requerimiento, únicamente en la parte del D.S. 48 de 2007 del M.S. donde se refiere a la anticoncepción de emerg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Se desestima la referencia a los DI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3.- Se rechaza la impugnación de consejería a adolescentes en el marco de confidenci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ministr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José Luis C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aúl Bertels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Marisol Peñ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s concur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i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elo Veneg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nistros disid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an Colomb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rnán Vodanov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rancisc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ge Correa Sut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de Juan Colombo Campb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Procedencia del requer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Derechos garantizados por el constituyente en el Art. 19 N° 1. Nasciturus no tiene protección constitu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) Art. 74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) Art. 75 del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i) Art. 119 del Código Sanitar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v) Art. 342 y ss del Código Pen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 de la prue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terminación del inicio de la v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os que gozan de presunción de legalidad. Ley 1988º, número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testad reglamentaria de ejecución del Presidente de la República. Art. 32 N° 6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Órganos representantes del pueblo soberano, presunción de leg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osibilidad de imponer concepciones religiosas y morales. Ejercicio de la libertad de creenc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Hernán Vodanov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untos de la controvers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La existencia, rango y entidad de los derechos del embrión preimplanta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Eventual conflicto entre un interés constitucionalmente protegido y otros derechos fundamentales, como lo orden reproductivo y sex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aborto no es un ilícito constitu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rechos sexuales y reproductivos de la mujer. Art. 5 inc.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ventual conflicto entre el interés protegido del nasciturus y los derechos de la muj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ectos reales de la decisión jurisdicc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impugnad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tribución de la píldora del día despué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Una sola pastilla, generalmente,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evornogestrel 0.75 m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Varias concentraciones a través de método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uzp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positivo intrauterino. (DIU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- T de Cobre 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ch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rimonio de Karen Atala y Jaime Lóp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pa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asume condición d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parte recurr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a integral de la niñas es afectado por la opción sexual d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rés superior de las niñas, exige sacar a la menores de as consecuencias perniciosas de una madr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vida junto al padre traerá mayor seguridad en el desarrollo emocional y psicológ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privilegiaron el interés de la madre que e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Jueces de segunda instancia transgredieron los principios que permiten apreciar la prueba en conci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Corte. (José Luis Pérez, Urbano Marín, Jorge Medi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jercicio de las potestades y la ejecución de los deberes deben siempre llevarse a cabo en el marco básico que orienta el ordenamiento jurídico Art. 222 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la que le entrega a la madre el cuidado personal de los menores no es absolu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cometieron falta o abuso gra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.- Aplicar la norm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Apreciar los antecedentes. (Privilegio prueba pericial a la testimoni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plicitación de la condición homosexual antepone los interés en desmedro de las niñ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fusión de roles sex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o del bienestar psíquico y emociona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de vulnerabilidad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ircunstancias que llevan a otorgar el cuidado personal al otro p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(José Benquis, Orlando Álvare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curso de queja es un recurso disciplinario, para corregir falta grave o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uición como regla general a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antecedentes no puede especularse que la madre haya descuidado o maltratado a las hij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madre no tiene inhabilidad mo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anción innominada sobr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han dado correcta aplicación a la normativa vi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damento de la impugna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tanto de la pastilla del día después, como del DIU, impiden la anidación de individu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isposiciones constitucionales afecta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5 inc. 2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6 y 7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: “Píldora del día después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gumentación requi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gulación contendida en el DS N° 48 del año 2007, es materia de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Eventual vulneración d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allo C.S. 30 de Agosto de 2001. Rol 2186- 2001: “Philippi Izquierdo con Laboratorio Chile S.A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19 N° 1 le confiere al nasciturus la calidad de sujeto d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5 inc. 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vención Americana de DDHH. Art. 4 inc. 1 “Toda persona tiene derecho a que se le respete su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e derecho estará protegido por ley, en general, desde el momento 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de Derechos del niño: Art. 1, 3.2 y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Civil: Art. 7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Penal, Art. 85 “Presunción moral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écada del 1990, prohibición por parte del M.S. de pastillas con levornogentrel 0.75 mg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rincipio pro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119 del Código Sanitari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rincipio pro homb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Las disposiciones administrativas, vulnerarían la igualdad ante la l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4.- Las normas administrativas cuestionadas pueden contravenir el derecho preferente y el deber de los padres de educar a sus hij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realizadas por la Presidenta de la Repúblic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Antecedentes generales del D.S. N° 48 de 2007 del M.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gulación de la fertilidad es una materia que debe regularse por D.S. sujeto al trámite de toma de razón por parte de la C.G.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Objetos del decre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) Reducción de la inequidad reproduc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) Reducción de los abor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i) Reducción de los embarazos no dese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 se vulnera el deber ni el derecho de educación preferente de los padres, por el elemento voluntariedad y la relación que debe darse entre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Antecedentes respecto de las normas nacionales de regulación de la ferti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Art. 113 de la CPR, obliga a la administración a establecer políticas de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Fernanda</cp:lastModifiedBy>
  <dcterms:modified xsi:type="dcterms:W3CDTF">2009-03-27T05:23:32Z</dcterms:modified>
  <cp:revision>65</cp:revision>
  <dc:subject/>
  <dc:title>DERECHO A LA PRIVACIDAD Y A LA   HONRA  (Art. 19 No 4)</dc:title>
</cp:coreProperties>
</file>