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1EF-7C33-4C88-BBC9-461F2C89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1B4-3249-484B-B7DC-41E4BEB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B62-C2A7-4B99-96B6-A8BEAE49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87A-07C7-4F9E-845B-5475A68F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22A-7E0F-4347-9479-EA3B2ACC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DED-DB5B-4049-8635-5A56D664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DF4-BC64-4314-9760-4B566BCD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038-54FC-4699-8C44-E5C8661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976-6828-4AC5-881B-D653D0F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498-554E-4464-8333-EAD1B1A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52B-D84B-4B82-A3F3-12667CE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B64-904D-44B0-9BE5-4676EA1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123-59B1-4411-9CA8-0727CADDE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447920"/>
          <a:ext cx="7620120" cy="410184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2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O DE ADQUIRIR LAS COSAS AJENAS O DE EXTINGUIR LAS ACCIONES Y DERECHOS AJENOS, POR HABERSE POSEÍDO LAS COSAS O NO HABERSE EJERCIDO DICHAS ACCIONES Y DERECHOS DURANTE CIERTO LAPSO DE TIEMPO Y CONCURRIENDO LOS DEMÁS REQUISITOS LEG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EXTINTIVA (INERCIA) vs. ADQUISITVA (ACTIV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URIDAD JURÍDICA/PRUEBA DEL DOMI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LAS COM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-2497-12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DEBE SER ALEGADA. POR EXCEPCIÓN DE O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UNCIA A LA PRESCRIPCIÓN (UNA VEZ CUMPLIDO PLAZO PERO ANTES DE DECLARACIÓN). PUEDE SER EXPRESA O TÁCITA. REQUIERE FACULTAD PARA ENAJENAR. NO AFECTA AL FI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DISCRIMI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CRIPCIÓN ADQUI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736640"/>
          <a:ext cx="7620120" cy="394668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90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 2492 Y 2498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O DE ADQUIRIR EL DOMINIO DE LAS COSAS COMERCIALES AJENAS, POR  HABERSE POSEÍDO DURANTE CIERTO LAPSO DE TIEMPO Y CONCURRIENDO LOS DEMÁS REQUISITOS LEG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8, 2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A SUSCEPTIBLE DE POSESIÓN. NO PUEDEN PRESCRIBIRSE LOS DERECHOS PERSONALES, DERECHOS DE LA PERSONALIDAD, COSAS INCOMERCIABLES, COSAS INDETERMINADAS, SERVIDUMBRES DISCONTINUAS Y CONTINUAS INAPAR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ENTRE COMUNEROS SIEMPRE QUE HAYA UN TÍTULO QUE JUSTIFIQUE LA POSESIÓN EXCLUS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CURSO DE TIEMPO CONTINU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EGACIÓN DE POS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1892160"/>
          <a:ext cx="7620120" cy="336564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89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 717 Y 920 Y 2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DOR ACTUAL DEBE SER SUCESOR DEL ANTECESOR. VER ART.718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ONES CONTIGUAS E ININTERRUMPIDAS (VER HERENCIA YACEN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ONES ÚT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IÓN FACUL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E INDEFINIDA E ININTERRUMPIDA DE ANTECESORES (NO SE ESCO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ÓN SE APROPIA CON CALIDADES Y VICIOS. POSESIÒN IRREGULAR CONTAMINA REGULAR, PERO NO A LA INVE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8:25:54Z</dcterms:created>
  <dc:creator>ASTRID SCHUDECK</dc:creator>
  <dc:description/>
  <dc:language>en-US</dc:language>
  <cp:lastModifiedBy>ASTRID SCHUDECK</cp:lastModifiedBy>
  <dcterms:modified xsi:type="dcterms:W3CDTF">2006-01-05T20:13:17Z</dcterms:modified>
  <cp:revision>11</cp:revision>
  <dc:subject/>
  <dc:title>FICCIONES Y PRESUNCIONES</dc:title>
</cp:coreProperties>
</file>