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A89A-D8D0-425E-853A-D551E7C16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1103-0CCF-43FD-83DA-6D3620332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A634-420F-4770-8F93-985F57C4E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A1A2-49B1-46E0-9114-009294A7D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4222-0199-4393-A2F0-F952D2955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4E4F-6662-48E2-AD67-43A0E022A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5FC0-CAAD-4F31-AF87-5544507C4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2408-222D-47EE-8544-89196E977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1F19-B567-4D56-95D4-E33EE55E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4343-086E-4D2E-991E-C4FF305C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1017-6E05-4955-BDE8-23E5EB9D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76CC-AB5F-42D1-81BD-1BB531C0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18731-A2D9-44A5-856D-77BD53D5C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426600"/>
            <a:ext cx="76960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ESCRIP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447920"/>
          <a:ext cx="7620120" cy="4101840"/>
        </p:xfrm>
        <a:graphic>
          <a:graphicData uri="http://schemas.openxmlformats.org/drawingml/2006/table">
            <a:tbl>
              <a:tblPr/>
              <a:tblGrid>
                <a:gridCol w="1447920"/>
                <a:gridCol w="1066680"/>
                <a:gridCol w="5105520"/>
              </a:tblGrid>
              <a:tr h="90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1222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FINI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92 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O DE ADQUIRIR LAS COSAS AJENAS O DE EXTINGUIR LAS ACCIONES Y DERECHOS AJENOS, POR HABERSE POSEÍDO LAS COSAS O NO HABERSE EJERCIDO DICHAS ACCIONES Y DERECHOS DURANTE CIERTO LAPSO DE TIEMPO Y CONCURRIENDO LOS DEMÁS REQUISITOS LEG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CRIPCIÓN EXTINTIVA (INERCIA) vs. ADQUISITVA (ACTIVIDA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PORTAN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GURIDAD JURÍDICA/PRUEBA DEL DOMIN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LAS COMU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93-2497-12 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CRIPCIÓN DEBE SER ALEGADA. POR EXCEPCIÓN DE OFIC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NUNCIA A LA PRESCRIPCIÓN (UNA VEZ CUMPLIDO PLAZO PERO ANTES DE DECLARACIÓN). PUEDE SER EXPRESA O TÁCITA. REQUIERE FACULTAD PARA ENAJENAR. NO AFECTA AL FI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DISCRIMIN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426600"/>
            <a:ext cx="76960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ESCRIPCIÓN ADQUISI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838080" y="1736640"/>
          <a:ext cx="7620120" cy="3946680"/>
        </p:xfrm>
        <a:graphic>
          <a:graphicData uri="http://schemas.openxmlformats.org/drawingml/2006/table">
            <a:tbl>
              <a:tblPr/>
              <a:tblGrid>
                <a:gridCol w="1447920"/>
                <a:gridCol w="1066680"/>
                <a:gridCol w="5105520"/>
              </a:tblGrid>
              <a:tr h="903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90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FINI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8, 2492 Y 2498 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O DE ADQUIRIR EL DOMINIO DE LAS COSAS COMERCIALES AJENAS, POR  HABERSE POSEÍDO DURANTE CIERTO LAPSO DE TIEMPO Y CONCURRIENDO LOS DEMÁS REQUISITOS LEG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2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QUISI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98, 24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A SUSCEPTIBLE DE POSESIÓN. NO PUEDEN PRESCRIBIRSE LOS DERECHOS PERSONALES, DERECHOS DE LA PERSONALIDAD, COSAS INCOMERCIABLES, COSAS INDETERMINADAS, SERVIDUMBRES DISCONTINUAS Y CONTINUAS INAPARENT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CRIPCIÓN ENTRE COMUNEROS SIEMPRE QUE HAYA UN TÍTULO QUE JUSTIFIQUE LA POSESIÓN EXCLUSI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ES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CURSO DE TIEMPO CONTINU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426600"/>
            <a:ext cx="76960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GREGACIÓN DE POSE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838080" y="1892160"/>
          <a:ext cx="7620120" cy="3365640"/>
        </p:xfrm>
        <a:graphic>
          <a:graphicData uri="http://schemas.openxmlformats.org/drawingml/2006/table">
            <a:tbl>
              <a:tblPr/>
              <a:tblGrid>
                <a:gridCol w="1447920"/>
                <a:gridCol w="1066680"/>
                <a:gridCol w="5105520"/>
              </a:tblGrid>
              <a:tr h="89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900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QUISI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0, 717 Y 920 Y 25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EEDOR ACTUAL DEBE SER SUCESOR DEL ANTECESOR. VER ART.718 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ESIONES CONTIGUAS E ININTERRUMPIDAS (VER HERENCIA YACENT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ESIONES ÚTI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EC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CESIÓN FACULTATI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RIE INDEFINIDA E ININTERRUMPIDA DE ANTECESORES (NO SE ESCOG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ESIÓN SE APROPIA CON CALIDADES Y VICIOS. POSESIÒN IRREGULAR CONTAMINA REGULAR, PERO NO A LA INVER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4T18:25:54Z</dcterms:created>
  <dc:creator>ASTRID SCHUDECK</dc:creator>
  <dc:description/>
  <dc:language>en-US</dc:language>
  <cp:lastModifiedBy>ASTRID SCHUDECK</cp:lastModifiedBy>
  <dcterms:modified xsi:type="dcterms:W3CDTF">2006-01-05T20:13:17Z</dcterms:modified>
  <cp:revision>11</cp:revision>
  <dc:subject/>
  <dc:title>FICCIONES Y PRESUNCIONES</dc:title>
</cp:coreProperties>
</file>