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F31-C98D-44EA-A774-B063344A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165-D61D-4C11-BB11-1B75FB4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DD7-5D39-4B1D-9D33-6BCFEDC4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C89-4BAD-45CA-8DAA-3675B130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674-3AEB-4886-8E1A-0529671F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692-B4B9-484E-AE42-9E9D244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A64-14A5-42D6-A1CD-F13A116A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268-B6F4-4CDF-9305-9B1B749E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8CF-D33B-4B3F-83D6-80FD1A7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816-0F89-49F2-8157-772253B1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7D8-9D15-4355-BFB7-ED66D35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1D5-D77D-4624-95BC-857A728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0D95-1D2F-46F4-9981-C50B67459D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Las actividades y programas,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desarrolladas por la sociedad civil organizada e instituciones, que contribuyen en la erradicación de las peores formas de trabajo infantil.</a:t>
            </a:r>
            <a:r>
              <a:rPr b="0" lang="es-CL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5733720"/>
            <a:ext cx="5041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Ángela Edith Canales He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800" y="21182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00000" y="1413000"/>
          <a:ext cx="7559640" cy="4808520"/>
        </p:xfrm>
        <a:graphic>
          <a:graphicData uri="http://schemas.openxmlformats.org/drawingml/2006/table">
            <a:tbl>
              <a:tblPr/>
              <a:tblGrid>
                <a:gridCol w="1851120"/>
                <a:gridCol w="2006640"/>
                <a:gridCol w="1812960"/>
                <a:gridCol w="1888920"/>
              </a:tblGrid>
              <a:tr h="6537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og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 Gen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7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ómo la sociedad civil organizada e instituciones contribuyen en la erradicación de las peores formas de trabajo infantil, en nuestro país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ómo la sociedad civil organizada e instituciones contribuyen en la erradicación de las peores formas de trabajo infantil, en nuestro paí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ociedad civil organizada e instituciones contribuyen en la erradicación de las peores formas de trabajo infantil, en nuestro país, porque desarrollan actividades y programas que alcanzan los objetivos señalados por la OI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ctividades y programas, desarrolladas por la sociedad civil organizada e instituciones, que contribuye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20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1ª Matr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-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uáles son los objetivos que entrega la OIT a la sociedad civil organizada e instituciones, para que contribuyan en la erradicación de las peores formas de trabajo infanti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-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bir los objetivos que entrega la OIT a la sociedad civil organizada e instituciones, para que contribuya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que entrega la OIT a la sociedad civil organizada e instituciones, para que contribuya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- ¿Cuáles son las actividades y programas desarrollados por la sociedad civil organizada e instituciones, para contribuir en la erradicación de las peores formas de trabajo infantil?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- Examinar las actividades y programas desarrollados por la sociedad civil organizada e instituciones, para contribuir en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I: Actividades y programas desarrollados por la sociedad civil organizada e instituciones, para contribuir en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- ¿Cuál ha sido el resultado de las actividades y programas desarrollados por la sociedad civil e instituciones, para la erradicación de las peores formas de trabajo infantil?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- Analizar cuáles han sido los resultados de las actividades y programas desarrollados por la sociedad civil e instituciones, para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II: Resultados de las actividades y programas desarrollados por la sociedad civil e instituciones, para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042920" y="476280"/>
            <a:ext cx="73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ª Matriz de operacionalización de las variable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341360"/>
          <a:ext cx="8062920" cy="5400720"/>
        </p:xfrm>
        <a:graphic>
          <a:graphicData uri="http://schemas.openxmlformats.org/drawingml/2006/table">
            <a:tbl>
              <a:tblPr/>
              <a:tblGrid>
                <a:gridCol w="1943280"/>
                <a:gridCol w="2014200"/>
                <a:gridCol w="2305080"/>
                <a:gridCol w="18003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ociedad civil organizada e instituciones contribuyen en la erradicación de las peores formas de trabajo infantil, en nuestro país, porque desarrollan actividades y programas que alcanzan los objetivos señalados por la OIT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. Independiente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Objetivos señalados por la OIT para erradicar las peores formas de trabajo infanti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. Dependientes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Actividades y programas desarrollados por la sociedad civil organizada e instituciones para erradicar las peores formas de trabajo infantil, en nuestro país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Acciones concretas y programas de la sociedad civil organizada e instituciones (Colegio de profesores, los empresarios, la CUT, los Carabinero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de las instituciones y de la O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stadísticas entregadas por las mismas instituciones y por la prensa critica naciona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sobre el tema como por ejemplo memorias de licenciaturas (Srs. Quiroga y Torre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on line de O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de las organizaciones sociales e instituciones (analizadas) en relación al te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nvestigaciones recientes sobre el tema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27:04Z</dcterms:created>
  <dc:creator>Manuel Ramirez</dc:creator>
  <dc:description/>
  <dc:language>en-US</dc:language>
  <cp:lastModifiedBy>GAU</cp:lastModifiedBy>
  <dcterms:modified xsi:type="dcterms:W3CDTF">2009-04-04T19:39:51Z</dcterms:modified>
  <cp:revision>18</cp:revision>
  <dc:subject/>
  <dc:title>Matriz que establece la relación entre los principales elementos del proyecto</dc:title>
</cp:coreProperties>
</file>