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440-21EC-4F0A-9DB8-BE67C716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D7E-EB94-4BF1-B2A1-3B2F8FA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B94-AB17-413C-9F5A-E28250AD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77F-7E6C-4B72-8427-612A563B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899-2488-4176-B377-B070D7FF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521-46D6-4A15-8E8C-C3836A8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76D-37D8-4A88-A239-CE9B6DB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7AD-C311-4764-9FA2-B3E9FED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26A-F120-4DD4-9044-E92DBF8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7D0-00C9-4C4F-A48C-F1EA1C2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D32-50AB-42C1-9EB2-4B2406C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20C-066A-4C96-8EB8-32A9F1B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DC7-F39F-4FFD-9FE8-546D4805A6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Las actividades y programas,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desarrolladas por la sociedad civil organizada e instituciones, que contribuyen en la erradicación de las peores formas de trabajo infantil.</a:t>
            </a:r>
            <a:r>
              <a:rPr b="0" lang="es-CL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5733720"/>
            <a:ext cx="5041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Ángela Edith Canales He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800" y="21182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00000" y="1413000"/>
          <a:ext cx="7559640" cy="4808520"/>
        </p:xfrm>
        <a:graphic>
          <a:graphicData uri="http://schemas.openxmlformats.org/drawingml/2006/table">
            <a:tbl>
              <a:tblPr/>
              <a:tblGrid>
                <a:gridCol w="1851120"/>
                <a:gridCol w="2006640"/>
                <a:gridCol w="1812960"/>
                <a:gridCol w="1888920"/>
              </a:tblGrid>
              <a:tr h="6537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og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 Gen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7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ómo la sociedad civil organizada e instituciones contribuyen en la erradicación de las peores formas de trabajo infantil, en nuestro país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ómo la sociedad civil organizada e instituciones contribuyen en la erradicación de las peores formas de trabajo infantil, en nuestro paí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ociedad civil organizada e instituciones contribuyen en la erradicación de las peores formas de trabajo infantil, en nuestro país, porque desarrollan actividades y programas que alcanzan los objetivos señalados por la OI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ctividades y programas, desarrolladas por la sociedad civil organizada e instituciones, que contribuye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20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1ª Matr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-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uáles son los objetivos que entrega la OIT a la sociedad civil organizada e instituciones, para que contribuyan en la erradicación de las peores formas de trabajo infanti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-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bir los objetivos que entrega la OIT a la sociedad civil organizada e instituciones, para que contribuya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que entrega la OIT a la sociedad civil organizada e instituciones, para que contribuyan en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- ¿Cuáles son las actividades y programas desarrollados por la sociedad civil organizada e instituciones, para contribuir en la erradicación de las peores formas de trabajo infantil?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- Examinar las actividades y programas desarrollados por la sociedad civil organizada e instituciones, para contribuir en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I: Actividades y programas desarrollados por la sociedad civil organizada e instituciones, para contribuir en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2ª Matriz que establece la relación entre las preguntas secundarias y objetivos especí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2060640"/>
          <a:ext cx="8713800" cy="4032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34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s especí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- ¿Cuál ha sido el resultado de las actividades y programas desarrollados por la sociedad civil e instituciones, para la erradicación de las peores formas de trabajo infantil?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- Analizar cuáles han sido los resultados de las actividades y programas desarrollados por la sociedad civil e instituciones, para la erradicación de las peores formas de trabajo infanti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ítulo III: Resultados de las actividades y programas desarrollados por la sociedad civil e instituciones, para la erradicación de las peores formas de trabajo infant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042920" y="476280"/>
            <a:ext cx="73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ª Matriz de operacionalización de las variable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341360"/>
          <a:ext cx="8062920" cy="5400720"/>
        </p:xfrm>
        <a:graphic>
          <a:graphicData uri="http://schemas.openxmlformats.org/drawingml/2006/table">
            <a:tbl>
              <a:tblPr/>
              <a:tblGrid>
                <a:gridCol w="1943280"/>
                <a:gridCol w="2014200"/>
                <a:gridCol w="2305080"/>
                <a:gridCol w="18003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ociedad civil organizada e instituciones contribuyen en la erradicación de las peores formas de trabajo infantil, en nuestro país, porque desarrollan actividades y programas que alcanzan los objetivos señalados por la OIT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. Independiente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Objetivos señalados por la OIT para erradicar las peores formas de trabajo infanti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V. Dependientes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Actividades y programas desarrollados por la sociedad civil organizada e instituciones para erradicar las peores formas de trabajo infantil, en nuestro país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Acciones concretas y programas de la sociedad civil organizada e instituciones (Colegio de profesores, los empresarios, la CUT, los Carabinero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de las instituciones y de la O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stadísticas entregadas por las mismas instituciones y por la prensa critica nacional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sobre el tema como por ejemplo memorias de licenciaturas (Srs. Quiroga y Torre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on line de O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ublicaciones de las organizaciones sociales e instituciones (analizadas) en relación al te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nvestigaciones recientes sobre el tema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27:04Z</dcterms:created>
  <dc:creator>Manuel Ramirez</dc:creator>
  <dc:description/>
  <dc:language>en-US</dc:language>
  <cp:lastModifiedBy>GAU</cp:lastModifiedBy>
  <dcterms:modified xsi:type="dcterms:W3CDTF">2009-04-04T19:39:51Z</dcterms:modified>
  <cp:revision>18</cp:revision>
  <dc:subject/>
  <dc:title>Matriz que establece la relación entre los principales elementos del proyecto</dc:title>
</cp:coreProperties>
</file>