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C4BD-9AC6-4559-ADAA-80E230D9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FEA9-831A-4D1C-B8D0-B8F3BC01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FEA-9FBF-46C5-B975-AE7500C6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82C1-0D69-45FE-95CC-9CDC2BC9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3CC-0F83-4541-B458-39214535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CC54-0035-4565-82D2-D6F80C09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C3A0-4725-456E-A761-DC7694DB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749-C47F-4135-BC05-BAE28CBF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882-B6D7-4B56-A9B0-9820BE68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0C4-D83D-4F73-B4BB-513A52C1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9A61-8E8C-4638-BB57-1504FA80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CB3-A790-4B62-A8B3-97B47B7F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B90C-AB2D-4812-8553-793345162EE0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8/Spain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Imagen:Spai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0"/>
            <a:ext cx="785808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0:47:14Z</dcterms:created>
  <dc:creator>F</dc:creator>
  <dc:description/>
  <dc:language>en-US</dc:language>
  <cp:lastModifiedBy>F</cp:lastModifiedBy>
  <dcterms:modified xsi:type="dcterms:W3CDTF">2008-04-11T00:51:36Z</dcterms:modified>
  <cp:revision>1</cp:revision>
  <dc:subject/>
  <dc:title>Diapositiva 1</dc:title>
</cp:coreProperties>
</file>