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C1A1-E112-401E-841C-DB4A7225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378-049D-4DB8-A054-348E161B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20B-76C3-42FE-8988-8DB7FEED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FBD1-A7C1-4456-AB32-F7D0AF4E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5E3-622F-4D9D-B4B3-E57B6146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ED3-27D4-4A77-9FB4-67677955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8F1-61A5-4D65-987A-0D27E4F1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620-84C1-4D76-A213-AC09529B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725C-A6A5-4C5B-8991-1DE50461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A33F-9D00-4E80-B02A-23EB87A0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77D-F204-40F7-9383-34930015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1DD2-F752-49A1-BEBA-43D269AF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B99E-FC38-485B-8082-7FDE4D356F83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8/Spain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Imagen:Spai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0"/>
            <a:ext cx="785808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0:47:14Z</dcterms:created>
  <dc:creator>F</dc:creator>
  <dc:description/>
  <dc:language>en-US</dc:language>
  <cp:lastModifiedBy>F</cp:lastModifiedBy>
  <dcterms:modified xsi:type="dcterms:W3CDTF">2008-04-11T00:51:36Z</dcterms:modified>
  <cp:revision>1</cp:revision>
  <dc:subject/>
  <dc:title>Diapositiva 1</dc:title>
</cp:coreProperties>
</file>