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ED8-EB00-4ECB-8BB1-840EB768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82A-60E0-43C4-9F29-69815E0F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A7A-BF4F-46E8-BC85-44CB4062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CBC-9DA3-4CEA-97B8-28A1D35E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3D5-08AB-4722-B7CF-F1DEC009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531-27D8-4AA1-BD2B-17AE37B5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353-2959-4313-9672-F8428A50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A0D-F462-4B08-94C8-2727F55B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AA0-6310-4C3F-B846-2539AEE2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18D-21C3-43B4-A98C-F03E8FAA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93B-B186-42CF-BF12-61F2B792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E03-1D35-4110-8F74-241905AE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E3F-1E9D-44AB-AAC3-1B9F3D86A22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8/Spai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Imagen:Spai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0"/>
            <a:ext cx="785808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0:47:14Z</dcterms:created>
  <dc:creator>F</dc:creator>
  <dc:description/>
  <dc:language>en-US</dc:language>
  <cp:lastModifiedBy>F</cp:lastModifiedBy>
  <dcterms:modified xsi:type="dcterms:W3CDTF">2008-04-11T00:51:36Z</dcterms:modified>
  <cp:revision>1</cp:revision>
  <dc:subject/>
  <dc:title>Diapositiva 1</dc:title>
</cp:coreProperties>
</file>