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EB3-76D0-4E65-8CA5-FE8D4D29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32E-4E64-4842-B216-07ADF212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298-2D7B-4DBD-A5D2-6860148D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8D4-96C7-4B56-9AB2-E418219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93F-4BB3-4629-9210-5B38F008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41E-A1C4-477B-845F-EA32094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A79-A7AC-4E2B-9574-24EDA41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1DF-2563-4317-8019-627354CD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D31-BBB8-4DA8-A3E3-DAADED00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5CB-DC11-4747-B78A-EDD966A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31A-D0A3-420F-9D0C-CC764B9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57E-0D39-422F-A97A-5A151A9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8DCF-1067-4664-BA79-8F87FB6F79C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8/Spai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Imagen:Spai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0"/>
            <a:ext cx="785808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0:47:14Z</dcterms:created>
  <dc:creator>F</dc:creator>
  <dc:description/>
  <dc:language>en-US</dc:language>
  <cp:lastModifiedBy>F</cp:lastModifiedBy>
  <dcterms:modified xsi:type="dcterms:W3CDTF">2008-04-11T00:51:36Z</dcterms:modified>
  <cp:revision>1</cp:revision>
  <dc:subject/>
  <dc:title>Diapositiva 1</dc:title>
</cp:coreProperties>
</file>