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71C-DF47-4961-B84E-515A040F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45B-56B8-44A1-922F-4DC08590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A31-604A-4724-971E-E5C92EED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025-F3CE-449C-AEF4-F22307B8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8E8-90DF-416A-9BB6-4FAFAAA7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4C2-F59A-4FE7-B570-1A8FFCD5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925-17AF-44C2-98F5-1EAE8516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C4E-55C2-4E6E-ADA5-FBD4DC2D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9A6-DD8F-47F6-B83E-16D11F66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9DD-D27F-4E60-BED8-E6C68AC0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F83-5719-4268-932E-091392ED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D76-7F9E-4909-902A-CC917EB2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1FAF-7231-4837-992F-B39F42648BC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8/Spai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Imagen:Spai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0"/>
            <a:ext cx="785808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0:47:14Z</dcterms:created>
  <dc:creator>F</dc:creator>
  <dc:description/>
  <dc:language>en-US</dc:language>
  <cp:lastModifiedBy>F</cp:lastModifiedBy>
  <dcterms:modified xsi:type="dcterms:W3CDTF">2008-04-11T00:51:36Z</dcterms:modified>
  <cp:revision>1</cp:revision>
  <dc:subject/>
  <dc:title>Diapositiva 1</dc:title>
</cp:coreProperties>
</file>