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48710-5743-424F-ADCC-1E7F3B0FE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6F26-0C81-4980-B660-44AF08106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312C6-AB44-4965-AF64-139A0557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4F6F-D4C7-48B4-9414-8002318A4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0873-6CD1-4884-99AD-9A28298A1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CE7E6-D780-401A-924D-BD617C8E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BAFD-DB8C-4E11-9591-43C80124B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19F4-89DA-46B3-9B34-AA1D10D3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5F37-15E9-47B1-B8EE-8EF15FD7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1390-8AA2-4430-9ED6-AE943EE15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2FAF8-D912-409A-8175-080DEF34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DEEE-7D39-4190-B006-C130FEF55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5D80-4D20-4A92-B11B-F090D75AA8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POTE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ller Mem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f.</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Rioseco-G Cic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ORMULACIÓN DE HIPÓTESI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é son las hipóte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hipótesis indican lo que estamos buscando o tratando de probar y pueden definirse como explicaciones tentativas del fenómeno investigado, formuladas a manera de proposiciones. De hecho en nuestra vida cotidiana constantemente elaboramos hipótesis acerca de muchas cosas y luego indagamos su verac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no necesariamente son verdaderas, pueden o no serlo, pueden o no comprobarse con hechos. Son explicaciones tentativas, no los hechos en sí. Al formularlas el investigador no pude asegurar que vayan a comprobarse. Cómo mencionan y ejemplifican, una hipótesis es diferente de una afirmación de hech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son proposiciones tentativas acerca de las relaciones entre dos o más variables y se apoyan en conocimientos organizados y sistematizados.</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hipótesis pueden ser más o menos generales o precisas, e involucrar dos o más variables, pero en cualquier caso son sólo proposiciones sujetas a comprobación empírica, a verificación en la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se relacionan las hipótesis, las preguntas y los objetivos de investig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proponen tentativamente las respuestas a las preguntas de investigación, la relación entre ambas es directa e íntima. Las hipótesis sustituyen a los objetivos y preguntas de investigación para guiar el estudio. Por ello, las hipótesis comúnmente surgen de los objetivos y preguntas de investigación, una vez que éstas han sido reevaluadas a raíz de la revisión de la litera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4" name="PlaceHolder 2"/>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dónde surgen las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natural que las hipótesis surjan del planteamiento del problema que, como se recuerda, se vuelve a evaluar y si es necesario se replantea después de revisar la literatura . Es decir, provienen de la revisión misma de la literatura. Nuestras hipótesis pueden surgir de un postulado, de una teoría, del análisis de ésta, de generalizaciones empíricas pertinentes a nuestro problema de investigación y de estudios revisados o antecedentes consultad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 pues, una relación muy estrecha entre el planteamiento del problema, la revisión de la literatura y las hipótesis. La revisión inicial de la literatura hecha para familiarizarnos con el problema de estudio nos lleva a plantearlo, después revisamos la literatura y afinamos o precisamos el planteamiento, del cual derivamos las hipótesis. Al formular las hipótesis volvemos a evaluar nuestro planteamiento del proble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objetivos y preguntas de investigación pueden reafirmarse o mejorarse durante el desarrollo del estudio. Asimismo, durante el proceso se nos pueden ocurrir otras hipótesis que no estaban contempladas en el planteamiento original, producto de nuevas reflexiones, ideas o experiencias; discusiones con profesores, colegas o expertos en el área; e incluso de “analogías, mediante el descubrimiento de semejanzas entre la información referida a otros contextos y la que se posee para la realidad del objeto de estud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Una hipótesis que nace de los hallazgos  de otros estudios esta libre en alguna forma de la primera de estas limitaciones. Si la hipótesis está basada en resultados de otros estudios, y si el presente estudio apoya la hipótesis de aquellos, el resultado habrá servido para confirmar esta relación de una forma normal”. Una hipótesis que se apoya no simplemente en los hallazgos de un estudio previo, sino en una teoría en términos más generales, está libre de la segunda limitación: la de aislamiento de un cuerpo de doctrina más gene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6"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características debe tener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que una hipótesis sea digna de tomarse en cuente para la investigación científica, debe reunir ciertos requisi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referirse a una situación social real. Las hipótesis sólo pueden someterse a prueba en un universo y contexto bien definido. En ocasiones, en la misma hipótesis se hace explícita esa realidad y otras veces la realidad se define a través de explicaciones que acompañan a la hipótesis. Así, la hipótesis “cuanto mayor sea la retroalimentación sobre el desempeño en el trabajo que proporcione un gerente a sus supervisores, más grande será la motivación intrínseca de éstos hacia sus tareas laborales”, no explica que gerentes, de que empresas. Y será necesario contextualizar la realidad de dicha hipótesis, afirmar por ejemplo que se trata de gerentes de todas las áreas de empresas puramente industriales con más de 1000 trabajadores y ubicados en México, 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variables) de la hipótesis deben ser comprensibles, precisos y lo más concretos posibles. Términos vagos o confusos no tiene cabida en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lación entre variables propuesta por una hipótesis debe ser clara y verosímil (lógica). Debe quedar claro cómo se están relacionando las variables y esta relación no puede ser ilóg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de la hipótesis y la relación planteada entre ellos deben ser observables y medibles, o sea tener referentes en la realida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estar relacionadas con técnicas disponibles para probarlas. Este requisito está estrechamente relacionado con el anterior y se refiere a que al formular una hipótesis, tenemos que analizar si existen técnicas o herramientas de la investigación, para poder verificarla, si es posible desarrollarlas y si se encuentran a nuestro alc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8"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tipos de hipótesis h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iversas formas de clasificar las hipóte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alternati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estadísti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las hipótesis de investigación. Estas podrían definirse como “proposiciones tentativas acerca de las posibles relaciones entre dos o más variables y que cumplen con los cinco requisitos mencionados”. Se les suele simbolizar como             o                           etc. (si son varias) y también se les denomina </a:t>
            </a:r>
            <a:r>
              <a:rPr b="1" i="1" lang="es-ES" sz="2000" spc="-1" strike="noStrike">
                <a:solidFill>
                  <a:srgbClr val="000000"/>
                </a:solidFill>
                <a:latin typeface="Arial"/>
              </a:rPr>
              <a:t>Hipótesis de traba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hipótesis nulas son,  el reverso de las hipótesis de investigación. También constituyen proposiciones acerca de la relación entre variables; sólo que sirven para refutar o negar lo que afirma la hipótesis de investig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POTESIS EN UN ESTUDI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es una suposición o una proposición que establece la existencia de una relación entre dos o más variables expresadas como hechos, fenómenos, factores o entidades, y que debe ser sometida a prueba para ser aceptada como válida</a:t>
            </a:r>
            <a:r>
              <a:rPr b="1" lang="es-ES_tradnl" sz="2000" spc="-1" strike="noStrike">
                <a:solidFill>
                  <a:srgbClr val="000000"/>
                </a:solidFill>
                <a:latin typeface="Arial"/>
              </a:rPr>
              <a:t>un puente o enlace entre la teoría y la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bien formulada sirve de directriz a la investigación, y luego de su comprobación, genera nuevos conocimientos que pasan a formar parte del saber hum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construcción de la hipótesis se apoya en un sistema de conocimientos organizados, formando un contexto teórico, comprobado mediante la verificación empírica, para explicar y predecir en lo posible los hechos o fenómenos si se comprueba la relación enunci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TIPO DE HIPOTESI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hipótesis están íntimamente relacionadas con el problema, el marco teórico y el tipo de investigación que estos gene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HIPOTESIS DE ASOCIACIÓN O COVARI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cuando se establece una determinada correspondencia o correlación entre dos o más variables (hipótesis descripti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modificación en la variable independiente, modifica la variable dependiente en forma directa o inver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Disminuye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Disminuye 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4"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HIPÓTESIS DE RELACIÓN DE PRODUC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ando el comportamiento o la modificación de una variable independiente influye o produce cambio en la variable depend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ementos lógic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produce cambio en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influye en el comportamiento de 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HIPÓTESIS DE RELACIÓN CAUS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las que permiten explicar y predecir los hechos y fenómenos con determinados márgenes de error, y se dan cuando se cumple con las siguientes condicion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El comportamiento o variación de una variable es el “efecto” del comportamiento o variación de otra variable “caus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a covariación indicada anteriormente, no es producto de factores extraños o aleatorios, por lo que la relación entre variables es real,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La variable “causa” ocurre antes que la variable “efecto”.</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GENERACIÓN DE HIPÓTESI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LAS HIPÓTESIS INDUCTIVAS</a:t>
            </a:r>
            <a:r>
              <a:rPr b="1" lang="es-ES_tradnl" sz="2400" spc="-1" strike="noStrike">
                <a:solidFill>
                  <a:srgbClr val="000000"/>
                </a:solidFill>
                <a:latin typeface="Arial"/>
              </a:rPr>
              <a:t>: Se parte de la observación específica de hechos, fenómenos, tendencias o asociaciones. Posteriormente se utiliza ésta observación para dar una explicación tentativa y tempo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LA HIPÓTESIS DEDUCTIVAS</a:t>
            </a:r>
            <a:r>
              <a:rPr b="1" lang="es-ES_tradnl" sz="2400" spc="-1" strike="noStrike">
                <a:solidFill>
                  <a:srgbClr val="000000"/>
                </a:solidFill>
                <a:latin typeface="Arial"/>
              </a:rPr>
              <a:t>: Tienen como punto de partida leyes generales o teorías que se aplican a situaciones particulares. Mediante el razonamiento deductivo un investigador puede desarrollar expectativas científicas o hipótesis fundadas en principios teóricos genera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FORMULAR UNA HIPÓTESI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El enunciado se expresa en forma positiva. Ej: esto provoca, produce, genera, etc., distinto a decir esto NO produce, NO gener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a relación de variables independientes. I; circular del cordón, con la variables dependiente. D; conducta hiperactiva e irritable. Está debidamente plante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a relación de variables planteada en la hipótesis sí puede ser sometida a la prueba de hipótesis: Las relaciones deben ser mensurables o potencialmente verificables. Ej: Un examen médico, clínico y de desarrollo Psicomotriz,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La hipótesis debe ser capaz de explicar y predecir los hechos a encontrar en la relación de los hechos. Ej: Los niños con circular del cordón desarrollan una conducta hiperactiva e irrita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INVESTIGAR?</a:t>
            </a:r>
            <a:br>
              <a:rPr sz="2000"/>
            </a:br>
            <a:r>
              <a:rPr b="1" lang="es-ES_tradnl" sz="2000" spc="-1" strike="noStrike">
                <a:solidFill>
                  <a:srgbClr val="000000"/>
                </a:solidFill>
                <a:latin typeface="Arial"/>
              </a:rPr>
              <a:t>Análisis del problema</a:t>
            </a:r>
            <a:br>
              <a:rPr sz="2000"/>
            </a:br>
            <a:r>
              <a:rPr b="0" lang="es-ES_tradnl" sz="2000" spc="-1" strike="noStrike">
                <a:solidFill>
                  <a:srgbClr val="000000"/>
                </a:solidFill>
                <a:latin typeface="Arial"/>
              </a:rPr>
              <a:t>Toda investigación parte del interés de solucionar o encontrar respuestas a un problema, o del deseo de avanzar en el conocimiento sobre algún te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medida que el problema esté bien definido, el estudio a realizar se orientará con mayor fac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necesario  saber identificar y especificar un problema de investigación y redactarlo en términos sencillos y claros, para que éste refleje lo que se quiere investig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común es que el problema no esté bien definido y en cambio se  tenga un área más general denominada </a:t>
            </a:r>
            <a:r>
              <a:rPr b="1" lang="es-ES_tradnl" sz="2000" spc="-1" strike="noStrike">
                <a:solidFill>
                  <a:srgbClr val="000000"/>
                </a:solidFill>
                <a:latin typeface="Arial"/>
              </a:rPr>
              <a:t>área o tema de investigació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roblema</a:t>
            </a:r>
            <a:r>
              <a:rPr b="0" lang="es-ES_tradnl" sz="2000" spc="-1" strike="noStrike">
                <a:solidFill>
                  <a:srgbClr val="000000"/>
                </a:solidFill>
                <a:latin typeface="Arial"/>
              </a:rPr>
              <a:t> según Rovere “ Es una brecha entre una realidad o un aspecto de la realidad observada y un valor o deseo de cómo debe ser esa realidad para un determinado observador, sea individual o colectiv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EQUISITOS DE LA HIPÓTESI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hipótesis se refiere a variables y unidades de análi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referirse a un solo ámbito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 las hipótesis deben ser claros y preci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ben contar con realidades o referentes empíricos y observ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el planteamiento se debe prever la técnica para probar la hipóte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l proceso de análisis estadístico Inferencial de los datos recolectados deben plantearse </a:t>
            </a:r>
            <a:r>
              <a:rPr b="1" lang="es-ES_tradnl" sz="2000" spc="-1" strike="noStrike">
                <a:solidFill>
                  <a:srgbClr val="000000"/>
                </a:solidFill>
                <a:latin typeface="Arial"/>
              </a:rPr>
              <a:t>Hipótesis Estadísticas, </a:t>
            </a:r>
            <a:r>
              <a:rPr b="1" lang="es-ES_tradnl" sz="2000" spc="-1" strike="noStrike">
                <a:solidFill>
                  <a:srgbClr val="000000"/>
                </a:solidFill>
                <a:latin typeface="Arial"/>
              </a:rPr>
              <a:t>estas se postulan cuando se trata de decidir si existen diferencias o no, para variables en dos muestras, o si los datos de la muestra son comparables a los datos del unive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2"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Hipó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proceso de investigación, el planteamiento del problema es la ba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damental que marcará el punto de partida del estudio y que permitirá</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sus marcos de referencia y teórico-práctico; pero el siguiente pa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n importante o más que el primero, es que se tiene que establecer 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ipótesis que señale integralmente lo que se pretende demostrar. Una v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teada la hipótesis elegiremos el método de investigación que más n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ga para hacer las pruebas correspondientes para tratar de demostrar 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acidad y obtener una posible solución al problema plant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Elaboración de la hipótesis</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hipótesis es el planteamiento anticipado de una conjetura o suposición que  se pretende demostrar mediante una investigación. Es una suposición admitida  como provisional y que sirve de punto de partida para una investig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entífica. Esta demostración se puede realizar a través de los siguientes  pun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Planteamiento concreto del problema a resolv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plantear precisa y completamente el problema que se trata de  resolver, la problemática a solucionar, y las opciones supuestas que se hayan  identificado de és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suposición que se quiere llegar a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el concepto supuesto que se anticipa y se quiere llegar a comprobar o  desaprobar mediante una aplicación de los métodos de investigación elegid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verificación de los hechos a través de métodos de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examinar todos los elementos y datos usados para formular la  hipótesis, a fin de asegurarse de que la suposición se puede explicar con las  observaciones que se realicen para demostrar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valuación y predicción de nuevas observacio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confirmación de los conocimientos y las suposiciones que se presume  que sucederán. Si llegan a ocurrir durante la observación de los elementos y  datos, se comprueba la hipótesis, aunque también puede ocurrir lo contrario,  que se refuten por la misma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xperimentación con lo observado y comprobación de la suposición por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trata de una observación intencional a través de la cual se introducen en el  desarrollo de un fenómeno uno o varios factores artificiales, luego se compara  el comportamiento de éstos contra los resultados que se producirían sin  ninguna intervención. Esto puede medir la influencia del experimento con la  real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ES" sz="3200" spc="-1" strike="noStrike">
                <a:solidFill>
                  <a:srgbClr val="000000"/>
                </a:solidFill>
                <a:latin typeface="Arial"/>
              </a:rPr>
              <a:t>Comprobación de la hipótesis contra los resultados obtenidos</a:t>
            </a:r>
            <a:br>
              <a:rPr sz="4000"/>
            </a:b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l análisis a los resultados obtenidos de la experimentación, se deriva 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miento de la más importante característica del método científico p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su aplicación se comprueba o refuta la hipótesis. Aunque dich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ción siempre estará sujeta a ser validada nuevamente 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erimentos posteriores, otros descubrimientos, instrumentos mejorados 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lquier cambio que pueda modificar o probar la hipótesis ini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Difusión de resultado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satisfecha la comprobación, o en su caso la refutación de la hipót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última parte del método científico consiste en difundir los 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tenidos; si es necesario también se incluirán los métodos y proced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dos en la investigación. Su propósito es plasmar las conclusiones p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o para que puedan ser expuestas, consultadas y sirvan como apoyo 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stigaciones af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ULACIÓN DE HIPÓT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pótesis - “</a:t>
            </a:r>
            <a:r>
              <a:rPr b="0" lang="es-ES" sz="3200" spc="-1" strike="noStrike">
                <a:solidFill>
                  <a:srgbClr val="000000"/>
                </a:solidFill>
                <a:latin typeface="Arial"/>
              </a:rPr>
              <a:t>Una proposición tentativa que pretende resolver un problema o explicar  algún fenóm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CEPTO HIPOTESIS DE INVESTIGACIÓ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de investigación se definen com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uestas tentativas del fenómeno investig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do a manera de una proposi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son el centro o eje del méto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udios cuantitativos platean hipótesis cuan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tención es explicar, asociar o pronosticar un da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aso investigación cuantit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4" name="PlaceHolder 2"/>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HIPOTESIS La hipótesis es una  suposición o conjetura respecto del modo de darse la realidad. Son propuestas de  solución a determinados problemas o preguntas de investig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DEFINICIÓN La hipótesis es una forma de desarrollo del  conocimiento. Cumple su función sólo si esta relacionada con el conocimiento anterior, de veracidad admitida y con las conclusiones que de él se refieren. El valor heurístico de la hipótesis radica en que reúne  lo ya conocido con lo nuevo, con lo que se busc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IFICACIÓN DE LAS HIPÓTESIS HIPÓTESIS DESCRIPTIVAS. Son suposiciones referidas  a la existencia, la estructura, el funcionamiento, la relaciones y los cambios de ciertos fenómenos. Ejemplos  Los sindicatos industriales tienen una organización  oligárquica. Las ideologías de las personas se relacionan de acuerdo  con su posición en la estructura económica. La difusión de las informaciones tiene dos etapas: de la  fuente de emisión a los líderes de opinión y de éstos a los seguidor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ÓTESIS CAUSALES. Se proponen, tentativamente,  factores que serían la causa del fenómeno estudiado. Ejemplo:  El aumento de empresas monopólicas entre los años 1982 y  1989, produjo un aumento en la tasa de desempleo. El excedente de fuerza de trabajo en el sector primario genera  una presión a la baja de salari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hipótesis causales se debe cumplir las siguientes tres  condiciones 1) Existencia de covariación (relación) entre ellas.  2) La variable causal o determinante antecede en el tiempo a la  variable “determinada” o efecto. 3) La covariación establecida no se debe a otras variables  “extrañas” de tal modo que pueda afirmarse que la relación es genuina, es decir no es fal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alternativas de respuest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Discusión entre alumn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Verificación de hipótesis con uso de simuladores y/o medios   tecnológ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muy relevante encontrar un “buen problema” y hacerse preguntas relevantes respecto al mismo, a las que hay que dar respue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ir clarificando las interrogantes respecto del problema y así se irá clarific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rea de definir qué se va a investigar va a ser más o menos difícil según el grado de conocimiento que se tiene del campo o temática seleccion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a tarea de definir el problema el investigador debe aportar c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de identificar problemas de la teoría y la prác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omiso con la investig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ción y crea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para encontrar lo novedoso y las dud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á más “fácil” investigar un área si el investigad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a está investigando en un determinado camp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ne práctica sobre la cuál reflexionan continuam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e en forma sistemática sobre un campo del sabe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imitar el problema significa concretarlo, especificando su alcance teórico-empírico.O sea, que de la gama de problemas que se desprenden del área, hay que escoger y centrar la atención en una parte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momento se den tener en cuenta una serie de aspe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eses, inquietudes y objetivos del investiga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arcos político-ideológicos del investigador y de la institución donde trabaja o estudia, así como de quién patrocina o financia el proyec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bién se debe considerar las características del objeto de estudio, disponibilidad de recursos,  personal y tiempo, entre otr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búsqueda de la delimitación del problema es necesario revisa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datos existentes sobre el problem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teratura, investigaciones previas nacionales e internacional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ultar expertos u otros mecanismos que se estimen convenien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de la delimitación del problema se busca establecer cuáles son los vacíos del conocimiento, por lo tanto, cuál es la pregunta que debemos ha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n tomar precauciones para que en el proceso de depuración no se identifiquen problemas triviales, incoherentes e inútiles. Que una vez terminado el estudio compensen el tiempo y los recursos invert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 tener en cuenta que el problema, una vez identificado, forma parte de un conjunto de problemas dentro de un  cuerpo amplio de conocimientos, que a través de estudios sucesivos pueden irse resolviendo hasta encontrar la respuesta o solución al problema glob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FORMULACIÓN DEL PROBLEM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de las etapas más importantes del proceso investigativo es la de identificar, definir y formular un probl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una serie de criterios que deben tomarse en cu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BE EXPRESAR UNA RELACIÓN DE VARIAB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ser planteado en términos de la relación de dos o más vari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blema debe plantear la variable principal que se va a estudiar, así como aquellos aspectos o variables relacion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variable debe representar elementos, aspectos, características o atributos que se desea estudiar en una población o conjunto de unidad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t>
            </a:r>
            <a:r>
              <a:rPr b="1" lang="es-ES_tradnl" sz="2800" spc="-1" strike="noStrike">
                <a:solidFill>
                  <a:srgbClr val="000000"/>
                </a:solidFill>
                <a:latin typeface="Arial"/>
              </a:rPr>
              <a:t>DEBE EXPRESAR EN FORMA DE PREGUNT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 criterio muy discutido; sin embargo, en este curso trataremos de plantear el problema en forma de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regunta debe orientar y debe especificar aún más lo que se va a investigar, pues la pregunta ayuda  al investigador a visualizar qué se necesita para dar respuesta  a la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puede usarse el planteamiento del problema como un enunciado descriptivo, el cuál debe consistir en una descripción de la situación problemática que se debe resolv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CRIBIR LA SITUACIÓN PROBLEMA Y TODAS SUS POSIBLES IMPLICANCI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IDENTIFICAR LAS VARIABLES MÁS IMPORTANTES Y DEFINIR LA FORMULA COMO SERÁ POSIBLE MEDIRLAS (Atribu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FINIR INDICADORES MÁS ADECUADOS PARA MEDIR TODAS LAS VARIABLES EN JUE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DEFINIR EL RIESGO QUE TENGAN LOS SUJETOS EN ESTUDIO, Definir si realmente las variables que se decide estudiar “afectan al individu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BÚSQUEDA Y DEFINICIÓN DE POSIBLES ELEMENTOS CONFUND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3:36:41Z</dcterms:created>
  <dc:creator>Gilda</dc:creator>
  <dc:description/>
  <dc:language>en-US</dc:language>
  <cp:lastModifiedBy>Alberto Rioseco</cp:lastModifiedBy>
  <dcterms:modified xsi:type="dcterms:W3CDTF">2008-09-25T22:51:14Z</dcterms:modified>
  <cp:revision>32</cp:revision>
  <dc:subject/>
  <dc:title>HIPOTESIS</dc:title>
</cp:coreProperties>
</file>