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5DD46-E4DD-4784-B942-5545FAB75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484BC-4C94-41B0-B2A2-DD57023AD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11C0D-BF79-42FA-B80C-524BDF118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C6867-B671-4723-88FF-3C266491C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937A8E-76BD-4FAF-AFEF-E7E2366C7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D11A4-874C-4805-93E4-6516A5A5F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61797-2B7A-4C96-BF51-571C7247C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9246C-F024-4999-82EE-D90664BDC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740E2-8F16-4F08-B912-C7CDC4354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66830-D937-42C1-8D08-69EAA4B52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F213B-828D-4B3A-87F6-33C929F7A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922DC-A43C-4C58-8B6C-81417B387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8CCFE-38A2-4BD3-BCF2-B61B29140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50C82-6133-470D-90DA-A00E5B7F5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15C0A-7300-4F8A-9E1E-0FA1AA1C4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0DB87D-06AD-44F1-BF18-08030561C1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561A87-9050-48B2-BE8B-9633B4DE7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71FAF-64F4-4BF9-B7A5-8C19CE815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E3E4A-63BF-4FA4-B2AC-F47A7AA9F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A5115-9E5F-4CDF-A4C3-0F3D7E291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BD303-1998-4C92-B059-1BDE49703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250E8-E957-4643-8A45-4BE7B9CA7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693A5-CC2F-4A52-B375-D43F1DE0E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4978C-C07C-40DE-80CF-E2578409F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cc"/>
                </a:gs>
                <a:gs pos="100000">
                  <a:srgbClr val="fee1a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8b7852"/>
                </a:gs>
                <a:gs pos="100000">
                  <a:srgbClr val="f9d7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edit the title text format</a:t>
            </a:r>
            <a:endParaRPr b="1" lang="en-US" sz="4400" spc="-1" strike="noStrike">
              <a:solidFill>
                <a:srgbClr val="a26d18"/>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574E-8122-4E4D-9305-AAB45C5C5F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cc"/>
                </a:gs>
                <a:gs pos="100000">
                  <a:srgbClr val="fee1a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8b7852"/>
                </a:gs>
                <a:gs pos="100000">
                  <a:srgbClr val="f9d7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26d18"/>
                </a:solidFill>
                <a:latin typeface="Times New Roman"/>
              </a:rPr>
              <a:t>Click to edit the title text format</a:t>
            </a:r>
            <a:endParaRPr b="1" lang="en-US" sz="5400" spc="-1" strike="noStrike">
              <a:solidFill>
                <a:srgbClr val="a26d18"/>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95158-92C9-445A-B913-9C28F6FF33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cc66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00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26d18"/>
                </a:solidFill>
                <a:latin typeface="Times New Roman"/>
              </a:rPr>
              <a:t>OMC</a:t>
            </a:r>
            <a:endParaRPr b="1" lang="en-US" sz="5400" spc="-1" strike="noStrike">
              <a:solidFill>
                <a:srgbClr val="a26d18"/>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Excepciones</a:t>
            </a:r>
            <a:endParaRPr b="1" lang="en-US" sz="4400" spc="-1" strike="noStrike">
              <a:solidFill>
                <a:srgbClr val="a26d18"/>
              </a:solidFill>
              <a:latin typeface="Times New Roman"/>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n utilizadas por los Estados miembros en los casos en que quiere dejar de cumplir sus compromisos, y  son considerados en subsidio de renegociar los anteriores. Las excepciones son:</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s que afectan a la economía en general</a:t>
            </a:r>
            <a:r>
              <a:rPr b="0" lang="en-US" sz="2000" spc="-1" strike="noStrike">
                <a:solidFill>
                  <a:srgbClr val="000000"/>
                </a:solidFill>
                <a:latin typeface="Times New Roman"/>
              </a:rPr>
              <a:t>: </a:t>
            </a:r>
            <a:r>
              <a:rPr b="0" lang="en-US" sz="2000" spc="-1" strike="noStrike">
                <a:solidFill>
                  <a:srgbClr val="000000"/>
                </a:solidFill>
                <a:latin typeface="Times New Roman"/>
              </a:rPr>
              <a:t>relativo a que cierta política vulneran elementos macroeconómicos como la oferta de un bien público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 carácter i</a:t>
            </a:r>
            <a:r>
              <a:rPr b="0" i="1" lang="en-US" sz="2000" spc="-1" strike="noStrike">
                <a:solidFill>
                  <a:srgbClr val="000000"/>
                </a:solidFill>
                <a:latin typeface="Times New Roman"/>
              </a:rPr>
              <a:t>ndustrial</a:t>
            </a:r>
            <a:r>
              <a:rPr b="0" lang="en-US" sz="2000" spc="-1" strike="noStrike">
                <a:solidFill>
                  <a:srgbClr val="000000"/>
                </a:solidFill>
                <a:latin typeface="Times New Roman"/>
              </a:rPr>
              <a:t>: se intenta proteger a las empresas nacionales, por lo que se considera que una reducción de arancel aduanero perjudicaría directamente cierto sector de la producción nacional</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stitucionales o sistémicas</a:t>
            </a:r>
            <a:r>
              <a:rPr b="0" lang="en-US" sz="2000" spc="-1" strike="noStrike">
                <a:solidFill>
                  <a:srgbClr val="000000"/>
                </a:solidFill>
                <a:latin typeface="Times New Roman"/>
              </a:rPr>
              <a:t>: se desea tratar un problema específico de algún estado miembro como crisis interna que recae en un problema comercial, o proteger el funcionamiento del sistema comercial en un sentido macr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La OMC…..</a:t>
            </a:r>
            <a:endParaRPr b="1" lang="en-US" sz="4400" spc="-1" strike="noStrike">
              <a:solidFill>
                <a:srgbClr val="a26d18"/>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ación compuesta por 151 paíse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 máxima autoridad es la Conferencia Ministerial que reúne una vez cada dos año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administración recae en: el Consejo General, el Órgano de Solución de Diferencias y el Órgano de Exámen de las Políticas Internacionales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 el único de los organismos multilaterales con capacidad reconocida para sancionar a los países miembros por el incumplimiento de sus reglas.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 resoluciones del Panel de Expertos son vinculantes y pueden derivar en sanciones comercia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Antecedentes Históricos</a:t>
            </a:r>
            <a:endParaRPr b="1" lang="en-US" sz="4400" spc="-1" strike="noStrike">
              <a:solidFill>
                <a:srgbClr val="a26d18"/>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 constantes devaluaciones competitivas y controles de capitales del período entre guerra se considera un antecedente importante para el inicio de la Segunda Guerra Mundial, por esa razón los países involucrados directamente tanto como aquellos que se vieron perjudicados indirectamente, comprendieron la necesidad de regular las relaciones internacionales, el comercio etc. por medio de Organizaciones Internacionales. Así entonces, el GATT (Acuerdo general sobre Aranceles y Comercio) fue producto de negociaciones entre 23 países que se realizaron en paralelo con las de la Organización Internacional del Comercio. Sin embargo, aquellas negociaciones tuvieron como límite la postura del Congreso de EEUU que rehusó  ratificar el acuerdo </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62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Acuerdo que deroga restricciones de base en el sector textil, relacionado con los aranceles aduanero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3-1979</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Ronda de Tokio (VII Conferencia del GATT) en que participan 99 países incluyendo 5 socialistas (China y la URSS no participaron). Se intentaron fuertes reducciones de los aranceles aduaneros en pos de reducir los obstáculos del comercio que para ese entonces se contabilizaban en 800 clases diferentes como: la excesiva formalidad aduanera, sistema de licencia de importación y exportación, intervencionismo estatal en el comercio exterior entre otr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La Ronda de Uruguay</a:t>
            </a:r>
            <a:endParaRPr b="1" lang="en-US" sz="4400" spc="-1" strike="noStrike">
              <a:solidFill>
                <a:srgbClr val="a26d18"/>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GATT inicialmente se consideró parte de la Organización Internacional del Comercio (por esa razón se negoció paralelamente), aunque parte de la doctrina opina que poco a poco tomó una línea propia. </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Ronda de Uruguay fue abierta en Punta del Este en 1986 y concluye en Marrakech el 15 de Diciembre de 1993.</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7 países firmaron uno de los acuerdo más importantes acerca de la liberalización comercial, considerando las 800 diferentes clases de obstrucciones a ésta misma, las que ya habían sido tratadas en la Ronda de Tokio </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uno de los puntos se habla de la creación de la OMC</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 puntos de mayor discusión fueron: la apertura del mercado monetario, y un aumento en la protección de la propiedad intelectual. </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 alrededor de 60 acuerdos  que surgieron como resultado de ésta ronda fueron firmados en la Conferencia Ministerial de Marrakech en 199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Las rondas de negociación : la base de la OMC </a:t>
            </a:r>
            <a:endParaRPr b="1" lang="en-US" sz="4000" spc="-1" strike="noStrike">
              <a:solidFill>
                <a:srgbClr val="a26d18"/>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concepto ronda, es un forma de negociación que con el tiempo ha tomado el carácter de casi totalmente económica, por tanto es definida como conversaciones en pos de acuerdos que consideren la liberalización comercial y los aranceles aduaneros. </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 rondas de negociación han sido uno de los principales instrumentos y la base de los acuerdos de la OMC, éstas son:</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apur (1996) </a:t>
            </a:r>
            <a:r>
              <a:rPr b="0" lang="en-US" sz="1600" spc="-1" strike="noStrike">
                <a:solidFill>
                  <a:srgbClr val="000000"/>
                </a:solidFill>
                <a:latin typeface="Wingdings"/>
                <a:ea typeface="Wingdings"/>
              </a:rPr>
              <a:t></a:t>
            </a:r>
            <a:r>
              <a:rPr b="1" lang="en-US" sz="1600" spc="-1" strike="noStrike">
                <a:solidFill>
                  <a:srgbClr val="000000"/>
                </a:solidFill>
                <a:latin typeface="Times New Roman"/>
              </a:rPr>
              <a:t>.</a:t>
            </a:r>
            <a:r>
              <a:rPr b="0" lang="en-US" sz="1600" spc="-1" strike="noStrike">
                <a:solidFill>
                  <a:srgbClr val="000000"/>
                </a:solidFill>
                <a:latin typeface="Times New Roman"/>
              </a:rPr>
              <a:t> Concluye con una Declaración Ministerial y otra sobre comercio de productos de tecnología de la información firmada por 18 miembros</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nebra (1998)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Reafirma las conclusiones de la anterior ronda sobre el </a:t>
            </a:r>
            <a:r>
              <a:rPr b="0" lang="en-US" sz="1600" spc="-1" strike="noStrike">
                <a:solidFill>
                  <a:srgbClr val="000000"/>
                </a:solidFill>
                <a:latin typeface="Times New Roman"/>
              </a:rPr>
              <a:t>comercio de productos de tecnología de la información e inicia las discusiones sobre el creciente mercado electrónico. </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ttle (1999)</a:t>
            </a:r>
            <a:r>
              <a:rPr b="0" lang="en-US" sz="1600" spc="-1" strike="noStrike">
                <a:solidFill>
                  <a:srgbClr val="000000"/>
                </a:solidFill>
                <a:latin typeface="Wingdings"/>
                <a:ea typeface="Wingdings"/>
              </a:rPr>
              <a:t></a:t>
            </a:r>
            <a:r>
              <a:rPr b="1" lang="en-US" sz="1600" spc="-1" strike="noStrike">
                <a:solidFill>
                  <a:srgbClr val="000000"/>
                </a:solidFill>
                <a:latin typeface="Times New Roman"/>
              </a:rPr>
              <a:t> Ronda del Milenio</a:t>
            </a:r>
            <a:r>
              <a:rPr b="0" lang="en-US" sz="1600" spc="-1" strike="noStrike">
                <a:solidFill>
                  <a:srgbClr val="000000"/>
                </a:solidFill>
                <a:latin typeface="Times New Roman"/>
              </a:rPr>
              <a:t>, termina sin ninguna de claración debido al fracaso por las protestas masivas que marcaron el inicio del movimiento alternativo a la globalización  </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ha (2001)</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Programa de Doha“ para el desarrollo en lo relativo a la agricultura y a los servicios</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cún (2003)</a:t>
            </a:r>
            <a:r>
              <a:rPr b="1" lang="en-US" sz="1600" spc="-1" strike="noStrike">
                <a:solidFill>
                  <a:srgbClr val="000000"/>
                </a:solidFill>
                <a:latin typeface="Times New Roman"/>
              </a:rPr>
              <a:t>.</a:t>
            </a:r>
            <a:r>
              <a:rPr b="0" lang="en-US" sz="1600" spc="-1" strike="noStrike">
                <a:solidFill>
                  <a:srgbClr val="000000"/>
                </a:solidFill>
                <a:latin typeface="Times New Roman"/>
              </a:rPr>
              <a:t> El desacuerdo de los países desarrollados con la posición del G-21 lleva al segundo fracaso de rondas de la OMC</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ng Kong (2005)</a:t>
            </a:r>
            <a:r>
              <a:rPr b="0" lang="en-US" sz="1600" spc="-1" strike="noStrike">
                <a:solidFill>
                  <a:srgbClr val="000000"/>
                </a:solidFill>
                <a:latin typeface="Times New Roman"/>
              </a:rPr>
              <a:t> Se elabora la lista de preguntas a los Ministros que incluye 5 puntos acerca del proteccionismo en la agricultura, y los productos no agrícolas (relacionado con lo que ocurrió en el 2003 y el reclamo a la eliminación de los subsidios agrícolas en países desarrollad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OMC: mecanismos y principios de funcionamiento </a:t>
            </a:r>
            <a:endParaRPr b="1" lang="en-US" sz="4000" spc="-1" strike="noStrike">
              <a:solidFill>
                <a:srgbClr val="a26d18"/>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a:t>
            </a:r>
            <a:r>
              <a:rPr b="0" i="1" lang="en-US" sz="1800" spc="-1" strike="noStrike">
                <a:solidFill>
                  <a:srgbClr val="000000"/>
                </a:solidFill>
                <a:latin typeface="Times New Roman"/>
              </a:rPr>
              <a:t>código de conducta</a:t>
            </a:r>
            <a:r>
              <a:rPr b="0" lang="en-US" sz="1800" spc="-1" strike="noStrike">
                <a:solidFill>
                  <a:srgbClr val="000000"/>
                </a:solidFill>
                <a:latin typeface="Times New Roman"/>
              </a:rPr>
              <a:t> relacionado con lo dispuesto por los acuerdos post negociaciones, como lo relativo a la reducción de barreras al comercio. Se considera a la OMC como un conjunto de normas que rodean los acuerdos acerca de políticas relacionadas con el comercio, políticas que son resultado de las ronda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canismo para el intercambio de compromisos</a:t>
            </a:r>
            <a:r>
              <a:rPr b="0" lang="en-US" sz="1800" spc="-1" strike="noStrike">
                <a:solidFill>
                  <a:srgbClr val="000000"/>
                </a:solidFill>
                <a:latin typeface="Times New Roman"/>
              </a:rPr>
              <a:t> en lo relativo a la política comercial derivada de acuerdos específicos en ronda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os 5 principios de la OMC</a:t>
            </a:r>
            <a:r>
              <a:rPr b="0" lang="en-US" sz="1800" spc="-1" strike="noStrike">
                <a:solidFill>
                  <a:srgbClr val="000000"/>
                </a:solidFill>
                <a:latin typeface="Times New Roman"/>
              </a:rPr>
              <a:t> no sólo son gravitantes para entender su funcionamiento sino que son la base legal para los acuerdos de los Estados miembros, y configuran a su vez el conjunto de norma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i="1" lang="en-US" sz="1800" spc="-1" strike="noStrike">
                <a:solidFill>
                  <a:srgbClr val="000000"/>
                </a:solidFill>
                <a:latin typeface="Times New Roman"/>
              </a:rPr>
              <a:t>No discriminación. </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Reciprocidad</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Acuerdos con características vinculantes. </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Transparencia </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Excepciones (safety valves).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La no discriminación: La Nación más favorecida y el Trato Nacional</a:t>
            </a:r>
            <a:endParaRPr b="1" lang="en-US" sz="4000" spc="-1" strike="noStrike">
              <a:solidFill>
                <a:srgbClr val="a26d18"/>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nto las normas “la nación más favorecida” como el “trato nacional” entran en el ámbito del gran principio de la no discriminación, y se encuentran señalados por lo general de manera explícita en los acuerdos alcanzados en las rondas, el “Trato Nacional” por su parte es fruto de un compromiso especifico</a:t>
            </a: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Nación más favorecida” no es más que la comparación de productos entre los Estados, así entonces dos productos similares (condición inicial para la norma) uno proveniente de un Estado miembro y el otro de uno que no lo es, deben ser considerados en igualdad de condiciones. La norma se aplica a la generalidad de los casos, pero existen tres excepciones:</a:t>
            </a:r>
            <a:endParaRPr b="0" lang="en-US" sz="1800" spc="-1" strike="noStrike">
              <a:solidFill>
                <a:srgbClr val="000000"/>
              </a:solidFill>
              <a:latin typeface="Times New Roman"/>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Zonas de Libre Comercio</a:t>
            </a: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lang="en-US" sz="1800" spc="-1" strike="noStrike">
                <a:solidFill>
                  <a:srgbClr val="000000"/>
                </a:solidFill>
                <a:latin typeface="Times New Roman"/>
              </a:rPr>
              <a:t>acuerdo en que ciertos países han decidido dejar de imponer arancel aduanero a las exportaciones</a:t>
            </a:r>
            <a:r>
              <a:rPr b="1"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ato Preferencial</a:t>
            </a:r>
            <a:r>
              <a:rPr b="1" lang="en-US" sz="1800" spc="-1" strike="noStrike">
                <a:solidFill>
                  <a:srgbClr val="000000"/>
                </a:solidFill>
                <a:latin typeface="Times New Roman"/>
              </a:rPr>
              <a:t> </a:t>
            </a: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lang="en-US" sz="1800" spc="-1" strike="noStrike">
                <a:solidFill>
                  <a:srgbClr val="000000"/>
                </a:solidFill>
                <a:latin typeface="Times New Roman"/>
              </a:rPr>
              <a:t>acuerdo entre países desarrollados y en vía de desarrollo en que los primeros otorgan un trato arancelario preferencial a los segundos. Excepción en pos del trato diferenciado</a:t>
            </a:r>
            <a:endParaRPr b="0" lang="en-US" sz="1800" spc="-1" strike="noStrike">
              <a:solidFill>
                <a:srgbClr val="000000"/>
              </a:solidFill>
              <a:latin typeface="Times New Roman"/>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Uniones Aduaneras</a:t>
            </a:r>
            <a:r>
              <a:rPr b="1" lang="en-US" sz="1800" spc="-1" strike="noStrike">
                <a:solidFill>
                  <a:srgbClr val="000000"/>
                </a:solidFill>
                <a:latin typeface="Times New Roman"/>
              </a:rPr>
              <a:t> </a:t>
            </a: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lang="en-US" sz="1800" spc="-1" strike="noStrike">
                <a:solidFill>
                  <a:srgbClr val="000000"/>
                </a:solidFill>
                <a:latin typeface="Times New Roman"/>
              </a:rPr>
              <a:t>Dos o más países (común en países limítrofes) adoptan aranceles comunes para los ingresos de productos a su área proveniente de terceros países</a:t>
            </a:r>
            <a:endParaRPr b="0" lang="en-US" sz="1800" spc="-1" strike="noStrike">
              <a:solidFill>
                <a:srgbClr val="000000"/>
              </a:solidFill>
              <a:latin typeface="Times New Roman"/>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El principio de reciprocidad</a:t>
            </a:r>
            <a:endParaRPr b="1" lang="en-US" sz="4400" spc="-1" strike="noStrike">
              <a:solidFill>
                <a:srgbClr val="a26d18"/>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licable directamente a las negociaciones, en especial en lo relativo al ingreso de un nuevo miembro a la OMC. Así entonces el nuevo miembro en beneficiado por ejemplo con los aranceles aduaneros ya acordados de manera de no vulnerar la norma de la “Nación más favorecid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contraparte es que el nuevo miembro debe comprometerse a adoptar de la misma manera tales aranceles aduaneros, así se evita el “free riding” que no es más que la imposición de aranceles aduaneros diferenciados a los productos (desde el nuevo miembro hacia los productos de los miembros de la OM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Solución de diferencias</a:t>
            </a:r>
            <a:endParaRPr b="1" lang="en-US" sz="4400" spc="-1" strike="noStrike">
              <a:solidFill>
                <a:srgbClr val="a26d18"/>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 conveniente denominarlo solución de diferencias y no de controversias, así entonces la OMC se caracteriza por ser una de las pocas Organizaciones Internacionales que dispone de un mecanismo de éste tipo y que se funda en hacer valer sus principios más que en la solución propiamente tal. El órgano de solución de diferencias tiene características bastante similares al que utiliza la Unión Europea, se agrega a su mecanismo la inclusión de “límites obligados” que no son más que la lista de los aranceles aduaneros específicos por país y que representan un límite para el Estado miembro.</a:t>
            </a: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 embargo las diferencias llevadas al órgano encargado de su solución en la OMC no recaen generalmente en lo relacionado a los límites obligados”sino que en lo relativo a la norma de “trato nacional” que no son más que subsidios internos que perjudican directamente a los productos extranjeros, pero es precisamente ese el argumento de los Estados que utilizan esa política el que un producto extranjero beneficiado por cierto arancel aduanero perjudica a los productores nacionales.</a:t>
            </a: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Solución de diferencias</a:t>
            </a:r>
            <a:endParaRPr b="1" lang="en-US" sz="4400" spc="-1" strike="noStrike">
              <a:solidFill>
                <a:srgbClr val="a26d18"/>
              </a:solidFill>
              <a:latin typeface="Times New Roman"/>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cialmente si un país considera que una política pública llevada a cabo por cierto gobierno que tiene por fin un subsidio a los productores internos perjudica el acceso a ese mercado o vulnera las normas de la OMC, le pide directamente a ese Estado un cambio en su accionar, si no hay acuerdo se inicia la acción mediante el órgano de solución de diferencias de la OMC.</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órgano de solución de diferencias es la constitución de un panel compuesto por expertos cuya principal función es analizar si la acción de un Estado se puede considerar como una violación a las normas de la OMC, de ser así se autoriza al país a afectado por tal violación a tomar medidas unilaterales en represalia congruentes con el daño económico que este miembro le causó. Es importante considerar que al ser la OMC de carácter intergubernamental la acción ante el órgano de solución de diferencias debe ser llevado por un Estado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1:08:30Z</dcterms:created>
  <dc:creator>1</dc:creator>
  <dc:description/>
  <dc:language>en-US</dc:language>
  <cp:lastModifiedBy>1</cp:lastModifiedBy>
  <dcterms:modified xsi:type="dcterms:W3CDTF">2008-08-15T23:29:13Z</dcterms:modified>
  <cp:revision>6</cp:revision>
  <dc:subject/>
  <dc:title>OMC</dc:title>
</cp:coreProperties>
</file>