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C71-D385-43AD-8159-C9EC4307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5A7-BD38-41A3-9F68-256B3901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94E-C481-4DCF-9DE3-12087F03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1EF-F9DD-4046-A6D4-11EBCCDC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F4B2-A679-421E-AF1E-87018156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F602-D240-458F-8B54-6D7E88C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570D-FBA7-4718-BCEC-29C146A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7A6E-52C9-4343-9F82-598E619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00A3-09CD-4864-8B9D-51381B3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18E-C79B-400D-8618-F911F997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20C5-0A8F-4808-A0E5-4453CC0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A22-B5A7-4117-8253-B031D5E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210-FEF3-4FFD-BB87-DF92929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106B-E5DA-4437-B0DA-FDCB070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C928-A04C-4177-877E-AB65761B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C964-99DB-4F71-B5B8-D3D68A2E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3404-8997-4597-8838-70070B19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01E-2570-4B38-95AB-298AD5E1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21D-D67D-44E0-9F9D-8A5A4D2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4B7-E897-40C9-9E3C-EC41F05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671-2669-4ADA-9D34-B1196C4B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065-1CF8-4528-9119-014376F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248-EB9C-4C91-BA9D-BA973874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073-54A7-4A8F-B718-AE06A76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9DD-E546-4E3B-8880-307F7277398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68CF-3149-48B9-9A0E-A7DD8BD7785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a Democracia Industr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ristóbal Gutiérrez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c) Derecho de propiedad vs/ derecho al proceso democrá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nderación de derechos: ¿cuál tiene mayor peso? (en el caso del proceso democrático dentro de la emp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al: para garantizar otros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recho moral, connatural al homb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poca de discusión constitucional: Convenciones constitucionales de 1820 (en nuestro país 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bas facciones coinciden en una amplia distribución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ficación rápidamente pasa a explicar el derecho de propiedad de las sociedades de capitales, pero es radicalmente distinto, debido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ol de la igualdad en el sistema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inguna justificación del derecho de propiedad justifica la marginalización total del derecho al proceso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) Un nuevo sistema democrático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garantizarse el derecho al proces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ser justo en el sentido de justicia distributiva de tanto recursos económicos como polí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mover la respons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bertad de adquisición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UDADANOS DEMOCRÁTICOS A TRAVÉS DE UNA DEMOCRACIA PARTICIP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013360"/>
            <a:ext cx="1440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3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55700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37000"/>
            <a:ext cx="182736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diciones técnicas y económ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645000"/>
            <a:ext cx="1827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valores culturales y predisposiciones ideológ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941720"/>
            <a:ext cx="17560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o político y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97120" y="2492280"/>
            <a:ext cx="18748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es estratégicas en los pactos institucionales para la  consolidación de la democrac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997360"/>
            <a:ext cx="122400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er de los actore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744640"/>
            <a:ext cx="1656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s y procesos organizacionales a nivel de l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0" y="3206880"/>
            <a:ext cx="12240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44640"/>
            <a:ext cx="18986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es grav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derecho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fundamento leg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siones especi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tés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nsejos de vigila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mmon law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E.U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contractual, por minimalismo legal, estudio sociológic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articipación directa en el establecimiento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estructuración de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 Sca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de participación en países de derecho consuetu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ámbito de establecimiento de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ticipación directa a través de represen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orm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Garantías de invers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ités conjun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presentación en la Junta directiv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pra de acc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4. Críticas al concepto de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uraleza de la representación de los trabajadores y representantes polí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mocracia política más “permeable a los ciudadanos” que la democracia indust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realidad como dijimos la democracia industrial (que es una plasmación de la política) tiene una dinamicidad propia y distinta  a la democracia polí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 la igual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a democracia industrial no existe igualdad jurídica entre las partes (empleador- trabajador), ni con los trabajadores en s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iudadanía laboral es permanente por que deriva de la ciudadanía política y entienden en la persona del trabajador como un sujeto de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la significación social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os teóricos de la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íticas al concepto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ciones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1. El Concepto de participación de los trabajadores en las decisiones de la empresa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erecho del Trabajo como fenómen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odo es una decisión filosófica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erecho es una manifestación en sí de la polít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Una técnica instrumental de organización social establecida para la integración, institucionalización o juridificación de los conflictos social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alomequ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canismo de solución de conflictos, de una sociedad más bien compleja que busca soluciones distintas a la autotu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El Derecho del Trabajo como fenómeno polí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 Derecho del Trabajo, como toda rama del Derecho, tiene un contenido normativo propio: Artículo 7º del Códig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rgimiento histórico del Derecho del trabajo: Revolución Industrial, la economía requería de grandes masas de trabajadores. Se establece el conflict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tructural laboral o socio-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. Do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brero asalar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rio o emple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el Derecho del Trabajo representa el “equilibrio estructural”: de una parte un estatuto tutelar, pero de otra una legitimación del “sistema capitalista de produ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¿Cómo se explica hoy en día la participación de los trabajadore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delar 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lfare stat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la medida de las exigencias de la flexibilidad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Tres razones fundament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rmida, Durá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uevas condiciones económ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interés por el mercado inter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imitación del poder estatal para gobernar las variantes económ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juicio ideológico contra el factor trabaj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blemas de empl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s en las organizaciones sindic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Estado en las relaciones 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: No convivir con las desigualdades sino buscar proteger a la persona como ciudadano, es decir como sujeto de derech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cepto de particip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ribución efectiva de las relaciones de poder dentro de la empresa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ayl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entalización democrática de las relaciones de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democraci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ui gene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der y contrapoder permanecen fijos. El contrapoder no puede sustituirl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mbitos que no se abarcan dentro del concepto de particip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 donde el dominio es de los trabaj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ipación en los benefic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ción sindical ord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205000"/>
            <a:ext cx="8632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2. 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ocracia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smación política d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emocracia industrial presupone 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iudadano. Raz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orizontalidad de los derechos fundamentale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tivización de los derechos fundamentales por el poder de mando del empleado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IUDADANÍA LAB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229360"/>
            <a:ext cx="1368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El rol de la Igualdad en la tesis contractua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ocqueville: Libertad se opone a la igualdad. Debe preferirse a la pri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wls- Dworkin: No existe derecho a la libertad, principio princip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hl: Debe existir un mínimo de igualdad para que la democracia sea viable (recursos económicos implican recursos polít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El derecho al proceso democr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undamento: “Velo de ignoranci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derecho de propiedad en el principio de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rean desigualdades de facto entre ciudadan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arginan del derecho al proceso democrático dentro de la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l derecho al proceso democrático.</a:t>
            </a:r>
            <a:r>
              <a:rPr b="0" lang="es-ES_tradnl" sz="2000" spc="-1" strike="noStrike">
                <a:solidFill>
                  <a:srgbClr val="330033"/>
                </a:solidFill>
                <a:latin typeface="Times New Roman"/>
              </a:rPr>
              <a:t> (Dahl)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de personas necesita tomar decisiones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etapas: se establece agenda, se toma decisiones sobre é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ben ser tomadas por quienes están sujetos a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merece igual consid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es libre de establecer sus propios inter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rupo debe decidir qué decisiones requieren ser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dad en la repartición de los recurs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to igual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ef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ón ilust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 de la agenda por 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sividad: Todos los miembros adultos, salvo los en tránsito o perturbados pueden ejercer el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ser necesario para la democracia concebida en términos modern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BE ENTENDER COMO UN NO SÓLO UN DERECHO FUNDAMENTAL, SINO UNO DE LOS MÁ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22:11Z</dcterms:created>
  <dc:creator>Ricardo Gutierrez</dc:creator>
  <dc:description/>
  <dc:language>en-US</dc:language>
  <cp:lastModifiedBy>María Cristina Gajardo</cp:lastModifiedBy>
  <dcterms:modified xsi:type="dcterms:W3CDTF">2008-10-23T13:08:55Z</dcterms:modified>
  <cp:revision>10</cp:revision>
  <dc:subject/>
  <dc:title>La Democracia Industrial</dc:title>
</cp:coreProperties>
</file>