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B463-B529-4EB8-8864-0CC13C7E8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A6E1-FA10-48B8-AC6D-C7F89163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BE95-8ACC-4DB5-8870-AB2CE1F4F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50C4-AB98-42C4-8D91-685A8CB98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9605-C9FD-4739-B329-2718C082B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FC34-7257-4218-844E-B2C23ACE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96CF-86C3-4324-A957-6615E7D0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D094-8FF7-41FD-A4D4-CABAFFED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940F-A729-4B6C-ACBE-AA807D70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2D30-3448-4835-8A81-F93EB4D1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23134-4744-410F-A2A1-00C6E7D6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0514-7BCE-445D-BD14-2CE49E68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5E8F-F2D7-4E53-856C-8AB3037E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E106-2F94-488A-9BC0-B3951632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3C4E-99FE-464F-A66B-4CEE23C4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3222-CCCD-4FC0-9229-4111B19B6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6293-EA04-4F32-BCC0-C150D1CB6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1921-3F55-4B6F-BD52-AE55D6D9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4BF3-1774-49A5-89F4-6296AAEE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FAD5-D33E-447F-8DED-CE4F64B5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4A2A-A654-40C1-B30F-CFBA7355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5092-CF42-41D7-9E59-D9DEB2DA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843A-CABC-49BC-9B5C-273F7971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56BF-626B-4F92-A8AE-5B110F5F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FAD1-D8D9-445E-B969-5FA383C199C4}" type="slidenum">
              <a:rPr b="0" lang="en-US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7961-53B9-40E3-A606-0E27C5C20C2E}" type="slidenum">
              <a:rPr b="0" lang="en-US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964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Reforma a la Justicia Labora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58920" y="2276640"/>
            <a:ext cx="66978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Tahoma"/>
              </a:rPr>
              <a:t>Antecedente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cecff"/>
                </a:solidFill>
                <a:uFillTx/>
                <a:latin typeface="Tahoma"/>
              </a:rPr>
              <a:t>Leyes que la contienen</a:t>
            </a:r>
            <a:r>
              <a:rPr b="1" lang="es-ES_tradnl" sz="2800" spc="-1" strike="noStrike">
                <a:solidFill>
                  <a:srgbClr val="ccec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Ley N°20.022 (D. Oficial 30.05.2005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ahoma"/>
              </a:rPr>
              <a:t>Ley N°20.023 (D. Oficial 31.05.2005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Ley N°20.087 (D. Oficial 3.01.2006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55640" y="105408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55640" y="98100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Garantías constitucionales involucrada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5640" y="278136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364644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4510080"/>
            <a:ext cx="2448000" cy="790560"/>
          </a:xfrm>
          <a:prstGeom prst="flowChartAlternateProcess">
            <a:avLst/>
          </a:prstGeom>
          <a:noFill/>
          <a:ln w="19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5373720"/>
            <a:ext cx="2448000" cy="790560"/>
          </a:xfrm>
          <a:prstGeom prst="flowChartAlternateProcess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55640" y="285444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29414"/>
                </a:solidFill>
                <a:latin typeface="Verdana"/>
              </a:rPr>
              <a:t>Legitimación para actuar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71640" y="3789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ccff"/>
                </a:solidFill>
                <a:latin typeface="Verdana"/>
              </a:rPr>
              <a:t>Tramitación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42920" y="47260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99ff"/>
                </a:solidFill>
                <a:latin typeface="Verdana"/>
              </a:rPr>
              <a:t>Sentenci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26920" y="54468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6600"/>
                </a:solidFill>
                <a:latin typeface="Verdana"/>
              </a:rPr>
              <a:t>Prácticas</a:t>
            </a:r>
            <a:r>
              <a:rPr b="0" lang="es-ES" sz="1800" spc="-1" strike="noStrike">
                <a:solidFill>
                  <a:srgbClr val="99cc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ff6600"/>
                </a:solidFill>
                <a:latin typeface="Verdana"/>
              </a:rPr>
              <a:t>antisindicale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9880" y="1173240"/>
            <a:ext cx="1067040" cy="60948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Plazo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1096920"/>
            <a:ext cx="3429000" cy="79056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60 días desde vulneración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o separación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57800" y="2011320"/>
            <a:ext cx="3352680" cy="289548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Normas especiales par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la acción</a:t>
            </a: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Se suspende por reclamo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ante la I.T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Si no prospera acción de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tutela, puede intentar la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acción de despido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Injustificado, en subsidio.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09880" y="4983120"/>
            <a:ext cx="2448000" cy="86688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Tiene preferenci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respecto de las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demás causas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00800" y="4983120"/>
            <a:ext cx="2448000" cy="106668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La I.T. puede emitir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un informe sobre los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hechos, si el tribunal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lo requiere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55640" y="83808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76500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Garantías constitucionales involucrada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5640" y="256536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5640" y="343044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4294080"/>
            <a:ext cx="2448000" cy="790560"/>
          </a:xfrm>
          <a:prstGeom prst="flowChartAlternateProcess">
            <a:avLst/>
          </a:prstGeom>
          <a:noFill/>
          <a:ln w="19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5229360"/>
            <a:ext cx="2448000" cy="790560"/>
          </a:xfrm>
          <a:prstGeom prst="flowChartAlternateProcess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263844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29414"/>
                </a:solidFill>
                <a:latin typeface="Verdana"/>
              </a:rPr>
              <a:t>Legitimación para actuar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71640" y="3573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ccff"/>
                </a:solidFill>
                <a:latin typeface="Verdana"/>
              </a:rPr>
              <a:t>Tramitación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42920" y="45100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6262"/>
                </a:solidFill>
                <a:latin typeface="Verdana"/>
              </a:rPr>
              <a:t>Sentenci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530208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6600"/>
                </a:solidFill>
                <a:latin typeface="Verdana"/>
              </a:rPr>
              <a:t>Prácticas</a:t>
            </a:r>
            <a:r>
              <a:rPr b="0" lang="es-ES" sz="1800" spc="-1" strike="noStrike">
                <a:solidFill>
                  <a:srgbClr val="99cc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ff6600"/>
                </a:solidFill>
                <a:latin typeface="Verdana"/>
              </a:rPr>
              <a:t>antisindicale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9880" y="957240"/>
            <a:ext cx="4648320" cy="79056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Se rige de acuerdo al procedimiento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Ordinario, salvo que exista una norm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procesal especial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08360" y="1917720"/>
            <a:ext cx="4967280" cy="208764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Juez tiene mayores facultades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cautelares, puede </a:t>
            </a: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suspender el acto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impugnado</a:t>
            </a: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. O bien, si se trata de lesiones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de especial gravedad o si con posterioridad,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no pueda dejarse sin efectos puede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condenarse al pago de multas</a:t>
            </a: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. Est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resolución no se puede recurrir de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forma alguna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86200" y="4081320"/>
            <a:ext cx="4800600" cy="137160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Una vez que existen “</a:t>
            </a: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indicios</a:t>
            </a: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” de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vulneración de DDFF, empleador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debe probar que actuó correctamente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55640" y="90972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5640" y="83664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Garantías constitucionales involucrada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263700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5640" y="350208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5640" y="4365720"/>
            <a:ext cx="2448000" cy="790560"/>
          </a:xfrm>
          <a:prstGeom prst="flowChartAlternateProcess">
            <a:avLst/>
          </a:prstGeom>
          <a:noFill/>
          <a:ln w="19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5640" y="5229360"/>
            <a:ext cx="2448000" cy="790560"/>
          </a:xfrm>
          <a:prstGeom prst="flowChartAlternateProcess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5640" y="270972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29414"/>
                </a:solidFill>
                <a:latin typeface="Verdana"/>
              </a:rPr>
              <a:t>Legitimación para actuar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00000" y="357336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ccff"/>
                </a:solidFill>
                <a:latin typeface="Verdana"/>
              </a:rPr>
              <a:t>Tramitación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42920" y="4653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6262"/>
                </a:solidFill>
                <a:latin typeface="Verdana"/>
              </a:rPr>
              <a:t>Sentenci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6920" y="530208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6600"/>
                </a:solidFill>
                <a:latin typeface="Verdana"/>
              </a:rPr>
              <a:t>Prácticas</a:t>
            </a:r>
            <a:r>
              <a:rPr b="0" lang="es-ES" sz="1800" spc="-1" strike="noStrike">
                <a:solidFill>
                  <a:srgbClr val="99cc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ff6600"/>
                </a:solidFill>
                <a:latin typeface="Verdana"/>
              </a:rPr>
              <a:t>antisindicale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952560"/>
            <a:ext cx="5105520" cy="2590920"/>
          </a:xfrm>
          <a:prstGeom prst="flowChartAlternateProcess">
            <a:avLst/>
          </a:prstGeom>
          <a:noFill/>
          <a:ln w="19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Contenido: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ea626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Declaración de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ea626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Existencia o no de lesiones 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derechos fundamentales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ea626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Cese de conducta, bajo pena de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multa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ea626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Aplicación de medidas concretas de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reparación, bajo apercibimiento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de multa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81280" y="3695760"/>
            <a:ext cx="5105520" cy="2286000"/>
          </a:xfrm>
          <a:prstGeom prst="flowChartAlternateProcess">
            <a:avLst/>
          </a:prstGeom>
          <a:noFill/>
          <a:ln w="19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Indemnizaciones si hubo despido: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ea626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Indemnización por años de servicio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más sustitutiva. </a:t>
            </a: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Adicional entre 6 y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11 meses de remuneraciones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ea626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Si éste es discriminatorio y “</a:t>
            </a: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grave</a:t>
            </a: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”: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reincorporación</a:t>
            </a: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 o pago de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indemnizaciones de, a elección del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trabajador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55640" y="76680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55640" y="69372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Garantías constitucionales involucrada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55640" y="249408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5640" y="335916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5640" y="4222800"/>
            <a:ext cx="2448000" cy="790560"/>
          </a:xfrm>
          <a:prstGeom prst="flowChartAlternateProcess">
            <a:avLst/>
          </a:prstGeom>
          <a:noFill/>
          <a:ln w="19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5640" y="5086440"/>
            <a:ext cx="2448000" cy="790560"/>
          </a:xfrm>
          <a:prstGeom prst="flowChartAlternateProcess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5640" y="256716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29414"/>
                </a:solidFill>
                <a:latin typeface="Verdana"/>
              </a:rPr>
              <a:t>Legitimación para actuar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71640" y="35020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ccff"/>
                </a:solidFill>
                <a:latin typeface="Verdana"/>
              </a:rPr>
              <a:t>Tramitación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42920" y="44388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6262"/>
                </a:solidFill>
                <a:latin typeface="Verdana"/>
              </a:rPr>
              <a:t>Sentenci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26920" y="515952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Verdana"/>
              </a:rPr>
              <a:t>Prácticas</a:t>
            </a:r>
            <a:r>
              <a:rPr b="1" lang="es-ES" sz="1800" spc="-1" strike="noStrike">
                <a:solidFill>
                  <a:srgbClr val="99ccff"/>
                </a:solidFill>
                <a:latin typeface="Verdana"/>
              </a:rPr>
              <a:t> </a:t>
            </a:r>
            <a:r>
              <a:rPr b="1" lang="es-ES" sz="1800" spc="-1" strike="noStrike">
                <a:solidFill>
                  <a:srgbClr val="ff6600"/>
                </a:solidFill>
                <a:latin typeface="Verdana"/>
              </a:rPr>
              <a:t>antisindicale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885960"/>
            <a:ext cx="4572000" cy="609480"/>
          </a:xfrm>
          <a:prstGeom prst="flowChartAlternateProcess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Verdana"/>
              </a:rPr>
              <a:t>Aumenta </a:t>
            </a: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multas</a:t>
            </a:r>
            <a:r>
              <a:rPr b="0" lang="es-CL" sz="1800" spc="-1" strike="noStrike">
                <a:solidFill>
                  <a:srgbClr val="ff6600"/>
                </a:solidFill>
                <a:latin typeface="Verdana"/>
              </a:rPr>
              <a:t> por reincidenci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1571760"/>
            <a:ext cx="4647960" cy="2057400"/>
          </a:xfrm>
          <a:prstGeom prst="flowChartAlternateProcess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ffff00"/>
                </a:solidFill>
                <a:uFillTx/>
                <a:latin typeface="Verdana"/>
              </a:rPr>
              <a:t>Práctica antisindical que involucre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ffff00"/>
                </a:solidFill>
                <a:uFillTx/>
                <a:latin typeface="Verdana"/>
              </a:rPr>
              <a:t>despido de un trabajador con fuero,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ffff00"/>
                </a:solidFill>
                <a:uFillTx/>
                <a:latin typeface="Verdana"/>
              </a:rPr>
              <a:t>la primera resolución prevé</a:t>
            </a:r>
            <a:r>
              <a:rPr b="0" lang="es-CL" sz="1800" spc="-1" strike="noStrike">
                <a:solidFill>
                  <a:srgbClr val="ff66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Verdana"/>
              </a:rPr>
              <a:t>Reincorporación, bajo pena de mult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Verdana"/>
              </a:rPr>
              <a:t>Debe acreditarse reincorporación y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Verdana"/>
              </a:rPr>
              <a:t>pago de multa. Si no se puede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Verdana"/>
              </a:rPr>
              <a:t>aumentar la multa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62520" y="3705120"/>
            <a:ext cx="4724280" cy="2057400"/>
          </a:xfrm>
          <a:prstGeom prst="flowChartAlternateProcess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ffff00"/>
                </a:solidFill>
                <a:uFillTx/>
                <a:latin typeface="Verdana"/>
              </a:rPr>
              <a:t>Práctica antisindical que involucre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ffff00"/>
                </a:solidFill>
                <a:uFillTx/>
                <a:latin typeface="Verdana"/>
              </a:rPr>
              <a:t>despido de un trabajador sin fuero,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ffff00"/>
                </a:solidFill>
                <a:uFillTx/>
                <a:latin typeface="Verdana"/>
              </a:rPr>
              <a:t>la primera resolución prevé</a:t>
            </a:r>
            <a:r>
              <a:rPr b="0" lang="es-CL" sz="1800" spc="-1" strike="noStrike">
                <a:solidFill>
                  <a:srgbClr val="ff66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Verdana"/>
              </a:rPr>
              <a:t>Nulidad del despido, trabajador opt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Verdana"/>
              </a:rPr>
              <a:t>entre reincorporación e indemnización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Verdana"/>
              </a:rPr>
              <a:t>Además de indemnización especial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Verdana"/>
              </a:rPr>
              <a:t>entre 6 y 11 meses de remuneraciones</a:t>
            </a: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964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Reforma a la Justicia Labora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2276640"/>
            <a:ext cx="66978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ahoma"/>
              </a:rPr>
              <a:t>Ley N°20.164 (D. Oficial 14.02.2007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Ley N°20.252 (D. Oficial 15.02.2008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ahoma"/>
              </a:rPr>
              <a:t>Ley N°20.260 (D. Oficial 29.03.2008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Ley N°20.287 (D. Oficial 17.09.2008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964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Reforma a la Justicia Labora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16000" y="1844640"/>
            <a:ext cx="66978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438480" indent="-438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Principios formativos del procedimiento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438480" indent="-4384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Oralidad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438480" indent="-4384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Publicidad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438480" indent="-4384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Concentració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438480" indent="-4384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Celeridad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438480" indent="-4384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mpulso procesal de oficio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438480" indent="-4384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Inmediació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438480" indent="-4384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Buena f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438480" indent="-4384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Gratuidad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438480" indent="-4384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Bilateralidad de la audiencia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964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Reforma a la Justicia Labora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2060640"/>
            <a:ext cx="77058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529920" indent="-5299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00"/>
                </a:solidFill>
                <a:uFillTx/>
                <a:latin typeface="Tahoma"/>
              </a:rPr>
              <a:t>Vigencia progresiva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ecff"/>
                </a:solidFill>
                <a:latin typeface="Tahoma"/>
              </a:rPr>
              <a:t>31 de marzo 2008: Regiones III y XII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31 de octubre 2008: Regiones I, IV, V, XIV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ecff"/>
                </a:solidFill>
                <a:latin typeface="Tahoma"/>
              </a:rPr>
              <a:t>30 de abril 2009: Regiones II, VI, VII, VII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2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31 de agosto 2009: RM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2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2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ecff"/>
                </a:solidFill>
                <a:latin typeface="Tahoma"/>
              </a:rPr>
              <a:t>30 de octubre 2009: IX, X, XI, XV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964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Reforma a la Justicia Labora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1628640"/>
            <a:ext cx="77058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450720" indent="-4507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ccecff"/>
                </a:solidFill>
                <a:uFillTx/>
                <a:latin typeface="Tahoma"/>
              </a:rPr>
              <a:t>Procedimientos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450720" indent="-450720">
              <a:lnSpc>
                <a:spcPct val="15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ahoma"/>
              </a:rPr>
              <a:t>De aplicación general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450720" indent="-450720">
              <a:lnSpc>
                <a:spcPct val="15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ecff"/>
                </a:solidFill>
                <a:latin typeface="Tahoma"/>
              </a:rPr>
              <a:t>De cumplimiento de sentencia y ejecución de títulos ejecutivo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450720" indent="-450720">
              <a:lnSpc>
                <a:spcPct val="15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ahoma"/>
              </a:rPr>
              <a:t>De tutela laboral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450720" indent="-450720">
              <a:lnSpc>
                <a:spcPct val="15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ecff"/>
                </a:solidFill>
                <a:latin typeface="Tahoma"/>
              </a:rPr>
              <a:t>Monitorio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450720" indent="-450720">
              <a:lnSpc>
                <a:spcPct val="15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ahoma"/>
              </a:rPr>
              <a:t>Reclamación de multas y demás resoluciones administrativa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</a:rPr>
              <a:t>Procedimiento de tutela laboral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13000"/>
            <a:ext cx="2808000" cy="934920"/>
          </a:xfrm>
          <a:prstGeom prst="flowChartAlternateProcess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134136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Verdana"/>
              </a:rPr>
              <a:t>Garantías constitucionales involucrada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263520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357336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4508640"/>
            <a:ext cx="2448000" cy="790560"/>
          </a:xfrm>
          <a:prstGeom prst="flowChartAlternateProcess">
            <a:avLst/>
          </a:prstGeom>
          <a:noFill/>
          <a:ln w="19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5443560"/>
            <a:ext cx="2448000" cy="790560"/>
          </a:xfrm>
          <a:prstGeom prst="flowChartAlternateProcess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26352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29414"/>
                </a:solidFill>
                <a:latin typeface="Verdana"/>
              </a:rPr>
              <a:t>Legitimación para actuar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7164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ccff"/>
                </a:solidFill>
                <a:latin typeface="Verdana"/>
              </a:rPr>
              <a:t>Tramitación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42920" y="4724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6262"/>
                </a:solidFill>
                <a:latin typeface="Verdana"/>
              </a:rPr>
              <a:t>Sentenci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6920" y="551664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Verdana"/>
              </a:rPr>
              <a:t>Prácticas antisindicale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55640" y="981000"/>
            <a:ext cx="2232000" cy="790560"/>
          </a:xfrm>
          <a:prstGeom prst="flowChartAlternateProcess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90792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Verdana"/>
              </a:rPr>
              <a:t>Garantías constitucionales involucrada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2637000"/>
            <a:ext cx="2232000" cy="790560"/>
          </a:xfrm>
          <a:prstGeom prst="flowChartAlternateProcess">
            <a:avLst/>
          </a:prstGeom>
          <a:noFill/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3573360"/>
            <a:ext cx="2232000" cy="79056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4437000"/>
            <a:ext cx="2232000" cy="790560"/>
          </a:xfrm>
          <a:prstGeom prst="flowChartAlternateProcess">
            <a:avLst/>
          </a:prstGeom>
          <a:noFill/>
          <a:ln w="19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5300640"/>
            <a:ext cx="2232000" cy="790560"/>
          </a:xfrm>
          <a:prstGeom prst="flowChartAlternateProcess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2781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29414"/>
                </a:solidFill>
                <a:latin typeface="Verdana"/>
              </a:rPr>
              <a:t>Legitimación para actuar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7164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ccff"/>
                </a:solidFill>
                <a:latin typeface="Verdana"/>
              </a:rPr>
              <a:t>Tramitación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58920" y="4653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6262"/>
                </a:solidFill>
                <a:latin typeface="Verdana"/>
              </a:rPr>
              <a:t>Sentenci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26920" y="5373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6600"/>
                </a:solidFill>
                <a:latin typeface="Verdana"/>
              </a:rPr>
              <a:t>Prácticas</a:t>
            </a:r>
            <a:r>
              <a:rPr b="0" lang="es-ES" sz="1800" spc="-1" strike="noStrike">
                <a:solidFill>
                  <a:srgbClr val="99cc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ff6600"/>
                </a:solidFill>
                <a:latin typeface="Verdana"/>
              </a:rPr>
              <a:t>antisindicale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87640" y="1339920"/>
            <a:ext cx="122400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11640" y="981000"/>
            <a:ext cx="2232000" cy="790560"/>
          </a:xfrm>
          <a:prstGeom prst="flowChartAlternateProcess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11640" y="907920"/>
            <a:ext cx="22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00"/>
                </a:solidFill>
                <a:latin typeface="Verdana"/>
              </a:rPr>
              <a:t>Derecho a la vida y la integridad psíquica.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11640" y="2638440"/>
            <a:ext cx="2232000" cy="790560"/>
          </a:xfrm>
          <a:prstGeom prst="flowChartAlternateProcess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</a:rPr>
              <a:t>Respeto a la vida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</a:rPr>
              <a:t>privada, la honra 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</a:rPr>
              <a:t>y la de su familia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43640" y="1339920"/>
            <a:ext cx="7308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43640" y="3068640"/>
            <a:ext cx="7308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76640"/>
            <a:ext cx="2232000" cy="1008000"/>
          </a:xfrm>
          <a:prstGeom prst="flowChartAlternateProcess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</a:rPr>
              <a:t>Inviolabilidad de 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</a:rPr>
              <a:t>toda forma de 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</a:rPr>
              <a:t>comunicación 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</a:rPr>
              <a:t>privada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43640" y="4653000"/>
            <a:ext cx="7308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55640" y="1125360"/>
            <a:ext cx="2448000" cy="790920"/>
          </a:xfrm>
          <a:prstGeom prst="flowChartAlternateProcess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26920" y="105264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Verdana"/>
              </a:rPr>
              <a:t>Garantías constitucionales involucrada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5640" y="285264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371808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5640" y="4581360"/>
            <a:ext cx="2448000" cy="790920"/>
          </a:xfrm>
          <a:prstGeom prst="flowChartAlternateProcess">
            <a:avLst/>
          </a:prstGeom>
          <a:noFill/>
          <a:ln w="19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5445000"/>
            <a:ext cx="2448000" cy="790560"/>
          </a:xfrm>
          <a:prstGeom prst="flowChartAlternateProcess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5640" y="292572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29414"/>
                </a:solidFill>
                <a:latin typeface="Verdana"/>
              </a:rPr>
              <a:t>Legitimación para actuar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1640" y="386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ccff"/>
                </a:solidFill>
                <a:latin typeface="Verdana"/>
              </a:rPr>
              <a:t>Tramitación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4797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6262"/>
                </a:solidFill>
                <a:latin typeface="Verdana"/>
              </a:rPr>
              <a:t>Sentenci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551808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6600"/>
                </a:solidFill>
                <a:latin typeface="Verdana"/>
              </a:rPr>
              <a:t>Prácticas</a:t>
            </a:r>
            <a:r>
              <a:rPr b="0" lang="es-ES" sz="1800" spc="-1" strike="noStrike">
                <a:solidFill>
                  <a:srgbClr val="99cc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ff6600"/>
                </a:solidFill>
                <a:latin typeface="Verdana"/>
              </a:rPr>
              <a:t>antisindicale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35280" y="1125360"/>
            <a:ext cx="2521080" cy="863640"/>
          </a:xfrm>
          <a:prstGeom prst="flowChartAlternateProcess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Libertad de conciencia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y religiosa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37080" y="2133720"/>
            <a:ext cx="2519280" cy="934920"/>
          </a:xfrm>
          <a:prstGeom prst="flowChartAlternateProcess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Libertad de opinión, 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de información 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y de expresión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35280" y="3213000"/>
            <a:ext cx="2521080" cy="863640"/>
          </a:xfrm>
          <a:prstGeom prst="flowChartAlternateProcess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Libertad de trabajo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</a:rPr>
              <a:t>No discriminación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</a:rPr>
              <a:t>Libertad Sindical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33920" y="4292640"/>
            <a:ext cx="48006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Incompatible con: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Recurso de protección.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Acciones que NO tengan el mismo procedimiento.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55640" y="83808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5640" y="765000"/>
            <a:ext cx="244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Garantías constitucionales involucradas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278280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371808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4581360"/>
            <a:ext cx="2448000" cy="790920"/>
          </a:xfrm>
          <a:prstGeom prst="flowChartAlternateProcess">
            <a:avLst/>
          </a:prstGeom>
          <a:noFill/>
          <a:ln w="19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5640" y="5516640"/>
            <a:ext cx="2448000" cy="790560"/>
          </a:xfrm>
          <a:prstGeom prst="flowChartAlternateProcess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278136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29414"/>
                </a:solidFill>
                <a:latin typeface="Verdana"/>
              </a:rPr>
              <a:t>Legitimación para actuar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386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ccff"/>
                </a:solidFill>
                <a:latin typeface="Verdana"/>
              </a:rPr>
              <a:t>Tramitación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4797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6262"/>
                </a:solidFill>
                <a:latin typeface="Verdana"/>
              </a:rPr>
              <a:t>Sentenci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558972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6600"/>
                </a:solidFill>
                <a:latin typeface="Verdana"/>
              </a:rPr>
              <a:t>Prácticas</a:t>
            </a:r>
            <a:r>
              <a:rPr b="0" lang="es-ES" sz="1800" spc="-1" strike="noStrike">
                <a:solidFill>
                  <a:srgbClr val="99cc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ff6600"/>
                </a:solidFill>
                <a:latin typeface="Verdana"/>
              </a:rPr>
              <a:t>antisindicale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2608200"/>
            <a:ext cx="1905120" cy="609840"/>
          </a:xfrm>
          <a:prstGeom prst="flowChartAlternateProcess">
            <a:avLst/>
          </a:prstGeom>
          <a:noFill/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Acción general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1413000"/>
            <a:ext cx="2667240" cy="1523880"/>
          </a:xfrm>
          <a:prstGeom prst="flowChartAlternateProcess">
            <a:avLst/>
          </a:prstGeom>
          <a:noFill/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29414"/>
                </a:solidFill>
                <a:latin typeface="Verdana"/>
              </a:rPr>
              <a:t>Cualquier trabajador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29414"/>
                </a:solidFill>
                <a:latin typeface="Verdana"/>
              </a:rPr>
              <a:t>o dirigente sindical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29414"/>
                </a:solidFill>
                <a:latin typeface="Verdana"/>
              </a:rPr>
              <a:t>con derecho o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29414"/>
                </a:solidFill>
                <a:latin typeface="Verdana"/>
              </a:rPr>
              <a:t>interés legítimo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4589640"/>
            <a:ext cx="1905120" cy="609480"/>
          </a:xfrm>
          <a:prstGeom prst="flowChartAlternateProcess">
            <a:avLst/>
          </a:prstGeom>
          <a:noFill/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Acción por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despido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3141720"/>
            <a:ext cx="2590920" cy="790560"/>
          </a:xfrm>
          <a:prstGeom prst="flowChartAlternateProcess">
            <a:avLst/>
          </a:prstGeom>
          <a:noFill/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29414"/>
                </a:solidFill>
                <a:latin typeface="Verdana"/>
              </a:rPr>
              <a:t>La Inspección del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29414"/>
                </a:solidFill>
                <a:latin typeface="Verdana"/>
              </a:rPr>
              <a:t>Trabajo, previ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29414"/>
                </a:solidFill>
                <a:latin typeface="Verdana"/>
              </a:rPr>
              <a:t>mediación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3218040"/>
            <a:ext cx="2133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29414"/>
                </a:solidFill>
                <a:latin typeface="Verdana"/>
              </a:rPr>
              <a:t>Aplicable estando vigente la relación laboral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5122800"/>
            <a:ext cx="2133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29414"/>
                </a:solidFill>
                <a:latin typeface="Verdana"/>
              </a:rPr>
              <a:t>Aplicable una vez terminada la relación laboral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715000" y="4513320"/>
            <a:ext cx="2590920" cy="790560"/>
          </a:xfrm>
          <a:prstGeom prst="flowChartAlternateProcess">
            <a:avLst/>
          </a:prstGeom>
          <a:noFill/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29414"/>
                </a:solidFill>
                <a:latin typeface="Verdana"/>
              </a:rPr>
              <a:t>Trabajador afectado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5T17:10:17Z</dcterms:created>
  <dc:creator>M. Cristina Gajardo</dc:creator>
  <dc:description/>
  <dc:language>en-US</dc:language>
  <cp:lastModifiedBy>María Cristina Gajardo</cp:lastModifiedBy>
  <cp:lastPrinted>1999-08-04T15:31:28Z</cp:lastPrinted>
  <dcterms:modified xsi:type="dcterms:W3CDTF">2008-10-27T13:54:56Z</dcterms:modified>
  <cp:revision>223</cp:revision>
  <dc:subject/>
  <dc:title>Reforma a la Justicia Laboral</dc:title>
</cp:coreProperties>
</file>