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09B-A08E-48BA-B518-004F6955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BF4-4895-4821-B394-71E9C02D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0F4-17F2-43DE-897F-56DD4FE2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566-3C5A-49FA-9D12-599B7290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E8B8-45BA-40FB-A010-E0A38A67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3CA9-6346-467A-8F6D-142BE746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8F44-C650-4CB6-B12A-7E084946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5ABB-E982-4DAD-81D9-7E5AC43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DCA8-4EA1-4BE6-A552-CCC145F6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CFC1-FB5D-43D3-9099-8ECF6A5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CF89-3D61-4475-B45E-96ACF6E8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61C-9A6F-4F89-A86E-11C3FB62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B8B6-04EF-4FED-A6CC-B6A6D84A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BC76-638C-4359-8B98-0B7C3309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3569-DD5F-432A-8FF2-175BAC9C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3F38-228B-4F22-949B-90A258A4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55CD-2BFC-4F96-AF1E-BB910C46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1F3-93E7-451B-8A1E-D2462E7D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5C3-8DA2-4208-AC41-83E6FC4A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EDD-5677-478A-BE85-8E0066D0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F33-BD46-48F3-A4B0-571C3AB6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F65-D6BB-4F29-A14F-67BFD4F0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AD2-ACCC-4147-93C4-B4FF25B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118-ADC7-4DB9-8A3A-6599B59F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EED7-5535-406B-AB5F-C74006752A4A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1FAF-7AFE-418F-AF31-B3EFB575D02D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276640"/>
            <a:ext cx="6697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ahoma"/>
              </a:rPr>
              <a:t>Antecedent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cecff"/>
                </a:solidFill>
                <a:uFillTx/>
                <a:latin typeface="Tahoma"/>
              </a:rPr>
              <a:t>Leyes que la contienen</a:t>
            </a:r>
            <a:r>
              <a:rPr b="1" lang="es-ES_tradnl" sz="2800" spc="-1" strike="noStrike">
                <a:solidFill>
                  <a:srgbClr val="ccec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022 (D. Oficial 30.05.200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023 (D. Oficial 31.05.200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087 (D. Oficial 3.01.2006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5640" y="105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981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781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646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510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5373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28544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378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4726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99ff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54468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1173240"/>
            <a:ext cx="1067040" cy="6094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Plaz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1096920"/>
            <a:ext cx="3429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60 días desde vulner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o separ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2011320"/>
            <a:ext cx="3352680" cy="28954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Normas especiales par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a acción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e suspende por reclam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ante la I.T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i no prospera acción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tutela, puede intentar la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acción de despi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Injustificado, en subsidio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4983120"/>
            <a:ext cx="2448000" cy="8668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Tiene prefer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respecto de la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demás causa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4983120"/>
            <a:ext cx="2448000" cy="10666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a I.T. puede emiti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un informe sobre lo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hechos, si el tribun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o requie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83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765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2565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3430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429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5229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6384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57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4510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5302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957240"/>
            <a:ext cx="464832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e rige de acuerdo al procedimien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Ordinario, salvo que exista una norm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procesal especial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1917720"/>
            <a:ext cx="4967280" cy="208764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Juez tiene mayores facultade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cautelares, puede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suspender el ac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impugnado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O bien, si se trata de lesione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de especial gravedad o si con posterioridad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no pueda dejarse sin efectos pue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condenarse al pago de multa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Es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resolución no se puede recurrir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forma algun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081320"/>
            <a:ext cx="4800600" cy="137160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Una vez que existen “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indicio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”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vulneración de DDFF, empleador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debe probar que actuó correctament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55640" y="909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836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6370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3502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4365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229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270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57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465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5302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952560"/>
            <a:ext cx="5105520" cy="25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Contenido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claración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Existencia o no de lesiones 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rechos fundamentale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Cese de conducta, bajo pena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Aplicación de medidas concretas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reparación, bajo apercibimien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 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695760"/>
            <a:ext cx="5105520" cy="228600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ones si hubo despido: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ón por años de servici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más sustitutiva.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dicional entre 6 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11 meses de remuneracione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Si éste es discriminatorio y “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grave</a:t>
            </a: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”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reincorporación</a:t>
            </a: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 o pago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ones de, a elección de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trabajador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766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693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249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33591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4222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5086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25671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3502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4388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51595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885960"/>
            <a:ext cx="4572000" cy="60948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umenta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multas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 por reincid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1571760"/>
            <a:ext cx="4647960" cy="205740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Práctica antisindical que involuc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despido de un trabajador con fuero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la primera resolución prevé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Reincorporación, bajo pena de mul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Debe acreditarse reincorporación y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pago de multa. Si no se pue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umentar la 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705120"/>
            <a:ext cx="4724280" cy="205740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Práctica antisindical que involuc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despido de un trabajador sin fuero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la primera resolución prevé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Nulidad del despido, trabajador op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entre reincorporación e indemnización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demás de indemnización especi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entre 6 y 11 meses de remuneracione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276640"/>
            <a:ext cx="6697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164 (D. Oficial 14.02.2007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252 (D. Oficial 15.02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260 (D. Oficial 29.03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287 (D. Oficial 17.09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1844640"/>
            <a:ext cx="6697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438480" indent="-43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ncipios formativos del procedimiento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ral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ncentració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eler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mpulso procesal de ofici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Inmediació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uena f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Gratuidad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ilateralidad de la audiencia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060640"/>
            <a:ext cx="7705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Tahoma"/>
              </a:rPr>
              <a:t>Vigencia progresiva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1 de marzo 2008: Regiones III y XI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31 de octubre 2008: Regiones I, IV, V, XIV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0 de abril 2009: Regiones II, VI, VII, VI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31 de agosto 2009: RM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0 de octubre 2009: IX, X, XI, XV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628640"/>
            <a:ext cx="7705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ccecff"/>
                </a:solidFill>
                <a:uFillTx/>
                <a:latin typeface="Tahoma"/>
              </a:rPr>
              <a:t>Procedimiento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De aplicación gener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ecff"/>
                </a:solidFill>
                <a:latin typeface="Tahoma"/>
              </a:rPr>
              <a:t>De cumplimiento de sentencia y ejecución de títulos ejecutivo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De tutela labor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ecff"/>
                </a:solidFill>
                <a:latin typeface="Tahoma"/>
              </a:rPr>
              <a:t>Monitori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Reclamación de multas y demás resoluciones administrativa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Procedimiento de tutela labor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2808000" cy="934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341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6352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573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508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4435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6352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472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516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Prácticas 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981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9079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2637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357336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437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5300640"/>
            <a:ext cx="2232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78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653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1339920"/>
            <a:ext cx="12240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981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90792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Verdana"/>
              </a:rPr>
              <a:t>Derecho a la vida y la integridad psíquica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63844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Respeto a la vid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privada, la honra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y la de su famili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133992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43640" y="306864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76640"/>
            <a:ext cx="2232000" cy="100800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Inviolabilidad de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toda forma de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comunicación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privad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465300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1125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1052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2852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71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581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4450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2925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518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1125360"/>
            <a:ext cx="2521080" cy="86364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concienci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y religios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7080" y="2133720"/>
            <a:ext cx="2519280" cy="934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opinión,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de información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y de expresión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213000"/>
            <a:ext cx="2521080" cy="86364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trabajo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No discriminación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Libertad Sindical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4292640"/>
            <a:ext cx="48006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Incompatible con: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Recurso de protección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Acciones que NO tengan el mismo procedimiento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55640" y="83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765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782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371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581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5516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781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5589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608200"/>
            <a:ext cx="1905120" cy="60984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cción gener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1413000"/>
            <a:ext cx="2667240" cy="152388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Cualquier trabajado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o dirigente sindic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con derecho o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interés legítim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4589640"/>
            <a:ext cx="1905120" cy="60948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cción por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despi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3141720"/>
            <a:ext cx="259092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La Inspección del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Trabajo, prev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medi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21804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29414"/>
                </a:solidFill>
                <a:latin typeface="Verdana"/>
              </a:rPr>
              <a:t>Aplicable estando vigente la relación laboral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12280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29414"/>
                </a:solidFill>
                <a:latin typeface="Verdana"/>
              </a:rPr>
              <a:t>Aplicable una vez terminada la relación laboral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4513320"/>
            <a:ext cx="259092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Trabajador afecta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5T17:10:17Z</dcterms:created>
  <dc:creator>M. Cristina Gajardo</dc:creator>
  <dc:description/>
  <dc:language>en-US</dc:language>
  <cp:lastModifiedBy>María Cristina Gajardo</cp:lastModifiedBy>
  <cp:lastPrinted>1999-08-04T15:31:28Z</cp:lastPrinted>
  <dcterms:modified xsi:type="dcterms:W3CDTF">2008-10-27T13:54:56Z</dcterms:modified>
  <cp:revision>223</cp:revision>
  <dc:subject/>
  <dc:title>Reforma a la Justicia Laboral</dc:title>
</cp:coreProperties>
</file>