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5E5-D576-45CC-A41F-F334F165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34A-B60D-430E-9F87-6775BB3A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B22-EB5A-4FFA-A0E0-4F132FF4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97D-DFC6-426B-9074-033ABBE7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04A6-5064-4143-89B1-13038874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EFF8-11D3-4C58-8A9E-9C7E807D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207C-7293-4475-A90E-99C03BB5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D400-30CC-45A1-B267-907C51C6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AA66-0F3A-45C9-BE38-709671D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AA33-24C7-434D-B883-0A5F1DC3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9DFA-DE48-4C50-886D-D22DBD72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5D3-C458-4EB8-A0F2-675C196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0CC5-33DA-4C0F-BD88-C09D1B95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BEA4-5899-410E-A70F-BC40355E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66C8-ED76-47C8-9102-BEBC13DB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C0E-F823-4AB7-B181-4FE8B93C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74C7-67D5-483B-A4E1-F3553966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979-4F96-49AC-87FA-FCFC5589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079-807E-41EF-83DC-54F1FAB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8C9-BBBD-4478-906C-386D0E41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C5A-76FC-41C5-ADF3-07019824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3BB-1675-4F89-B841-DF543BAA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D32-3458-4698-B707-F70241CE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237-00CB-427E-BCDC-03BA0B7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295-8D59-4348-8F9B-0D956F77D0EE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0800-92E9-46D0-BCBF-6E1EA2DD77AB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276640"/>
            <a:ext cx="6697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ahoma"/>
              </a:rPr>
              <a:t>Antecedent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cecff"/>
                </a:solidFill>
                <a:uFillTx/>
                <a:latin typeface="Tahoma"/>
              </a:rPr>
              <a:t>Leyes que la contienen</a:t>
            </a:r>
            <a:r>
              <a:rPr b="1" lang="es-ES_tradnl" sz="2800" spc="-1" strike="noStrike">
                <a:solidFill>
                  <a:srgbClr val="ccec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022 (D. Oficial 30.05.200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023 (D. Oficial 31.05.200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087 (D. Oficial 3.01.2006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5640" y="105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981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781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646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510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5373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28544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78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4726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99ff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54468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1173240"/>
            <a:ext cx="1067040" cy="6094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Plaz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1096920"/>
            <a:ext cx="3429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60 días desde vulner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o separ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2011320"/>
            <a:ext cx="3352680" cy="28954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Normas especiales par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a acción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e suspende por reclam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ante la I.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i no prospera acción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tutela, puede intentar la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acción de despi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Injustificado, en subsidio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4983120"/>
            <a:ext cx="2448000" cy="8668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Tiene prefer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respecto de la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demás causa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4983120"/>
            <a:ext cx="2448000" cy="10666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a I.T. puede emiti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un informe sobre lo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hechos, si el tribun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o requie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83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765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2565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3430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429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5229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6384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57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4510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302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957240"/>
            <a:ext cx="464832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e rige de acuerdo al proced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Ordinario, salvo que exista una norm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procesal especial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1917720"/>
            <a:ext cx="4967280" cy="208764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Juez tiene mayores facultade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cautelares, puede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suspender el ac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impugnado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O bien, si se trata de lesione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de especial gravedad o si con posterioridad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no pueda dejarse sin efectos pue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condenarse al pago de multa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Es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resolución no se puede recurrir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forma algun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081320"/>
            <a:ext cx="4800600" cy="137160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Una vez que existen “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indicio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”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vulneración de DDFF, empleador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debe probar que actuó correctament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5640" y="909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836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6370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3502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4365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229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270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57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5302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952560"/>
            <a:ext cx="5105520" cy="25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Contenido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claración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Existencia o no de lesiones 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rechos fundamental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Cese de conducta, bajo pena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Aplicación de medidas concretas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reparación, bajo apercib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 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695760"/>
            <a:ext cx="5105520" cy="228600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ones si hubo despido: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ón por años de servici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más sustitutiva.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dicional entre 6 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11 meses de remuneracion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Si éste es discriminatorio y “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grave</a:t>
            </a: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”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reincorporación</a:t>
            </a: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 o pago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ones de, a elección de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trabajador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766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693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249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33591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4222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5086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5671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3502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438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1595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885960"/>
            <a:ext cx="4572000" cy="60948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umenta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multas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 por reincid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1571760"/>
            <a:ext cx="4647960" cy="205740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Práctica antisindical que involuc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despido de un trabajador con fuero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la primera resolución prevé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Reincorporación, bajo pena de mul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Debe acreditarse reincorporación y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pago de multa. Si no se pue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umentar la 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705120"/>
            <a:ext cx="4724280" cy="205740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Práctica antisindical que involuc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despido de un trabajador sin fuero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la primera resolución prevé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Nulidad del despido, trabajador op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entre reincorporación e indemnización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demás de indemnización especi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entre 6 y 11 meses de remuneracione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276640"/>
            <a:ext cx="6697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164 (D. Oficial 14.02.2007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252 (D. Oficial 15.02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260 (D. Oficial 29.03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287 (D. Oficial 17.09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1844640"/>
            <a:ext cx="6697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438480" indent="-43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ncipios formativos del procedimiento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ral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centra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eler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mpulso procesal de ofici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Inmedia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uena f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Gratuidad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ilateralidad de la audiencia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060640"/>
            <a:ext cx="7705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Vigencia progresiva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1 de marzo 2008: Regiones III y XI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31 de octubre 2008: Regiones I, IV, V, XI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0 de abril 2009: Regiones II, VI, VII, VI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31 de agosto 2009: RM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0 de octubre 2009: IX, X, XI, X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628640"/>
            <a:ext cx="7705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ccecff"/>
                </a:solidFill>
                <a:uFillTx/>
                <a:latin typeface="Tahoma"/>
              </a:rPr>
              <a:t>Procedimiento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De aplicación gener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ecff"/>
                </a:solidFill>
                <a:latin typeface="Tahoma"/>
              </a:rPr>
              <a:t>De cumplimiento de sentencia y ejecución de títulos ejecutivo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De tutela labor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ecff"/>
                </a:solidFill>
                <a:latin typeface="Tahoma"/>
              </a:rPr>
              <a:t>Monitori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Reclamación de multas y demás resoluciones administrativa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Procedimiento de tutela labor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2808000" cy="934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341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6352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573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508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4435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635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472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516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Prácticas 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981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9079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637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357336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437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5300640"/>
            <a:ext cx="2232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65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1339920"/>
            <a:ext cx="12240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981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90792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Verdana"/>
              </a:rPr>
              <a:t>Derecho a la vida y la integridad psíquica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63844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Respeto a la vid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privada, la honra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y la de su famili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133992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306864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76640"/>
            <a:ext cx="2232000" cy="100800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Inviolabilidad de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toda forma de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comunicación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privad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465300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1125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0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852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71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581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4450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2925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518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1125360"/>
            <a:ext cx="2521080" cy="86364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concienci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y religios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7080" y="2133720"/>
            <a:ext cx="2519280" cy="934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opinión,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de información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y de expresió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213000"/>
            <a:ext cx="2521080" cy="86364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trabajo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No discriminació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Libertad Sindical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292640"/>
            <a:ext cx="48006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Incompatible con: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Recurso de protección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Acciones que NO tengan el mismo procedimiento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5640" y="83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765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782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371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581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5516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781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5589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608200"/>
            <a:ext cx="1905120" cy="60984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cción gener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1413000"/>
            <a:ext cx="2667240" cy="152388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Cualquier trabajado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o dirigente sindic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con derecho o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interés legítim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589640"/>
            <a:ext cx="1905120" cy="60948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cción por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despi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3141720"/>
            <a:ext cx="259092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La Inspección del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Trabajo, prev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medi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21804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29414"/>
                </a:solidFill>
                <a:latin typeface="Verdana"/>
              </a:rPr>
              <a:t>Aplicable estando vigente la relación laboral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12280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29414"/>
                </a:solidFill>
                <a:latin typeface="Verdana"/>
              </a:rPr>
              <a:t>Aplicable una vez terminada la relación laboral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513320"/>
            <a:ext cx="259092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Trabajador afecta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17:10:17Z</dcterms:created>
  <dc:creator>M. Cristina Gajardo</dc:creator>
  <dc:description/>
  <dc:language>en-US</dc:language>
  <cp:lastModifiedBy>María Cristina Gajardo</cp:lastModifiedBy>
  <cp:lastPrinted>1999-08-04T15:31:28Z</cp:lastPrinted>
  <dcterms:modified xsi:type="dcterms:W3CDTF">2008-10-27T13:54:56Z</dcterms:modified>
  <cp:revision>223</cp:revision>
  <dc:subject/>
  <dc:title>Reforma a la Justicia Laboral</dc:title>
</cp:coreProperties>
</file>