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687-605F-426C-9178-4A31C45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FDE-1610-4BC3-8B1F-76FE98F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3D7-0065-4686-A74D-EEF00B05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8C2-E7FD-4596-A436-CC5F12A6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432-9EA5-4A3C-9509-3BFEEE8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083-90F8-4EF5-9DC9-A349403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C9B4-B38E-4229-8A2D-24AA741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1F2-F8CC-42D1-8F99-79B2726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3BE-5647-4965-A0D9-0F5030B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EFE-11E6-466B-8751-5C7FA35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C62D-8F05-4932-8FC4-5365566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F58-3EE4-4DB0-AABF-BA0D2E6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09C-7C36-4E2A-A2C6-3DDB4C76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4A2F-292B-4877-B0A9-9A884CC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3745-D447-42AD-8A4D-1C2DFA8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56D-B1A9-4DE6-83C8-D650849E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EA3-CFA3-4A07-9939-34A166B5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83B-6F0F-444D-8572-73808C3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38A-26D8-44F1-9C75-7C849EB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26E-E669-4BE5-B545-AF26508A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785-6C94-4A20-BDB5-1441F4A3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BA3-B043-4881-9516-5C11062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5EC-72F6-4E39-ABA9-A0322B9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F7A-9A9E-401E-A471-CA446F2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D54-0E93-44B7-B045-B58E1E41BAE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A425-5544-45C8-B3D3-5539C3328D6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a Democracia Industr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ristóbal Gutiérrez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c) Derecho de propiedad vs/ derecho al proceso democrá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nderación de derechos: ¿cuál tiene mayor peso? (en el caso del proceso democrático dentro de la emp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al: para garantizar otros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recho moral, connatural al homb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poca de discusión constitucional: Convenciones constitucionales de 1820 (en nuestro país 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as facciones coinciden en una amplia distribución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ficación rápidamente pasa a explicar el derecho de propiedad de las sociedades de capitales, pero es radicalmente distinto, debido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ol de la igualdad en el sistema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nguna justificación del derecho de propiedad justifica la marginalización total del derecho al proceso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) Un nuevo sistema democrático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garantizarse el derecho al proces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ser justo en el sentido de justicia distributiva de tanto recursos económicos como polí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mover la respons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bertad de adquisición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UDADANOS DEMOCRÁTICOS A TRAVÉS DE UNA DEMOCRACIA PARTICIP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440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3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55700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37000"/>
            <a:ext cx="1827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diciones técnicas y económ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645000"/>
            <a:ext cx="1827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valores culturales y predisposiciones ideológ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941720"/>
            <a:ext cx="1756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o político y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2492280"/>
            <a:ext cx="18748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es estratégicas en los pactos institucionales para la  consolidación de la democrac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997360"/>
            <a:ext cx="1224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er de los actore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744640"/>
            <a:ext cx="1656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s y procesos organizacionales a nivel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3206880"/>
            <a:ext cx="12240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18986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grav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derecho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fundamento leg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siones especi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tés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nsejos de vigila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mmon law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E.U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contractual, por minimalismo legal, estudio sociológic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ticipación directa en el establecimiento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estructuración de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 Sca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de participación en países de derecho consuetu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ámbito de establecimiento de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ticipación directa a través de represen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arantías de invers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ités conju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presentación en la Junta directiv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pra de acc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4. Críticas al concepto de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uraleza de la representación de los trabajadores y representantes polí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ocracia política más “permeable a los ciudadanos” que la democracia indust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realidad como dijimos la democracia industrial (que es una plasmación de la política) tiene una dinamicidad propia y distinta  a la democracia polí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 la igual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 democracia industrial no existe igualdad jurídica entre las partes (empleador- trabajador), ni con los trabajadores en s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udadanía laboral es permanente por que deriva de la ciudadanía política y entienden en la persona del trabajador como un sujeto de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la significación soci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os teóricos de la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íticas al concepto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1. El Concepto de participación de los trabajadores en las decisiones de la empresa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erecho del Trabajo como fenómen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odo es una decisión filosófic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erecho es una manifestación en sí de la polí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Una técnica instrumental de organización social establecida para la integración, institucionalización o juridificación de los conflictos social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alomequ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canismo de solución de conflictos, de una sociedad más bien compleja que busca soluciones distintas a la autotu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El Derecho del Trabajo como fenómeno polí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 Derecho del Trabajo, como toda rama del Derecho, tiene un contenido normativo propio: Artículo 7º del Códig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rgimiento histórico del Derecho del trabajo: Revolución Industrial, la economía requería de grandes masas de trabajadores. Se establece el conflict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ructural laboral o socio-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rero asalar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rio o emple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el Derecho del Trabajo representa el “equilibrio estructural”: de una parte un estatuto tutelar, pero de otra una legitimación del “sistema capitalista de produ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¿Cómo se explica hoy en día la participación de los trabajadore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delar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lfare sta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medida de las exigencias de la flexibilidad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Tres razones fundament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rmida, Durá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uevas condiciones económ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terés por el mercado inter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imitación del poder estatal para gobernar las variantes económ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juicio ideológico contra el factor trabaj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blemas de empl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s en las organizaciones sindi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Estado en las relaciones 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: No convivir con las desigualdades sino buscar proteger a la persona como ciudadano, es decir como sujeto de derech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cepto de particip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ribución efectiva de las relaciones de poder dentro de la empresa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ayl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entalización democrática de las relaciones de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democraci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der y contrapoder permanecen fijos. El contrapoder no puede sustituirl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mbitos que no se abarcan dentro del concepto de particip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 donde el dominio es de los trabaj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ipación en los benefic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ón sindical ord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205000"/>
            <a:ext cx="863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2. 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ocracia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smación política d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emocracia industrial presupone 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iudadano. Raz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orizontalidad de los derechos fundamentale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tivización de los derechos fundamentales por el poder de mando del emplea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IUDADANÍA LAB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229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El rol de la Igualdad en la tesis contractua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ocqueville: Libertad se opone a la igualdad. Debe preferirse a la pri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wls- Dworkin: No existe derecho a la libertad, principio princip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hl: Debe existir un mínimo de igualdad para que la democracia sea viable (recursos económicos implican recursos polít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El derecho al proceso democr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ndamento: “Velo de ignoranci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derecho de propiedad en el principio de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rean desigualdades de facto entre ciudadan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arginan del derecho al proceso democrático dentro de la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l derecho al proceso democrático.</a:t>
            </a:r>
            <a:r>
              <a:rPr b="0" lang="es-ES_tradnl" sz="2000" spc="-1" strike="noStrike">
                <a:solidFill>
                  <a:srgbClr val="330033"/>
                </a:solidFill>
                <a:latin typeface="Times New Roman"/>
              </a:rPr>
              <a:t> (Dahl)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de personas necesita tomar decisiones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etapas: se establece agenda, se toma decisiones sobre é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ben ser tomadas por quienes están sujetos a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merece igual consid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es libre de establecer sus propios inter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rupo debe decidir qué decisiones requieren ser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dad en la repartición de los recurs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to igual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ef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ón ilus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 de la agenda por 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vidad: Todos los miembros adultos, salvo los en tránsito o perturbados pueden ejercer el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ser necesario para la democracia concebida en términos modern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BE ENTENDER COMO UN NO SÓLO UN DERECHO FUNDAMENTAL, SINO UNO DE LOS MÁ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22:11Z</dcterms:created>
  <dc:creator>Ricardo Gutierrez</dc:creator>
  <dc:description/>
  <dc:language>en-US</dc:language>
  <cp:lastModifiedBy>María Cristina Gajardo</cp:lastModifiedBy>
  <dcterms:modified xsi:type="dcterms:W3CDTF">2008-10-23T13:08:55Z</dcterms:modified>
  <cp:revision>10</cp:revision>
  <dc:subject/>
  <dc:title>La Democracia Industrial</dc:title>
</cp:coreProperties>
</file>