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C7B-3E2D-4AFF-B032-C502B4B1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009-51E0-44AB-9167-D7086236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7EA-E006-4154-A4AD-A4601374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E59-E2D3-4FAA-B9E8-FF8E2275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0FEB-AB79-4210-9FA9-D18CE50E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7AC1-91D1-4E96-9559-193B8D87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6D4B-0BEB-470A-A979-B95C136B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8DD8-469E-4D74-85C2-A00A7827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C7F2-9090-43C5-8139-FD866D3B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7A47-41E1-415D-B93E-76E75377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C871-EC18-40F9-956B-405D3372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822-3249-46A9-9627-41B0CC85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15B8-6821-42C9-9F09-C161EDBC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C4D7-756C-4026-A6FD-8C1B724E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C9AD-B9F4-41B7-BE26-36ADB21C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A9EF-0C3C-47A6-A80F-E0460827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8C16-3E1E-4E11-B161-EA5A7BB7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5AC-1E99-4851-B882-A51F5AB0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BB9-2862-4490-B7A1-99FB9FDB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780-D506-4060-9CB0-123B0FA5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01C-86DA-4F73-AE5E-ABDDC364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662-C22C-4C00-B18B-91CC0BA3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1FB-5EA9-40E3-8247-FD2F6DB1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2FF-D8EE-48D4-955F-054D39F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27C3-1A2D-4879-AE01-8C54F074C5A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FF8C-B8C1-4CF0-8C14-92B3D8CB529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La Democracia Industria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. Cristóbal Gutiérrez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c) Derecho de propiedad vs/ derecho al proceso democrático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nderación de derechos: ¿cuál tiene mayor peso? (en el caso del proceso democrático dentro de la empre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l del derecho de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al: para garantizar otros derec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recho moral, connatural al homb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poca de discusión constitucional: Convenciones constitucionales de 1820 (en nuestro país 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bas facciones coinciden en una amplia distribución del derecho de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justificación rápidamente pasa a explicar el derecho de propiedad de las sociedades de capitales, pero es radicalmente distinto, debido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rol de la igualdad en el sistema democrá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inguna justificación del derecho de propiedad justifica la marginalización total del derecho al proceso democrá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) Un nuevo sistema democrático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garantizarse el derecho al proceso democr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ser justo en el sentido de justicia distributiva de tanto recursos económicos como polí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mover la respons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bertad de adquisición de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UDADANOS DEMOCRÁTICOS A TRAVÉS DE UNA DEMOCRACIA PARTICIP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5013360"/>
            <a:ext cx="1440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3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557000"/>
            <a:ext cx="7772400" cy="453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2637000"/>
            <a:ext cx="1827360" cy="99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diciones técnicas y económic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645000"/>
            <a:ext cx="1827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je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valores culturales y predisposiciones ideológic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941720"/>
            <a:ext cx="175608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o político y 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97120" y="2492280"/>
            <a:ext cx="18748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es estratégicas en los pactos institucionales para la  consolidación de la democracia indust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2997360"/>
            <a:ext cx="122400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er de los actore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2744640"/>
            <a:ext cx="16560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s y procesos organizacionales a nivel de la 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0000" y="3206880"/>
            <a:ext cx="122400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844640"/>
            <a:ext cx="18986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ciones grav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4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dición del derecho ci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acterísticas (fundamento leg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isiones especia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ités de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nsejos de vigilanc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dición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ommon law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EE.U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acterísticas (contractual, por minimalismo legal, estudio sociológic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articipación directa en el establecimiento de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estructuración de empl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de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an Scal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4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de participación en países de derecho consuetudi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ámbito de establecimiento de empre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ticipación directa a través de represent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Inform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Garantías de inversio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mités conjunt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presentación en la Junta directiv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mpra de accio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4. Críticas al concepto de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turaleza de la representación de los trabajadores y representantes polí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mocracia política más “permeable a los ciudadanos” que la democracia indust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realidad como dijimos la democracia industrial (que es una plasmación de la política) tiene una dinamicidad propia y distinta  a la democracia polít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l de la igual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la democracia industrial no existe igualdad jurídica entre las partes (empleador- trabajador), ni con los trabajadores en s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iudadanía laboral es permanente por que deriva de la ciudadanía política y entienden en la persona del trabajador como un sujeto de derec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la significación social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tenid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ncepto de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os teóricos de la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íticas al concepto de democraci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ituciones de democraci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1. El Concepto de participación de los trabajadores en las decisiones de la empresa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Derecho del Trabajo como fenómeno pol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odo es una decisión filosófica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erecho es una manifestación en sí de la polít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Una técnica instrumental de organización social establecida para la integración, institucionalización o juridificación de los conflictos social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alomeque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canismo de solución de conflictos, de una sociedad más bien compleja que busca soluciones distintas a la autotute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El Derecho del Trabajo como fenómeno político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 Derecho del Trabajo, como toda rama del Derecho, tiene un contenido normativo propio: Artículo 7º del Código del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rgimiento histórico del Derecho del trabajo: Revolución Industrial, la economía requería de grandes masas de trabajadores. Se establece el conflicto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structural laboral o socio- labor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”. Dos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brero asalari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resario o emplea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, el Derecho del Trabajo representa el “equilibrio estructural”: de una parte un estatuto tutelar, pero de otra una legitimación del “sistema capitalista de produc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¿Cómo se explica hoy en día la participación de los trabajadores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modelar el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lfare stat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la medida de las exigencias de la flexibilidad”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Tres razones fundamentale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rmida, Durá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uevas condiciones económic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sinterés por el mercado intern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imitación del poder estatal para gobernar las variantes económic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ejuicio ideológico contra el factor trabaj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blemas de emple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mbios en las organizaciones sindic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l del Estado en las relaciones 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ución: No convivir con las desigualdades sino buscar proteger a la persona como ciudadano, es decir como sujeto de derech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cepto de particip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ribución efectiva de las relaciones de poder dentro de la empresa”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Bayl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entalización democrática de las relaciones de p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democraci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ui generi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der y contrapoder permanecen fijos. El contrapoder no puede sustituirl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mbitos que no se abarcan dentro del concepto de particip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resa donde el dominio es de los trabaj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cipación en los benefic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ción sindical ord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2205000"/>
            <a:ext cx="86328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2. Fundamentos teóricos de la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mocracia industri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smación política del concepto de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emocracia industrial presupone 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ciudadano. Raz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orizontalidad de los derechos fundamentale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tivización de los derechos fundamentales por el poder de mando del empleado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IUDADANÍA LABO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5229360"/>
            <a:ext cx="13683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Fundamentos teóricos de la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El rol de la Igualdad en la tesis contractual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ocqueville: Libertad se opone a la igualdad. Debe preferirse a la prim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awls- Dworkin: No existe derecho a la libertad, principio princip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igual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hl: Debe existir un mínimo de igualdad para que la democracia sea viable (recursos económicos implican recursos polític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El derecho al proceso democr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undamento: “Velo de ignoranci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l del derecho de propiedad en el principio de igual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rean desigualdades de facto entre ciudadan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arginan del derecho al proceso democrático dentro de la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El derecho al proceso democrático.</a:t>
            </a:r>
            <a:r>
              <a:rPr b="0" lang="es-ES_tradnl" sz="2000" spc="-1" strike="noStrike">
                <a:solidFill>
                  <a:srgbClr val="330033"/>
                </a:solidFill>
                <a:latin typeface="Times New Roman"/>
              </a:rPr>
              <a:t> (Dahl)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upo de personas necesita tomar decisiones obligato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etapas: se establece agenda, se toma decisiones sobre é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ben ser tomadas por quienes están sujetos a el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rsona merece igual consid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rsona es libre de establecer sus propios inter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grupo debe decidir qué decisiones requieren ser obligato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gualdad en la repartición de los recurs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to igual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ipación efe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ón ilust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 de la agenda por el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sividad: Todos los miembros adultos, salvo los en tránsito o perturbados pueden ejercer el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ser necesario para la democracia concebida en términos modernos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DEBE ENTENDER COMO UN NO SÓLO UN DERECHO FUNDAMENTAL, SINO UNO DE LOS MÁ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21:22:11Z</dcterms:created>
  <dc:creator>Ricardo Gutierrez</dc:creator>
  <dc:description/>
  <dc:language>en-US</dc:language>
  <cp:lastModifiedBy>María Cristina Gajardo</cp:lastModifiedBy>
  <dcterms:modified xsi:type="dcterms:W3CDTF">2008-10-23T13:08:55Z</dcterms:modified>
  <cp:revision>10</cp:revision>
  <dc:subject/>
  <dc:title>La Democracia Industrial</dc:title>
</cp:coreProperties>
</file>