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B74-9BD6-4E0A-BE29-8928174F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E44-0702-454D-8DA5-9BFC83FC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706-6474-49CB-8B43-FA2C8B81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4A5-3FE2-4ADB-93F8-6AB9DC5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1CDE-3514-41FD-B42A-CA5D5865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C6E-BF83-473E-8F79-B1FFDDEA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A91A-FABE-46E8-B123-84046EBC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5146-8845-492D-BA85-6330C6AA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C999-ABF9-46EA-992B-D7E5521E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1AA2-F463-45CC-A9AA-492D0C4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FE88-C94D-4D99-A59E-0D8A983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E6E-37D3-44C8-B085-3CEDB2C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346-E7F7-4237-9A8A-6E3C1F29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A01F-808D-49D1-A2F1-7958864B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5DB8-11ED-412F-9CEA-8F59700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3284-D28F-4BB6-BDD3-30F2CE08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6BA9-C9E2-4640-BE6B-2F90345F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DC5-6D5A-4B21-9461-DD23CEF8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B24-809F-4D87-B666-536CDDD0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135-7BA1-4A4B-9B13-838D9EC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B2A-30DC-4644-810F-579FD96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221-ECDE-4D58-8C47-E82C18F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6E4-58ED-49FB-85E1-981DE33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F41-FFE6-495D-8543-154B74F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C9D0-C34B-45D5-AD90-62D38725E14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1AEE-CF8C-4A65-838D-05CC0C715E9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La Democracia Industria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. Cristóbal Gutiérrez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c) Derecho de propiedad vs/ derecho al proceso democrá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nderación de derechos: ¿cuál tiene mayor peso? (en el caso del proceso democrático dentro de la empr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al: para garantizar otros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recho moral, connatural al homb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poca de discusión constitucional: Convenciones constitucionales de 1820 (en nuestro país 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bas facciones coinciden en una amplia distribución del derecho de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justificación rápidamente pasa a explicar el derecho de propiedad de las sociedades de capitales, pero es radicalmente distinto, debido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ol de la igualdad en el sistema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inguna justificación del derecho de propiedad justifica la marginalización total del derecho al proceso democrá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) Un nuevo sistema democrático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garantizarse el derecho al proceso democr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ser justo en el sentido de justicia distributiva de tanto recursos económicos como polí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mover la respons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bertad de adquisición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UDADANOS DEMOCRÁTICOS A TRAVÉS DE UNA DEMOCRACIA PARTICIP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5013360"/>
            <a:ext cx="1440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3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55700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637000"/>
            <a:ext cx="1827360" cy="9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diciones técnicas y económ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645000"/>
            <a:ext cx="1827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valores culturales y predisposiciones ideológ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941720"/>
            <a:ext cx="17560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o político y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97120" y="2492280"/>
            <a:ext cx="18748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es estratégicas en los pactos institucionales para la  consolidación de la democrac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997360"/>
            <a:ext cx="122400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er de los actore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744640"/>
            <a:ext cx="16560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s y procesos organizacionales a nivel de l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0" y="3206880"/>
            <a:ext cx="12240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844640"/>
            <a:ext cx="18986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es grav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derecho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fundamento leg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siones especi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ités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nsejos de vigila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ición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mmon law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E.U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acterísticas (contractual, por minimalismo legal, estudio sociológic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articipación directa en el establecimiento de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estructuración de empl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 Scal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4. Formas de democracia industri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de participación en países de derecho consuetudi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ámbito de establecimiento de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ticipación directa a través de represen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form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Garantías de invers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ités conjun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presentación en la Junta directiv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mpra de acci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4. Críticas al concepto de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uraleza de la representación de los trabajadores y representantes polí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mocracia política más “permeable a los ciudadanos” que la democracia indust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realidad como dijimos la democracia industrial (que es una plasmación de la política) tiene una dinamicidad propia y distinta  a la democracia polí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l de la igual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a democracia industrial no existe igualdad jurídica entre las partes (empleador- trabajador), ni con los trabajadores en s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iudadanía laboral es permanente por que deriva de la ciudadanía política y entienden en la persona del trabajador como un sujeto de derec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la significación social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os teóricos de la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íticas al concepto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ituciones de democraci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1. El Concepto de participación de los trabajadores en las decisiones de la empresa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erecho del Trabajo como fenómen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odo es una decisión filosófica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erecho es una manifestación en sí de la polít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Una técnica instrumental de organización social establecida para la integración, institucionalización o juridificación de los conflictos social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alomequ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canismo de solución de conflictos, de una sociedad más bien compleja que busca soluciones distintas a la autotut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El Derecho del Trabajo como fenómeno político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 Derecho del Trabajo, como toda rama del Derecho, tiene un contenido normativo propio: Artículo 7º del Códig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rgimiento histórico del Derecho del trabajo: Revolución Industrial, la economía requería de grandes masas de trabajadores. Se establece el conflict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tructural laboral o socio- lab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. Do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brero asalar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rio o emple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el Derecho del Trabajo representa el “equilibrio estructural”: de una parte un estatuto tutelar, pero de otra una legitimación del “sistema capitalista de produ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¿Cómo se explica hoy en día la participación de los trabajadore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delar el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lfare stat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la medida de las exigencias de la flexibilidad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Tres razones fundamental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rmida, Durá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uevas condiciones económ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interés por el mercado inter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imitación del poder estatal para gobernar las variantes económ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juicio ideológico contra el factor trabaj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blemas de emple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mbios en las organizaciones sindic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Estado en las relaciones 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ón: No convivir con las desigualdades sino buscar proteger a la persona como ciudadano, es decir como sujeto de derech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cepto de particip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ribución efectiva de las relaciones de poder dentro de la empresa”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ayl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entalización democrática de las relaciones de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democraci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ui gene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der y contrapoder permanecen fijos. El contrapoder no puede sustituirl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omagn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mbitos que no se abarcan dentro del concepto de particip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resa donde el dominio es de los trabaj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cipación en los benefic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ción sindical ord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205000"/>
            <a:ext cx="8632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2. 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ocracia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smación política del concepto de participación de los trabajadores en las decisiones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emocracia industrial presupone 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iudadano. Raz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orizontalidad de los derechos fundamentale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tivización de los derechos fundamentales por el poder de mando del empleado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IUDADANÍA LAB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5229360"/>
            <a:ext cx="1368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Fundamentos teóricos de la democracia industrial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El rol de la Igualdad en la tesis contractua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ocqueville: Libertad se opone a la igualdad. Debe preferirse a la pri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wls- Dworkin: No existe derecho a la libertad, principio princip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hl: Debe existir un mínimo de igualdad para que la democracia sea viable (recursos económicos implican recursos polític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El derecho al proceso democr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undamento: “Velo de ignoranci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l del derecho de propiedad en el principio de igual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rean desigualdades de facto entre ciudadan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arginan del derecho al proceso democrático dentro de la empr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l derecho al proceso democrático.</a:t>
            </a:r>
            <a:r>
              <a:rPr b="0" lang="es-ES_tradnl" sz="2000" spc="-1" strike="noStrike">
                <a:solidFill>
                  <a:srgbClr val="330033"/>
                </a:solidFill>
                <a:latin typeface="Times New Roman"/>
              </a:rPr>
              <a:t> (Dahl)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de personas necesita tomar decisiones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etapas: se establece agenda, se toma decisiones sobre é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ben ser tomadas por quienes están sujetos a e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merece igual consid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rsona es libre de establecer sus propios inter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grupo debe decidir qué decisiones requieren ser obligato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dad en la repartición de los recurs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to igual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ef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ón ilust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 de la agenda por el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sividad: Todos los miembros adultos, salvo los en tránsito o perturbados pueden ejercer el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ser necesario para la democracia concebida en términos modern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BE ENTENDER COMO UN NO SÓLO UN DERECHO FUNDAMENTAL, SINO UNO DE LOS MÁ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1:22:11Z</dcterms:created>
  <dc:creator>Ricardo Gutierrez</dc:creator>
  <dc:description/>
  <dc:language>en-US</dc:language>
  <cp:lastModifiedBy>María Cristina Gajardo</cp:lastModifiedBy>
  <dcterms:modified xsi:type="dcterms:W3CDTF">2008-10-23T13:08:55Z</dcterms:modified>
  <cp:revision>10</cp:revision>
  <dc:subject/>
  <dc:title>La Democracia Industrial</dc:title>
</cp:coreProperties>
</file>