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49FAC-9BEB-4631-989A-912CE5ADF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83292-F73C-4F34-9A61-4262BB126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BC029-7D88-434B-A3EE-2CAC82B45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DAB1A-D661-4D0A-A20C-FFDFC528B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3D363-9A6E-41F8-AEA5-9BDDD5323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300A4-4BB7-4A4A-A360-8E79C3A83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51294-B6FF-4EDE-8C52-1928FD1C4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07CB1-A4BF-47D9-B107-FAC728CD7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75B4F-E084-4A09-B65D-DDDD24951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E9A0D-89C6-409F-812F-1166E2CCF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502E9-9C16-4A54-88D2-9D1B4EF3B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0314B-CDF2-46C1-AD57-1FC2ED979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1A025-D3F9-4921-AC1A-51D2F6E158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l/imgres?imgurl=http://www.navarraconfidencial.com/portal/images/handstied-767635.jpg&amp;imgrefurl=http://www.navarraconfidencial.com/portal/modules.php%3Fname%3DNoticias%26file%3Darticle%26sid%3D652&amp;h=616&amp;w=779&amp;sz=67&amp;hl=es&amp;start=16&amp;usg=__aUn7q0u1WDaHgIcjGivyShMzalY=&amp;tbnid=O60BAAO2xlj-QM:&amp;tbnh=112&amp;tbnw=142&amp;prev=/images%3Fq%3DSOCIEDADES%26gbv%3D2%26hl%3Des%26sa%3DG" TargetMode="Externa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guillo.cl/dibujos/presos.gif" TargetMode="External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66720" y="241200"/>
            <a:ext cx="4547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Universidad de Chi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Facultad de Derech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Derecho Comercia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Profesor Sr. José Luis López Blan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619280" y="1844640"/>
            <a:ext cx="6016680" cy="2840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3" name=""/>
          <p:cNvGraphicFramePr/>
          <p:nvPr/>
        </p:nvGraphicFramePr>
        <p:xfrm>
          <a:off x="304920" y="304920"/>
          <a:ext cx="698400" cy="1371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304920"/>
                    <a:ext cx="698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"/>
          <p:cNvSpPr/>
          <p:nvPr/>
        </p:nvSpPr>
        <p:spPr>
          <a:xfrm>
            <a:off x="900000" y="4941720"/>
            <a:ext cx="734544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DERECHO  COMERCIAL 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LA EMPRESA INDIVIDUAL DE RESPONSABILIDAD LIMIT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CONSTITUCIÓN EIR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836640"/>
            <a:ext cx="7777080" cy="439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d) La actividad económica que constituirá el objeto o giro de la empresa y el ramo o rubro específico en que dentro de ella se desempeñar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e) El domicilio de la empresa, y </a:t>
            </a:r>
            <a:br>
              <a:rPr sz="2400"/>
            </a:br>
            <a:br>
              <a:rPr sz="2400"/>
            </a:b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f) El plazo de duración. Si nada se dice, se entenderá que su duración es indefinida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1" dur="20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CONSTITUCIÓN EIR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836640"/>
            <a:ext cx="7777080" cy="42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Las menciones de la Escritura establecidas en el Art. 4 son </a:t>
            </a:r>
            <a:r>
              <a:rPr b="1" lang="es-CL" sz="2400" spc="-1" strike="noStrike" u="sng">
                <a:solidFill>
                  <a:srgbClr val="3333cc"/>
                </a:solidFill>
                <a:uFillTx/>
                <a:latin typeface="Verdana"/>
              </a:rPr>
              <a:t>OBLIGATORIAS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, ninguna puede faltar al momento de constituir la EIR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INSCRIPCIÓN EN EL CONSERVAD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Verdana"/>
              </a:rPr>
              <a:t>UN EXTRACTO DE LA ESCRITURA DEBE INSCRIBIRSE EN EL REGISTRO DE COMERCIO DEL CB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Verdana"/>
              </a:rPr>
              <a:t>QUE CORRESPON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TITULO: ESCRITURA PUBLICA ENSAYOS DE ..."/>
          <p:cNvPicPr/>
          <p:nvPr/>
        </p:nvPicPr>
        <p:blipFill>
          <a:blip r:embed="rId2"/>
          <a:stretch/>
        </p:blipFill>
        <p:spPr>
          <a:xfrm>
            <a:off x="6012000" y="4653000"/>
            <a:ext cx="1198440" cy="18716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8" dur="20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1" dur="20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CONSTITUCIÓN EIR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95280" y="836640"/>
            <a:ext cx="7777080" cy="38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  </a:t>
            </a: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PUBLIC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Debe publicarse en el Diario Oficial el extracto dentro del </a:t>
            </a:r>
            <a:r>
              <a:rPr b="1" lang="es-CL" sz="2800" spc="-1" strike="noStrike" u="sng">
                <a:solidFill>
                  <a:srgbClr val="3333cc"/>
                </a:solidFill>
                <a:uFillTx/>
                <a:latin typeface="Verdana"/>
              </a:rPr>
              <a:t>plazo de 60 días</a:t>
            </a: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 siguientes a la fecha de la escritur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Publicación en el Diario Oficial del ..."/>
          <p:cNvPicPr/>
          <p:nvPr/>
        </p:nvPicPr>
        <p:blipFill>
          <a:blip r:embed="rId2"/>
          <a:stretch/>
        </p:blipFill>
        <p:spPr>
          <a:xfrm>
            <a:off x="4427640" y="4076640"/>
            <a:ext cx="1157040" cy="18716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8" dur="20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58920" y="304920"/>
            <a:ext cx="738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Verdana"/>
              </a:rPr>
              <a:t>MODIFICA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95280" y="981000"/>
            <a:ext cx="7777080" cy="441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   </a:t>
            </a:r>
            <a:r>
              <a:rPr b="1" lang="es-ES" sz="2900" spc="-1" strike="noStrike">
                <a:solidFill>
                  <a:srgbClr val="3333cc"/>
                </a:solidFill>
                <a:latin typeface="Verdana"/>
              </a:rPr>
              <a:t>MODIFICACIONES AL ESTATUTO</a:t>
            </a:r>
            <a:r>
              <a:rPr b="1" lang="es-ES" sz="2800" spc="-1" strike="noStrike">
                <a:solidFill>
                  <a:srgbClr val="3333cc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Deben cumplir con todas las solemnidades establecidas en el Art. 6 de la Ley. Remisión al Art.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LAS MODIFICACIONES SE ANOTAN AL MARGEN DE LA INSCRIPCIÓ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356000" y="2133720"/>
            <a:ext cx="0" cy="360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8920" y="304920"/>
            <a:ext cx="738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Verdana"/>
              </a:rPr>
              <a:t>MODIFICA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95280" y="981000"/>
            <a:ext cx="7777080" cy="54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Artículo 6º de la L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Verdana"/>
              </a:rPr>
              <a:t>Toda modificación a las menciones señaladas en el artículo 4º, deberá observar las solemnidades establecidas en el artículo 3º. </a:t>
            </a:r>
            <a:r>
              <a:rPr b="0" lang="es-ES" sz="2400" spc="-1" strike="noStrike" u="sng">
                <a:solidFill>
                  <a:srgbClr val="3333cc"/>
                </a:solidFill>
                <a:uFillTx/>
                <a:latin typeface="Verdana"/>
              </a:rPr>
              <a:t>En el extracto deberá hacerse referencia al contenido específico de la modificación</a:t>
            </a:r>
            <a:r>
              <a:rPr b="0" lang="es-ES" sz="2400" spc="-1" strike="noStrike">
                <a:solidFill>
                  <a:srgbClr val="3333cc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Verdana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5003640" y="1341360"/>
            <a:ext cx="2087640" cy="14176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58920" y="304920"/>
            <a:ext cx="738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Verdana"/>
              </a:rPr>
              <a:t>SOLEMNI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95280" y="981000"/>
            <a:ext cx="7777080" cy="41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  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SANCIONES POR EL NO CUMPLIMIENTO DE LAS SOLEMNI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Omisión de alguna de las solemnidades de los Art. 4 o 5 (Art. 6 en caso de modificaciones) importará la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NULIDAD ABSOLUTA 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del acto respec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4" dur="20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58920" y="304920"/>
            <a:ext cx="738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Verdana"/>
              </a:rPr>
              <a:t>SOLEMNI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95280" y="981000"/>
            <a:ext cx="7777080" cy="61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¿ Qué ocurre en el caso que la nulidad afecte al acto constitutiv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La ley señala una 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SANCIÓN ESPECÍF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Verdana"/>
              </a:rPr>
              <a:t>Artículo 7º.- La omisión de alguna de las solemnidades de los artículos 4º, 5º y 6º, importará la </a:t>
            </a:r>
            <a:r>
              <a:rPr b="1" lang="es-ES" sz="2000" spc="-1" strike="noStrike">
                <a:solidFill>
                  <a:srgbClr val="3333cc"/>
                </a:solidFill>
                <a:latin typeface="Verdana"/>
              </a:rPr>
              <a:t>nulidad absoluta del acto respectivo. Si se tratare de la nulidad absoluta del acto constitutivo, el titular responderá personal e ilimitadamente de las obligaciones que contraiga en el giro de la empresa</a:t>
            </a:r>
            <a:r>
              <a:rPr b="0" lang="es-ES" sz="2000" spc="-1" strike="noStrike">
                <a:solidFill>
                  <a:srgbClr val="3333cc"/>
                </a:solidFill>
                <a:latin typeface="Verdana"/>
              </a:rPr>
              <a:t>. Lo anterior, sin perjuicio del saneamien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211640" y="2565360"/>
            <a:ext cx="0" cy="360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7" dur="20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REGIMEN DE RESPONSABIL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39640" y="1125360"/>
            <a:ext cx="7777440" cy="38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1" lang="es-CL" sz="2800" spc="-1" strike="noStrike" u="sng">
                <a:solidFill>
                  <a:srgbClr val="3333cc"/>
                </a:solidFill>
                <a:uFillTx/>
                <a:latin typeface="Verdana"/>
              </a:rPr>
              <a:t>RESPONSABILIDAD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(</a:t>
            </a: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Art. 8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1) EMPRE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Empresa Individual responde exclusivamente por obligaciones contraídas dentro de su giro con todos sus bien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No responderá nunca por deudas contraídas por su titu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0" dur="20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3" dur="20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6" dur="20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REGIMEN DE RESPONSABIL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39640" y="1125360"/>
            <a:ext cx="7777440" cy="25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Se limita la responsabilidad del titular constituyente, no de la empresa, ya que esta responde ilimitadamente con todos los bienes de su patrimon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Agosto 30, 2007"/>
          <p:cNvPicPr/>
          <p:nvPr/>
        </p:nvPicPr>
        <p:blipFill>
          <a:blip r:embed="rId2"/>
          <a:stretch/>
        </p:blipFill>
        <p:spPr>
          <a:xfrm>
            <a:off x="3564000" y="3500280"/>
            <a:ext cx="1508040" cy="20163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REGIMEN DE RESPONSABIL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39640" y="1125360"/>
            <a:ext cx="7777440" cy="50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     </a:t>
            </a: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2) TITUL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 </a:t>
            </a: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El titular de la empresa responde con su patrimonio propio sólo del pago efectivo del aporte que se hubiese comprometido a realizar en conformidad al acto constitutiv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 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RESPONSABILIDAD SE ENCUENTRA LIMIT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932360" y="1197000"/>
            <a:ext cx="2303640" cy="14400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1" dur="20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4" dur="20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836640"/>
            <a:ext cx="7777080" cy="40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3333cc"/>
                </a:solidFill>
                <a:latin typeface="Verdana"/>
              </a:rPr>
              <a:t>EMPRESAS INDIVIDUALES DE RESPONSABILIDAD LIMITA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95280" y="836640"/>
            <a:ext cx="7777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55640" y="2205000"/>
            <a:ext cx="2376360" cy="1079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Patrimoni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de la socie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08720" y="2276640"/>
            <a:ext cx="2592360" cy="10792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333cc"/>
                </a:solidFill>
                <a:latin typeface="Verdana"/>
              </a:rPr>
              <a:t>DISTINTO AL DE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333cc"/>
                </a:solidFill>
                <a:latin typeface="Verdana"/>
              </a:rPr>
              <a:t>TITUL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600" spc="-1" strike="noStrike">
                <a:solidFill>
                  <a:srgbClr val="3333cc"/>
                </a:solidFill>
                <a:latin typeface="Verdana"/>
              </a:rPr>
              <a:t>RESPONDE SÓL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6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1" i="1" lang="es-CL" sz="1600" spc="-1" strike="noStrike">
                <a:solidFill>
                  <a:srgbClr val="3333cc"/>
                </a:solidFill>
                <a:latin typeface="Verdana"/>
              </a:rPr>
              <a:t>HASTA EL APOR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780000" y="256536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0000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rot="5400000">
            <a:off x="3678480" y="389016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0000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900000" y="4919760"/>
            <a:ext cx="73440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Patrimonio del titular no se verá afectado, </a:t>
            </a:r>
            <a:r>
              <a:rPr b="1" lang="es-CL" sz="2400" spc="-1" strike="noStrike" u="sng">
                <a:solidFill>
                  <a:srgbClr val="3333cc"/>
                </a:solidFill>
                <a:uFillTx/>
                <a:latin typeface="Verdana"/>
              </a:rPr>
              <a:t>salvo el caso ya estudiado de las omisiones y los casos del Art. 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1" dur="2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REGIMEN DE RESPONSABIL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39640" y="1125360"/>
            <a:ext cx="7777440" cy="49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1" lang="es-ES" sz="2000" spc="-1" strike="noStrike">
                <a:solidFill>
                  <a:srgbClr val="3333cc"/>
                </a:solidFill>
                <a:latin typeface="Verdana"/>
              </a:rPr>
              <a:t>Artículo 12.- El titular responderá ilimitadamente con sus bienes, en los siguientes casos:</a:t>
            </a:r>
            <a:r>
              <a:rPr b="1" lang="es-ES" sz="2000" spc="-1" strike="noStrike">
                <a:solidFill>
                  <a:srgbClr val="3333cc"/>
                </a:solidFill>
                <a:latin typeface="Verdana"/>
              </a:rPr>
              <a:t> </a:t>
            </a:r>
            <a:br>
              <a:rPr sz="2000"/>
            </a:br>
            <a:br>
              <a:rPr sz="2000"/>
            </a:br>
            <a:r>
              <a:rPr b="1" lang="es-ES" sz="2000" spc="-1" strike="noStrike">
                <a:solidFill>
                  <a:srgbClr val="3333cc"/>
                </a:solidFill>
                <a:latin typeface="Verdana"/>
              </a:rPr>
              <a:t>a) Por los actos y contratos efectuados fuera del objeto de la empresa, para pagar las obligaciones que emanen de esos actos y contratos; </a:t>
            </a:r>
            <a:br>
              <a:rPr sz="2000"/>
            </a:br>
            <a:br>
              <a:rPr sz="2000"/>
            </a:br>
            <a:r>
              <a:rPr b="1" lang="es-ES" sz="2000" spc="-1" strike="noStrike">
                <a:solidFill>
                  <a:srgbClr val="3333cc"/>
                </a:solidFill>
                <a:latin typeface="Verdana"/>
              </a:rPr>
              <a:t>b) Por los actos y contratos que se ejecutaren sin el nombre o representación de la empresa, para cumplir las obligaciones que emanen de tales actos y contra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REGIMEN DE RESPONSABIL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39640" y="1125360"/>
            <a:ext cx="7777440" cy="57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s-ES" sz="2000" spc="-1" strike="noStrike">
                <a:solidFill>
                  <a:srgbClr val="3333cc"/>
                </a:solidFill>
                <a:latin typeface="Verdana"/>
              </a:rPr>
              <a:t>c</a:t>
            </a:r>
            <a:r>
              <a:rPr b="1" lang="es-ES" sz="2000" spc="-1" strike="noStrike">
                <a:solidFill>
                  <a:srgbClr val="3333cc"/>
                </a:solidFill>
                <a:latin typeface="Verdana"/>
              </a:rPr>
              <a:t>) Si la empresa celebrare actos y contratos simulados, ocultare sus bienes o reconociere deudas supuestas, aunque de ello no se siga perjuicio inmediato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Verdana"/>
              </a:rPr>
              <a:t> </a:t>
            </a:r>
            <a:br>
              <a:rPr sz="2000"/>
            </a:br>
            <a:r>
              <a:rPr b="1" lang="es-ES" sz="2000" spc="-1" strike="noStrike">
                <a:solidFill>
                  <a:srgbClr val="3333cc"/>
                </a:solidFill>
                <a:latin typeface="Verdana"/>
              </a:rPr>
              <a:t>d) Si el titular percibiere rentas de la empresa que no guarden relación con la importancia de su giro, o efectuare retiros que no correspondieren a utilidades líquidas y realizables que pueda percibir, o </a:t>
            </a:r>
            <a:br>
              <a:rPr sz="2000"/>
            </a:br>
            <a:br>
              <a:rPr sz="2000"/>
            </a:br>
            <a:r>
              <a:rPr b="1" lang="es-ES" sz="2000" spc="-1" strike="noStrike">
                <a:solidFill>
                  <a:srgbClr val="3333cc"/>
                </a:solidFill>
                <a:latin typeface="Verdana"/>
              </a:rPr>
              <a:t>e) Si la empresa fuere declarada en quiebra culpable o fraudulent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Verdana"/>
              </a:rPr>
              <a:t> 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6" dur="20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9" dur="20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2" dur="200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DENOMINACIÓN DE LA EIR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95280" y="981000"/>
            <a:ext cx="7777080" cy="47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El Art. 4 letra b de la Ley entrega dos posibilidades:</a:t>
            </a:r>
            <a:r>
              <a:rPr b="0" lang="es-CL" sz="2400" spc="-1" strike="noStrike">
                <a:solidFill>
                  <a:srgbClr val="3333cc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Nombre y apellido del titular más el giro y la expresión E.I.R.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Nombre de Fantasía, más alusión al giro de la empresa y</a:t>
            </a:r>
            <a:r>
              <a:rPr b="1" lang="es-CL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la expresión E.I.R.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4" dur="500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ADMINISTRACIÓN DE LA EIR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95280" y="981000"/>
            <a:ext cx="7777080" cy="38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1" lang="es-CL" sz="2800" spc="-1" strike="noStrike" u="sng">
                <a:solidFill>
                  <a:srgbClr val="3333cc"/>
                </a:solidFill>
                <a:uFillTx/>
                <a:latin typeface="Verdana"/>
              </a:rPr>
              <a:t>ADMINISTRACIÓN </a:t>
            </a: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(ART. 9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Administración de la empresa corresponde al titular, quien la representa judicial y extrajudicialmente con todas las facultades de administración y disposi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1" dur="20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ADMINISTRACIÓN DE LA EIR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95280" y="981000"/>
            <a:ext cx="7777080" cy="52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El titular o su mandatario pueden designar un gerente general que tendrá las facultades que se expresen en la escritura pública en que lo desig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0" lang="es-CL" sz="2000" spc="-1" strike="noStrike">
                <a:solidFill>
                  <a:srgbClr val="3333cc"/>
                </a:solidFill>
                <a:latin typeface="Verdana"/>
              </a:rPr>
              <a:t>LA ESCRITURA PÚBLICA DEBE INSCRIBIRSE EN EL REGISTRO DE COMERCIO Y SUBINSCRIBIRSE AL MARGEN DE LA INSCRIPCIÓN ESTATUTAR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3605400" y="360288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0000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8" dur="20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3" dur="20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8" dur="20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3" dur="2000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8" dur="2000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ADMINISTRACIÓN DE LA EIR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95280" y="981000"/>
            <a:ext cx="7777080" cy="47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Sin perjuicio de esta facultad de designar gerente general podrá conferir MANDATOS GENERALES O ESPECIALES para actuar a nombre de la empre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(Iguales requisitos que el caso anterio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3780000" y="3789360"/>
            <a:ext cx="1584000" cy="18003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1" dur="20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4" dur="20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7" dur="20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CONTRATOS RELACION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95280" y="981000"/>
            <a:ext cx="7777080" cy="43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     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Se entiende por contratos relacionados, los actos y contratos que el titular de la empresa individual celebre con su patrimonio </a:t>
            </a:r>
            <a:r>
              <a:rPr b="1" lang="es-ES" sz="2400" spc="-1" strike="noStrike" u="sng">
                <a:solidFill>
                  <a:srgbClr val="3333cc"/>
                </a:solidFill>
                <a:uFillTx/>
                <a:latin typeface="Verdana"/>
              </a:rPr>
              <a:t>no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 comprometido en la empresa, por una parte, y con el patrimonio de la empresa, por la otra.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LA LEY ESTABLECE REQUISITOS PARA ESTE TIPO DE CONTRATOS  O ACTOS .     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rot="5400000">
            <a:off x="3605400" y="40345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0000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4" dur="20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CONTRATOS RELACION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95280" y="981000"/>
            <a:ext cx="7777080" cy="588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Verdana"/>
              </a:rPr>
              <a:t>  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Deberán </a:t>
            </a:r>
            <a:r>
              <a:rPr b="1" lang="es-ES" sz="2400" spc="-1" strike="noStrike" u="sng">
                <a:solidFill>
                  <a:srgbClr val="3333cc"/>
                </a:solidFill>
                <a:uFillTx/>
                <a:latin typeface="Verdana"/>
              </a:rPr>
              <a:t>constar por escrito y protocolizarse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 ante notario público 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  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Se </a:t>
            </a:r>
            <a:r>
              <a:rPr b="1" lang="es-ES" sz="2400" spc="-1" strike="noStrike" u="sng">
                <a:solidFill>
                  <a:srgbClr val="3333cc"/>
                </a:solidFill>
                <a:uFillTx/>
                <a:latin typeface="Verdana"/>
              </a:rPr>
              <a:t>anotarán al margen de la inscripción estatutaria dentro del plazo de 60 días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 contados desde su otorgamien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SANCIÓN- NULIDAD ABSOLU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808080"/>
                </a:solidFill>
                <a:latin typeface="Verdana"/>
              </a:rPr>
              <a:t>CON ESTO SE BUSCA REGULAR LA AUTOCONTRA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 </a:t>
            </a:r>
            <a:br>
              <a:rPr sz="2400"/>
            </a:b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        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rot="5400000">
            <a:off x="3605400" y="45378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0000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3" dur="2000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6" dur="2000"/>
                                        <p:tgtEl>
                                          <p:spTgt spid="1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UTILIDADES LÍQUID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95280" y="981000"/>
            <a:ext cx="7777080" cy="29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Las UTILIDADES LÍQUIDAS pertenecen al titular de la empresa y, una vez que se hubieren retirado por este no habrá acción contra ellas por obligaciones de la EIR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3333cc"/>
                </a:solidFill>
                <a:latin typeface="Verdana"/>
              </a:rPr>
              <a:t>¿En qué casos habrá responsabilidad?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132000" y="4292640"/>
            <a:ext cx="2159280" cy="15476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03" dur="2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4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ORIGEN DE LAS EIR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836640"/>
            <a:ext cx="7777080" cy="481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Las EMPRESAS INDIVIDUALES DE RESPONSABILIDAD LIMITADA (EIRL) son bastante recient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cc"/>
                </a:solidFill>
                <a:latin typeface="Verdana"/>
              </a:rPr>
              <a:t>Antecedentes e importancia de su cre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cc"/>
                </a:solidFill>
                <a:latin typeface="Verdana"/>
              </a:rPr>
              <a:t>REGU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Ley 19857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, publicada en el Diario Oficial el 11 de febrero del 20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" dur="20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" dur="2000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UTILIDADES LÍQUID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95280" y="981000"/>
            <a:ext cx="7777080" cy="47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3333cc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Celebración de actos y contratos simulados, ocultar bie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3333cc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3333cc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Percepción de rentas fuera del giro de la empre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3333cc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3333cc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Declaración de quiebra culpable o fraudulenta  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3333cc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Verdana"/>
              </a:rPr>
              <a:t>EL EMPRESARIO EN TODOS ESTOS CASOS RESPONDE CON SU PATRIMONIO    </a:t>
            </a:r>
            <a:r>
              <a:rPr b="1" lang="es-ES" sz="2000" spc="-1" strike="noStrike" u="sng">
                <a:solidFill>
                  <a:srgbClr val="3333cc"/>
                </a:solidFill>
                <a:uFillTx/>
                <a:latin typeface="Verdana"/>
              </a:rPr>
              <a:t>RESPONSABILIDAD  PERSONAL</a:t>
            </a:r>
            <a:r>
              <a:rPr b="1" lang="es-ES" sz="2000" spc="-1" strike="noStrike">
                <a:solidFill>
                  <a:srgbClr val="3333cc"/>
                </a:solidFill>
                <a:latin typeface="Verdana"/>
              </a:rPr>
              <a:t> (Art. 12)  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   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356000" y="4941720"/>
            <a:ext cx="719280" cy="270000"/>
          </a:xfrm>
          <a:prstGeom prst="rightArrow">
            <a:avLst>
              <a:gd name="adj1" fmla="val 60139"/>
              <a:gd name="adj2" fmla="val 71163"/>
            </a:avLst>
          </a:prstGeom>
          <a:solidFill>
            <a:srgbClr val="0000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1" dur="5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4" dur="500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2" dur="2000"/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TRANSFORMACIÓN A EIR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95280" y="981000"/>
            <a:ext cx="7777080" cy="50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Podrán transformarse otras sociedades en EIR cuando se produzca la reunión en manos de una sola persona, de las acciones, derechos o participaciones en el capital, de cualquier socied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3333cc"/>
                </a:solidFill>
                <a:uFillTx/>
                <a:latin typeface="Verdana"/>
              </a:rPr>
              <a:t>Siempre que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  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Se cumpla con las formalidades de constitución de la EI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    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5867280" y="2997360"/>
            <a:ext cx="1944720" cy="12920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9" dur="200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4" dur="500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7" dur="500"/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TRANSFORMACIÓN A EIR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95280" y="981000"/>
            <a:ext cx="7777080" cy="43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  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La escritura pública respectiva, en la que deberá constar la transformación y la individualización de la sociedad que se transforma, deberá extenderse dentro de los treinta días siguientes a la fecha en que dicha reunión se produz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  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El extracto correspondiente deberá inscribirse y publicarse dentro de 60 día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   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4" dur="5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9" dur="500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CONTRATOS RELACION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95280" y="981000"/>
            <a:ext cx="7777080" cy="50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     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¿Puede una EIRL transformarse en otro tipo de sociedad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Una empresa individual de responsabilidad limitada podrá transformarse en una sociedad de cualquier tipo, cumpliendo los requisitos y formalidades que establece el estatuto jurídico de la sociedad en la cual se transforma. (Art. 1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    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5219640" y="5084640"/>
            <a:ext cx="1800360" cy="11908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95" name=""/>
          <p:cNvSpPr/>
          <p:nvPr/>
        </p:nvSpPr>
        <p:spPr>
          <a:xfrm rot="5400000">
            <a:off x="3555360" y="2358360"/>
            <a:ext cx="790560" cy="341280"/>
          </a:xfrm>
          <a:prstGeom prst="rightArrow">
            <a:avLst>
              <a:gd name="adj1" fmla="val 50000"/>
              <a:gd name="adj2" fmla="val 57911"/>
            </a:avLst>
          </a:prstGeom>
          <a:solidFill>
            <a:srgbClr val="0000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66" dur="2000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TÉRMINO DE LA EIR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95280" y="981000"/>
            <a:ext cx="7777080" cy="65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Las causales de término las establece el Art. 15 de la Ley, entre ellas destaca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 </a:t>
            </a: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1_  Por voluntad del empresa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Verdana"/>
              </a:rPr>
              <a:t>      </a:t>
            </a:r>
            <a:r>
              <a:rPr b="1" lang="es-ES" sz="2000" spc="-1" strike="noStrike">
                <a:solidFill>
                  <a:srgbClr val="3333cc"/>
                </a:solidFill>
                <a:latin typeface="Verdana"/>
              </a:rPr>
              <a:t>2</a:t>
            </a:r>
            <a:r>
              <a:rPr b="1" lang="es-ES" sz="2000" spc="-1" strike="noStrike">
                <a:solidFill>
                  <a:srgbClr val="3333cc"/>
                </a:solidFill>
                <a:latin typeface="Verdana"/>
              </a:rPr>
              <a:t>_ </a:t>
            </a:r>
            <a:r>
              <a:rPr b="1" lang="es-ES" sz="2000" spc="-1" strike="noStrike">
                <a:solidFill>
                  <a:srgbClr val="3333cc"/>
                </a:solidFill>
                <a:latin typeface="Verdana"/>
              </a:rPr>
              <a:t>Por la llegada del plazo previsto en el acto constitu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      </a:t>
            </a: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3_</a:t>
            </a:r>
            <a:r>
              <a:rPr b="1" lang="es-ES" sz="2000" spc="-1" strike="noStrike">
                <a:solidFill>
                  <a:srgbClr val="3333cc"/>
                </a:solidFill>
                <a:latin typeface="Verdana"/>
              </a:rPr>
              <a:t>  Por la muerte del tit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Las causales de terminación se establecen tanto en favor del empresario como de sus acreedor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91" dur="2000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33cc"/>
                </a:solidFill>
                <a:latin typeface="Verdana"/>
              </a:rPr>
              <a:t>Bibliografía</a:t>
            </a:r>
            <a:r>
              <a:rPr b="0" lang="es-ES_tradnl" sz="4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CONTRERAS STRAUCH, Osvaldo.</a:t>
            </a:r>
            <a:r>
              <a:rPr b="0" lang="es-ES_tradnl" sz="24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0" i="1" lang="es-ES_tradnl" sz="2400" spc="-1" strike="noStrike">
                <a:solidFill>
                  <a:srgbClr val="3333cc"/>
                </a:solidFill>
                <a:latin typeface="Verdana"/>
              </a:rPr>
              <a:t>Instituciones de Derecho Comercial</a:t>
            </a:r>
            <a:r>
              <a:rPr b="0" lang="es-ES_tradnl" sz="2400" spc="-1" strike="noStrike">
                <a:solidFill>
                  <a:srgbClr val="3333cc"/>
                </a:solidFill>
                <a:latin typeface="Verdana"/>
              </a:rPr>
              <a:t>, Editorial jurídica Lexis Nex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SANDOVAL LOPEZ, Ricardo.</a:t>
            </a:r>
            <a:r>
              <a:rPr b="0" lang="es-ES_tradnl" sz="24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0" i="1" lang="es-ES_tradnl" sz="2400" spc="-1" strike="noStrike">
                <a:solidFill>
                  <a:srgbClr val="3333cc"/>
                </a:solidFill>
                <a:latin typeface="Verdana"/>
              </a:rPr>
              <a:t>Derecho Comercial. Actos de Comercio</a:t>
            </a:r>
            <a:r>
              <a:rPr b="0" lang="es-ES_tradnl" sz="2400" spc="-1" strike="noStrike">
                <a:solidFill>
                  <a:srgbClr val="3333cc"/>
                </a:solidFill>
                <a:latin typeface="Verdana"/>
              </a:rPr>
              <a:t>. Tomo I, volumen 1. Editorial Jurídica de Chil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ORIGEN DE LAS EIR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836640"/>
            <a:ext cx="7777080" cy="408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Una empresa individual de responsabilidad limitada es una persona jurídica con patrimon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propio distinto al del titul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Verdana"/>
              </a:rPr>
              <a:t>      </a:t>
            </a: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La Ley 19.857 </a:t>
            </a:r>
            <a:r>
              <a:rPr b="1" lang="es-ES" sz="2000" spc="-1" strike="noStrike">
                <a:solidFill>
                  <a:srgbClr val="3333cc"/>
                </a:solidFill>
                <a:latin typeface="Verdana"/>
              </a:rPr>
              <a:t>autoriza a toda persona natural el establecimiento de empresas individuales de responsabilidad limitada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marketing viral comercio elctronico"/>
          <p:cNvPicPr/>
          <p:nvPr/>
        </p:nvPicPr>
        <p:blipFill>
          <a:blip r:embed="rId2"/>
          <a:stretch/>
        </p:blipFill>
        <p:spPr>
          <a:xfrm>
            <a:off x="5003640" y="4508640"/>
            <a:ext cx="2303640" cy="19065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" dur="2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20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CONCEP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5280" y="836640"/>
            <a:ext cx="7777080" cy="55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2) CONCEPTO (Artículo 2 de la Le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Verdana"/>
              </a:rPr>
              <a:t>La empresa individual de responsabilidad limitada es una 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persona jurídica con patrimonio propio distinto al del titular</a:t>
            </a:r>
            <a:r>
              <a:rPr b="0" lang="es-ES" sz="2400" spc="-1" strike="noStrike">
                <a:solidFill>
                  <a:srgbClr val="3333cc"/>
                </a:solidFill>
                <a:latin typeface="Verdana"/>
              </a:rPr>
              <a:t>, es 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siempre comercial</a:t>
            </a:r>
            <a:r>
              <a:rPr b="0" lang="es-ES" sz="2400" spc="-1" strike="noStrike">
                <a:solidFill>
                  <a:srgbClr val="3333cc"/>
                </a:solidFill>
                <a:latin typeface="Verdana"/>
              </a:rPr>
              <a:t> y está sometida al Código de Comercio cualquiera que sea su objeto; podrá 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realizar toda clase de operaciones civiles y comerciales</a:t>
            </a:r>
            <a:r>
              <a:rPr b="0" lang="es-ES" sz="2400" spc="-1" strike="noStrike">
                <a:solidFill>
                  <a:srgbClr val="3333cc"/>
                </a:solidFill>
                <a:latin typeface="Verdana"/>
              </a:rPr>
              <a:t>, excepto las reservadas por la ley a las sociedades anónim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Verdana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CARACTERÍSTICAS DE LAS EIR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95280" y="836640"/>
            <a:ext cx="7777080" cy="648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3) CARACTERÍSTIC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cc"/>
                </a:solidFill>
                <a:latin typeface="Verdana"/>
              </a:rPr>
              <a:t>   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Personalidad Jurídica con patrimonio          prop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   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Siempre es 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Mercant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   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Está sometida al 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Código de Comercio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 cualquiera sea su obje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   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Puede 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realizar todo tipo de operaciones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, salvo aquellas reservadas por ley a las Sociedades Anónima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9" dur="2000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9" dur="2000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4" dur="2000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CARACTERÍSTICAS DE LAS EIR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95280" y="836640"/>
            <a:ext cx="7777080" cy="518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   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Permite limitar la responsabilidad del empresario en actividades de su giro. La responsabilidad de la EIRL está limitada al monto de su apo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   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No se requiere otro so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   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Permite emprender actividades empresariales de giros distintos con RUT y contabilidad separa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CONSTITUCIÓN EIR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95280" y="836640"/>
            <a:ext cx="7777080" cy="414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3) CONSTITUCIÓN (ART. 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Escritura pública e Inscripción del Extracto en el Registro de Comercio y su respectiva public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TITULO: ESCRITURA PUBLICA ENSAYOS DE ..."/>
          <p:cNvPicPr/>
          <p:nvPr/>
        </p:nvPicPr>
        <p:blipFill>
          <a:blip r:embed="rId2"/>
          <a:stretch/>
        </p:blipFill>
        <p:spPr>
          <a:xfrm>
            <a:off x="2340000" y="4365720"/>
            <a:ext cx="1198440" cy="18716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75" name="" descr="Publicación en el Diario Oficial del ..."/>
          <p:cNvPicPr/>
          <p:nvPr/>
        </p:nvPicPr>
        <p:blipFill>
          <a:blip r:embed="rId3"/>
          <a:stretch/>
        </p:blipFill>
        <p:spPr>
          <a:xfrm>
            <a:off x="5003640" y="4437000"/>
            <a:ext cx="1157400" cy="18716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76" name=""/>
          <p:cNvSpPr/>
          <p:nvPr/>
        </p:nvSpPr>
        <p:spPr>
          <a:xfrm>
            <a:off x="4140360" y="4869000"/>
            <a:ext cx="3585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1" dur="2000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CONSTITUCIÓN EIR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836640"/>
            <a:ext cx="7777080" cy="481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MENCIONES DE LA ESCRITURA (ART.4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a)  Individualización completa del constituyente</a:t>
            </a:r>
            <a:br>
              <a:rPr sz="2400"/>
            </a:br>
            <a:br>
              <a:rPr sz="2400"/>
            </a:b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b)  El nombre de la empresa, más giro de la empresa, más EI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c)  El monto del capital que se transfiere a la empresa (dinero o bienes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8" dur="2000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1" dur="2000"/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4T16:53:20Z</dcterms:created>
  <dc:creator>JLLB_</dc:creator>
  <dc:description/>
  <dc:language>en-US</dc:language>
  <cp:lastModifiedBy>Elizabeth</cp:lastModifiedBy>
  <dcterms:modified xsi:type="dcterms:W3CDTF">2008-11-04T04:48:38Z</dcterms:modified>
  <cp:revision>93</cp:revision>
  <dc:subject/>
  <dc:title>Diapositiva 1</dc:title>
</cp:coreProperties>
</file>