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2342-E774-438F-A715-843BA80D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B023-5DCA-4776-84A9-285CD4D1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369D-FA29-4F75-B17B-B2430C0A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91F1-CC7A-404F-9267-0E31F036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748E-952D-4BFC-9C3D-D1BF58FB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A753-5E7C-4ED9-B8D0-CF3E18F4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C079-6821-4E66-8047-C5520716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736-0C37-4B52-802A-C19F1083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34B5-7F83-4DD4-AC52-FD12C58A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36B5-5A33-494F-861C-B8136E7C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966E-2F8D-428D-860E-8276810A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A9D7-DB6B-4B9C-8F4E-3BD76FE6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B8F7-5B73-4D96-AABF-AC71B9BEC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navarraconfidencial.com/portal/images/handstied-767635.jpg&amp;imgrefurl=http://www.navarraconfidencial.com/portal/modules.php%3Fname%3DNoticias%26file%3Darticle%26sid%3D652&amp;h=616&amp;w=779&amp;sz=67&amp;hl=es&amp;start=16&amp;usg=__aUn7q0u1WDaHgIcjGivyShMzalY=&amp;tbnid=O60BAAO2xlj-QM:&amp;tbnh=112&amp;tbnw=142&amp;prev=/images%3Fq%3DSOCIEDADES%26gbv%3D2%26hl%3Des%26sa%3D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ES POR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981000"/>
            <a:ext cx="7777080" cy="36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roblemas que presenta el tema de la administ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ley no establece un órgano en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Junta de Accionistas del BBVA bajo ..."/>
          <p:cNvPicPr/>
          <p:nvPr/>
        </p:nvPicPr>
        <p:blipFill>
          <a:blip r:embed="rId2"/>
          <a:stretch/>
        </p:blipFill>
        <p:spPr>
          <a:xfrm>
            <a:off x="38097000" y="-103320"/>
            <a:ext cx="1171440" cy="743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Junta de Accionistas del BBVA bajo ..."/>
          <p:cNvPicPr/>
          <p:nvPr/>
        </p:nvPicPr>
        <p:blipFill>
          <a:blip r:embed="rId3"/>
          <a:stretch/>
        </p:blipFill>
        <p:spPr>
          <a:xfrm>
            <a:off x="38097000" y="-103320"/>
            <a:ext cx="1171440" cy="743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Junta de Accionistas del BBVA bajo ..."/>
          <p:cNvPicPr/>
          <p:nvPr/>
        </p:nvPicPr>
        <p:blipFill>
          <a:blip r:embed="rId4"/>
          <a:stretch/>
        </p:blipFill>
        <p:spPr>
          <a:xfrm>
            <a:off x="38097000" y="-103320"/>
            <a:ext cx="1171440" cy="743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708360" y="4508640"/>
            <a:ext cx="2160720" cy="1369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981000"/>
            <a:ext cx="777708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in embargo, en diversas disposiciones se indica que debe existir un órgano denominado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Junta de Accionista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, cuyas competencias y funciones, frente a la ausencia de disposiciones concretas, quedará al arbitrio de la autonomía de la volunt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981000"/>
            <a:ext cx="777708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capital social debe ser fijado de forma precisa en los estatutos y debe encontrarse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dividido en acciones nominativa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acciones, como regla general deberán constar en títulos, sin perjuicio de ello se autoriza determinar en el estatuto que los títulos no sean emitidos.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125360"/>
            <a:ext cx="7777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ículo 429.- Los accionistas sólo serán responsables hasta el monto de sus respectivos aportes en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4724280"/>
            <a:ext cx="2303640" cy="144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08720" y="2060640"/>
            <a:ext cx="2592360" cy="158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ocios respon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HAS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EL MONT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US APOR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49197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E ENCUENTRA LIMITADA LA 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55736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3333cc"/>
                </a:solidFill>
                <a:latin typeface="Verdana"/>
              </a:rPr>
              <a:t>SOCIEDADES POR ACCIO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ORIGEN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836640"/>
            <a:ext cx="777708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ey 20.190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, publicada en el Diario Oficial el 05 de Junio de 20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forma el Código de Comercio (Art. 424 a 4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BJETIVO DE LA LEY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Desarrollar la Industria de capital de riesgo, dar facilidad a las transacciones. Libre mov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4508640"/>
            <a:ext cx="719280" cy="36036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836640"/>
            <a:ext cx="7777080" cy="49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CONCEPTO (Art. 4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cc"/>
                </a:solidFill>
                <a:latin typeface="Verdana"/>
              </a:rPr>
              <a:t>La sociedad por acciones es una persona jurídica creada por una o más personas mediante un acto de constitución perfeccionado de acuerdo con los preceptos establecidos, cuya participación en el capital es representada por acciones.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836640"/>
            <a:ext cx="7777080" cy="56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sta sociedad puede ser formada por una o más personas, naturales o jurídicas, sin perjuicio que con posterioridad se enajenen acciones a terceros que pasen a adquirir la calidad de soc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permite la formación inicial de sociedades unipersonales, criterio que hasta el 2007 se encontraba ausente en nuestra legis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557360"/>
            <a:ext cx="849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sociedad tendrá un estatuto social en el cual se establecerán los derechos y obligaciones de los accionistas, el régimen de su administración y los demás pa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n silencio del estatuto social y de las disposiciones de la ley, la sociedad se regirá supletoriamente por las normas aplicables a las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ociedades anónimas cerr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3678480" y="324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836640"/>
            <a:ext cx="777708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3) 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critura pública e Inscripción del Extracto en el Registro de Comercio y su respectiva pub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2340000" y="4365720"/>
            <a:ext cx="11984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4" name="" descr="Publicación en el Diario Oficial del ..."/>
          <p:cNvPicPr/>
          <p:nvPr/>
        </p:nvPicPr>
        <p:blipFill>
          <a:blip r:embed="rId3"/>
          <a:stretch/>
        </p:blipFill>
        <p:spPr>
          <a:xfrm>
            <a:off x="5003640" y="4437000"/>
            <a:ext cx="115740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140360" y="4869000"/>
            <a:ext cx="358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1052640"/>
            <a:ext cx="856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acto de constitución de la sociedad irá acompañado de su estatuto, el que deberá expresar, a lo menos, las siguientes mater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1.- El nombre de la sociedad, que deberá concluir con la expresión "SpA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2.- El objeto de la sociedad, que será siempre considerado mercanti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3.- El capital de la sociedad y el número de acciones en que el capital es dividido y representado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105264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4.- La forma como se ejercerá la administración de la sociedad y se designarán sus representantes; con indicación de quienes la ejercerán provisionalmente, en su caso,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5.- La duración de la sociedad, la cual podrá ser indefinida y, si nada se dijere, tendrá este cará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1-04T04:45:34Z</dcterms:modified>
  <cp:revision>97</cp:revision>
  <dc:subject/>
  <dc:title>Diapositiva 1</dc:title>
</cp:coreProperties>
</file>