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93C79-CC8C-43B0-8C08-B22BD59D7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B1124-11C1-4BBF-8EE6-84B969350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59DE5-4602-4958-B304-150ECCC29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548F4-C1C1-4A97-9234-07205EAF8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E3A83-41CA-45B4-B750-6D976FA66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5340C-BD91-4E91-8976-A7E1D76F9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1810F-31DC-4016-AA1D-3B85B41CC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058A0-4BAA-41EC-9B78-84273BF83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F4706-DF25-4D51-A75C-75A2365F4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DDFF0-26C2-482D-A52B-04126C8D3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21485-8544-4A71-8992-860CCE7CE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75A6E-1451-4293-84EC-B9656C36F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0E625-5CE9-4541-A738-3D28CFFC2B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l/imgres?imgurl=http://www.navarraconfidencial.com/portal/images/handstied-767635.jpg&amp;imgrefurl=http://www.navarraconfidencial.com/portal/modules.php%3Fname%3DNoticias%26file%3Darticle%26sid%3D652&amp;h=616&amp;w=779&amp;sz=67&amp;hl=es&amp;start=16&amp;usg=__aUn7q0u1WDaHgIcjGivyShMzalY=&amp;tbnid=O60BAAO2xlj-QM:&amp;tbnh=112&amp;tbnw=142&amp;prev=/images%3Fq%3DSOCIEDADES%26gbv%3D2%26hl%3Des%26sa%3DG" TargetMode="Externa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66720" y="241200"/>
            <a:ext cx="4547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Universidad de Chi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Facultad de Derech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Derecho Comercia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Profesor Sr. José Luis López Blan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619280" y="1844640"/>
            <a:ext cx="6016680" cy="2840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3" name=""/>
          <p:cNvGraphicFramePr/>
          <p:nvPr/>
        </p:nvGraphicFramePr>
        <p:xfrm>
          <a:off x="304920" y="304920"/>
          <a:ext cx="698400" cy="1371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304920"/>
                    <a:ext cx="698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"/>
          <p:cNvSpPr/>
          <p:nvPr/>
        </p:nvSpPr>
        <p:spPr>
          <a:xfrm>
            <a:off x="900000" y="4941720"/>
            <a:ext cx="73454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DERECHO  COMERCIAL 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SOCIEDADES POR AC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ADMINISTR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95280" y="981000"/>
            <a:ext cx="7777080" cy="366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1" lang="es-CL" sz="2800" spc="-1" strike="noStrike" u="sng">
                <a:solidFill>
                  <a:srgbClr val="3333cc"/>
                </a:solidFill>
                <a:uFillTx/>
                <a:latin typeface="Verdana"/>
              </a:rPr>
              <a:t>ADMINISTR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Problemas que presenta el tema de la administració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La ley no establece un órgano en específic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Junta de Accionistas del BBVA bajo ..."/>
          <p:cNvPicPr/>
          <p:nvPr/>
        </p:nvPicPr>
        <p:blipFill>
          <a:blip r:embed="rId2"/>
          <a:stretch/>
        </p:blipFill>
        <p:spPr>
          <a:xfrm>
            <a:off x="38097000" y="-103320"/>
            <a:ext cx="1171440" cy="74304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Junta de Accionistas del BBVA bajo ..."/>
          <p:cNvPicPr/>
          <p:nvPr/>
        </p:nvPicPr>
        <p:blipFill>
          <a:blip r:embed="rId3"/>
          <a:stretch/>
        </p:blipFill>
        <p:spPr>
          <a:xfrm>
            <a:off x="38097000" y="-103320"/>
            <a:ext cx="1171440" cy="7430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Junta de Accionistas del BBVA bajo ..."/>
          <p:cNvPicPr/>
          <p:nvPr/>
        </p:nvPicPr>
        <p:blipFill>
          <a:blip r:embed="rId4"/>
          <a:stretch/>
        </p:blipFill>
        <p:spPr>
          <a:xfrm>
            <a:off x="38097000" y="-103320"/>
            <a:ext cx="1171440" cy="74304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5"/>
          <a:stretch/>
        </p:blipFill>
        <p:spPr>
          <a:xfrm>
            <a:off x="3708360" y="4508640"/>
            <a:ext cx="2160720" cy="13698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1" dur="5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ADMINISTR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95280" y="981000"/>
            <a:ext cx="7777080" cy="32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     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Sin embargo, en diversas disposiciones se indica que debe existir un órgano denominado </a:t>
            </a:r>
            <a:r>
              <a:rPr b="1" lang="es-ES" sz="2400" spc="-1" strike="noStrike" u="sng">
                <a:solidFill>
                  <a:srgbClr val="3333cc"/>
                </a:solidFill>
                <a:uFillTx/>
                <a:latin typeface="Verdana"/>
              </a:rPr>
              <a:t>Junta de Accionistas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, cuyas competencias y funciones, frente a la ausencia de disposiciones concretas, quedará al arbitrio de la autonomía de la volunt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4" dur="20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CAPIT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95280" y="981000"/>
            <a:ext cx="7777080" cy="38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     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El capital social debe ser fijado de forma precisa en los estatutos y debe encontrarse </a:t>
            </a:r>
            <a:r>
              <a:rPr b="1" lang="es-ES" sz="2400" spc="-1" strike="noStrike" u="sng">
                <a:solidFill>
                  <a:srgbClr val="3333cc"/>
                </a:solidFill>
                <a:uFillTx/>
                <a:latin typeface="Verdana"/>
              </a:rPr>
              <a:t>dividido en acciones nominativas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     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Las acciones, como regla general deberán constar en títulos, sin perjuicio de ello se autoriza determinar en el estatuto que los títulos no sean emitidos.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REGIMEN DE RESPONSABIL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39640" y="1125360"/>
            <a:ext cx="777744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1" lang="es-CL" sz="2800" spc="-1" strike="noStrike" u="sng">
                <a:solidFill>
                  <a:srgbClr val="3333cc"/>
                </a:solidFill>
                <a:uFillTx/>
                <a:latin typeface="Verdana"/>
              </a:rPr>
              <a:t>RESPONSABIL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Artículo 429.- Los accionistas sólo serán responsables hasta el monto de sus respectivos aportes en la socie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987640" y="4724280"/>
            <a:ext cx="2303640" cy="14400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4" dur="2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9" dur="20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95280" y="836640"/>
            <a:ext cx="7777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55640" y="2205000"/>
            <a:ext cx="2376360" cy="1079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Patrimoni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de la socie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508720" y="2060640"/>
            <a:ext cx="2592360" cy="1584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333cc"/>
                </a:solidFill>
                <a:latin typeface="Verdana"/>
              </a:rPr>
              <a:t>Socios responde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333cc"/>
                </a:solidFill>
                <a:latin typeface="Verdana"/>
              </a:rPr>
              <a:t>HAST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333cc"/>
                </a:solidFill>
                <a:latin typeface="Verdana"/>
              </a:rPr>
              <a:t>EL MONTO 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333cc"/>
                </a:solidFill>
                <a:latin typeface="Verdana"/>
              </a:rPr>
              <a:t>SUS APORT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780000" y="256536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0000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rot="5400000">
            <a:off x="3678480" y="389016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0000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900000" y="4919760"/>
            <a:ext cx="73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SE ENCUENTRA LIMITADA LA  RESPONSABIL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6" dur="2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9640" y="1125360"/>
            <a:ext cx="7777440" cy="9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5280" y="1557360"/>
            <a:ext cx="84978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5400" spc="-1" strike="noStrike">
                <a:solidFill>
                  <a:srgbClr val="3333cc"/>
                </a:solidFill>
                <a:latin typeface="Verdana"/>
              </a:rPr>
              <a:t>SOCIEDADES POR ACCION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ORIGEN DE LAS EIR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95280" y="836640"/>
            <a:ext cx="7777080" cy="44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Verdana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cc"/>
                </a:solidFill>
                <a:latin typeface="Verdana"/>
              </a:rPr>
              <a:t>REGU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Ley 20.190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, publicada en el Diario Oficial el 05 de Junio de 2007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Reforma el Código de Comercio (Art. 424 a 44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OBJETIVO DE LA LEY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       Desarrollar la Industria de capital de riesgo, dar facilidad a las transacciones. Libre mov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643280" y="4508640"/>
            <a:ext cx="719280" cy="360360"/>
          </a:xfrm>
          <a:prstGeom prst="rightArrow">
            <a:avLst>
              <a:gd name="adj1" fmla="val 50000"/>
              <a:gd name="adj2" fmla="val 49900"/>
            </a:avLst>
          </a:prstGeom>
          <a:solidFill>
            <a:srgbClr val="0000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" dur="20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CONCEP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836640"/>
            <a:ext cx="7777080" cy="49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2) CONCEPTO (Art. 424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3333cc"/>
                </a:solidFill>
                <a:latin typeface="Verdana"/>
              </a:rPr>
              <a:t>La sociedad por acciones es una persona jurídica creada por una o más personas mediante un acto de constitución perfeccionado de acuerdo con los preceptos establecidos, cuya participación en el capital es representada por acciones.</a:t>
            </a:r>
            <a:r>
              <a:rPr b="0" lang="es-ES" sz="2400" spc="-1" strike="noStrike">
                <a:solidFill>
                  <a:srgbClr val="3333cc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" dur="20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CONCEP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836640"/>
            <a:ext cx="7777080" cy="564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Esta sociedad puede ser formada por una o más personas, naturales o jurídicas, sin perjuicio que con posterioridad se enajenen acciones a terceros que pasen a adquirir la calidad de socio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  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Se permite la formación inicial de sociedades unipersonales, criterio que hasta el 2007 se encontraba ausente en nuestra legisl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6" dur="2000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REGU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39640" y="1125360"/>
            <a:ext cx="7777440" cy="9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95280" y="1557360"/>
            <a:ext cx="84978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La sociedad tendrá un estatuto social en el cual se establecerán los derechos y obligaciones de los accionistas, el régimen de su administración y los demás pact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En silencio del estatuto social y de las disposiciones de la ley, la sociedad se regirá supletoriamente por las normas aplicables a las 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sociedades anónimas cerrad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rot="5400000">
            <a:off x="3678480" y="32425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0000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CONSTITU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836640"/>
            <a:ext cx="7777080" cy="414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3) CONSTITU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Escritura pública e Inscripción del Extracto en el Registro de Comercio y su respectiva public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TITULO: ESCRITURA PUBLICA ENSAYOS DE ..."/>
          <p:cNvPicPr/>
          <p:nvPr/>
        </p:nvPicPr>
        <p:blipFill>
          <a:blip r:embed="rId2"/>
          <a:stretch/>
        </p:blipFill>
        <p:spPr>
          <a:xfrm>
            <a:off x="2340000" y="4365720"/>
            <a:ext cx="1198440" cy="18716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74" name="" descr="Publicación en el Diario Oficial del ..."/>
          <p:cNvPicPr/>
          <p:nvPr/>
        </p:nvPicPr>
        <p:blipFill>
          <a:blip r:embed="rId3"/>
          <a:stretch/>
        </p:blipFill>
        <p:spPr>
          <a:xfrm>
            <a:off x="5003640" y="4437000"/>
            <a:ext cx="1157400" cy="18716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75" name=""/>
          <p:cNvSpPr/>
          <p:nvPr/>
        </p:nvSpPr>
        <p:spPr>
          <a:xfrm>
            <a:off x="4140360" y="4869000"/>
            <a:ext cx="3585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" dur="2000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CONSTITUCION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79280" y="1052640"/>
            <a:ext cx="85694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El acto de constitución de la sociedad irá acompañado de su estatuto, el que deberá expresar, a lo menos, las siguientes materi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1.- El nombre de la sociedad, que deberá concluir con la expresión "SpA"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2.- El objeto de la sociedad, que será siempre considerado mercanti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3.- El capital de la sociedad y el número de acciones en que el capital es dividido y representado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8" dur="2000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1" dur="2000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4" dur="2000"/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CONSTITUCION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79280" y="1052640"/>
            <a:ext cx="85694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4.- La forma como se ejercerá la administración de la sociedad y se designarán sus representantes; con indicación de quienes la ejercerán provisionalmente, en su caso,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5.- La duración de la sociedad, la cual podrá ser indefinida y, si nada se dijere, tendrá este carác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1" dur="20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4" dur="2000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4T16:53:20Z</dcterms:created>
  <dc:creator>JLLB_</dc:creator>
  <dc:description/>
  <dc:language>en-US</dc:language>
  <cp:lastModifiedBy>Elizabeth</cp:lastModifiedBy>
  <dcterms:modified xsi:type="dcterms:W3CDTF">2008-11-04T04:45:34Z</dcterms:modified>
  <cp:revision>97</cp:revision>
  <dc:subject/>
  <dc:title>Diapositiva 1</dc:title>
</cp:coreProperties>
</file>