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C959-62B9-41AE-8387-DF4B8927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DE2-6EF2-4636-8CF0-49AF8FBD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F40E-D84A-4141-91EF-F40DBEC91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A08-9194-4220-A368-5A66ED41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10B8-1C8A-453D-8A89-5B9BCBE3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0B02-8234-4C3A-8862-5B5C87DE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2711-C372-4960-8A9E-08113637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CB6-8779-4DB5-8905-08E3349E6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086F-65F5-4811-A86A-55452CCE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FCC9-F344-4750-934F-487A17C5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11AD-47DE-4719-982C-5E0E5C0C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6FD-8C23-40C8-A7E7-129FA955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6F44-701D-40E2-95B9-62C6C9ADB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navarraconfidencial.com/portal/images/handstied-767635.jpg&amp;imgrefurl=http://www.navarraconfidencial.com/portal/modules.php%3Fname%3DNoticias%26file%3Darticle%26sid%3D652&amp;h=616&amp;w=779&amp;sz=67&amp;hl=es&amp;start=16&amp;usg=__aUn7q0u1WDaHgIcjGivyShMzalY=&amp;tbnid=O60BAAO2xlj-QM:&amp;tbnh=112&amp;tbnw=142&amp;prev=/images%3Fq%3DSOCIEDADES%26gbv%3D2%26hl%3Des%26sa%3D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981000"/>
            <a:ext cx="7777080" cy="36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roblemas que presenta el tema de la administr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ley no establece un órgano en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Junta de Accionistas del BBVA bajo ..."/>
          <p:cNvPicPr/>
          <p:nvPr/>
        </p:nvPicPr>
        <p:blipFill>
          <a:blip r:embed="rId2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Junta de Accionistas del BBVA bajo ..."/>
          <p:cNvPicPr/>
          <p:nvPr/>
        </p:nvPicPr>
        <p:blipFill>
          <a:blip r:embed="rId3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Junta de Accionistas del BBVA bajo ..."/>
          <p:cNvPicPr/>
          <p:nvPr/>
        </p:nvPicPr>
        <p:blipFill>
          <a:blip r:embed="rId4"/>
          <a:stretch/>
        </p:blipFill>
        <p:spPr>
          <a:xfrm>
            <a:off x="38097000" y="-103320"/>
            <a:ext cx="1171440" cy="743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708360" y="4508640"/>
            <a:ext cx="2160720" cy="1369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ADMINIST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981000"/>
            <a:ext cx="7777080" cy="32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in embargo, en diversas disposiciones se indica que debe existir un órgano denominado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Junta de Accionist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, cuyas competencias y funciones, frente a la ausencia de disposiciones concretas, quedará al arbitrio de la autonomía de la volunt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981000"/>
            <a:ext cx="77770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capital social debe ser fijado de forma precisa en los estatutos y debe encontrarse </a:t>
            </a:r>
            <a:r>
              <a:rPr b="1" lang="es-ES" sz="2400" spc="-1" strike="noStrike" u="sng">
                <a:solidFill>
                  <a:srgbClr val="3333cc"/>
                </a:solidFill>
                <a:uFillTx/>
                <a:latin typeface="Verdana"/>
              </a:rPr>
              <a:t>dividido en acciones nominativas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s acciones, como regla general deberán constar en títulos, sin perjuicio de ello se autoriza determinar en el estatuto que los títulos no sean emitidos.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IMEN DE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1125360"/>
            <a:ext cx="77774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ículo 429.- Los accionistas sólo serán responsables hasta el monto de sus respectivos aportes en la soc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4724280"/>
            <a:ext cx="2303640" cy="1440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836640"/>
            <a:ext cx="777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2205000"/>
            <a:ext cx="2376360" cy="107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atrimon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08720" y="2060640"/>
            <a:ext cx="259236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ocios respond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HAS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EL MO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cc"/>
                </a:solidFill>
                <a:latin typeface="Verdana"/>
              </a:rPr>
              <a:t>SUS APOR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2565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3678480" y="38901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4919760"/>
            <a:ext cx="73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E ENCUENTRA LIMITADA LA  RESPONS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557360"/>
            <a:ext cx="8497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3333cc"/>
                </a:solidFill>
                <a:latin typeface="Verdana"/>
              </a:rPr>
              <a:t>SOCIEDADES POR ACCION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ORIGEN DE LAS E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836640"/>
            <a:ext cx="777708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ey 20.190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publicada en el Diario Oficial el 05 de Junio de 2007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forma el Código de Comercio (Art. 424 a 44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OBJETIVO DE LA LEY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      Desarrollar la Industria de capital de riesgo, dar facilidad a las transacciones. Libre mov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3280" y="4508640"/>
            <a:ext cx="719280" cy="36036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836640"/>
            <a:ext cx="7777080" cy="49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CONCEPTO (Art. 4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3333cc"/>
                </a:solidFill>
                <a:latin typeface="Verdana"/>
              </a:rPr>
              <a:t>La sociedad por acciones es una persona jurídica creada por una o más personas mediante un acto de constitución perfeccionado de acuerdo con los preceptos establecidos, cuya participación en el capital es representada por acciones.</a:t>
            </a:r>
            <a:r>
              <a:rPr b="0" lang="es-ES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CEP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836640"/>
            <a:ext cx="7777080" cy="56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sta sociedad puede ser formada por una o más personas, naturales o jurídicas, sin perjuicio que con posterioridad se enajenen acciones a terceros que pasen a adquirir la calidad de so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e permite la formación inicial de sociedades unipersonales, criterio que hasta el 2007 se encontraba ausente en nuestra legis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REG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125360"/>
            <a:ext cx="777744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557360"/>
            <a:ext cx="849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La sociedad tendrá un estatuto social en el cual se establecerán los derechos y obligaciones de los accionistas, el régimen de su administración y los demás pa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n silencio del estatuto social y de las disposiciones de la ley, la sociedad se regirá supletoriamente por las normas aplicables a las </a:t>
            </a: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sociedades anónimas cerr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5400000">
            <a:off x="3678480" y="3242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836640"/>
            <a:ext cx="7777080" cy="41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3)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critura pública e Inscripción del Extracto en el Registro de Comercio y su respectiva publ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TITULO: ESCRITURA PUBLICA ENSAYOS DE ..."/>
          <p:cNvPicPr/>
          <p:nvPr/>
        </p:nvPicPr>
        <p:blipFill>
          <a:blip r:embed="rId2"/>
          <a:stretch/>
        </p:blipFill>
        <p:spPr>
          <a:xfrm>
            <a:off x="2340000" y="4365720"/>
            <a:ext cx="119844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4" name="" descr="Publicación en el Diario Oficial del ..."/>
          <p:cNvPicPr/>
          <p:nvPr/>
        </p:nvPicPr>
        <p:blipFill>
          <a:blip r:embed="rId3"/>
          <a:stretch/>
        </p:blipFill>
        <p:spPr>
          <a:xfrm>
            <a:off x="5003640" y="4437000"/>
            <a:ext cx="115740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4140360" y="4869000"/>
            <a:ext cx="358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052640"/>
            <a:ext cx="8569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El acto de constitución de la sociedad irá acompañado de su estatuto, el que deberá expresar, a lo menos, las siguientes mater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1.- El nombre de la sociedad, que deberá concluir con la expresión "SpA"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2.- El objeto de la sociedad, que será siempre considerado mercanti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3.- El capital de la sociedad y el número de acciones en que el capital es dividido y representado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ONSTITUCIO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1052640"/>
            <a:ext cx="856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4.- La forma como se ejercerá la administración de la sociedad y se designarán sus representantes; con indicación de quienes la ejercerán provisionalmente, en su caso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5.- La duración de la sociedad, la cual podrá ser indefinida y, si nada se dijere, tendrá este carác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8-11-04T04:45:34Z</dcterms:modified>
  <cp:revision>97</cp:revision>
  <dc:subject/>
  <dc:title>Diapositiva 1</dc:title>
</cp:coreProperties>
</file>