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D754-C244-4205-9021-B85F22DC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E248-5722-411B-BA69-141EC78B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2347-4D97-45C8-834C-8D6903DA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BAE3-AE6D-499A-B8A9-1D100B50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A547-9F97-421B-854B-06160DDE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F0B9-DD19-42CA-847F-03F45823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3C6-5676-471A-AEF5-F77AE5D6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E539-E796-47B8-979D-3A1847E6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303-F77C-4575-9E18-75FE6F66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510-2391-411C-ACD8-C7B6518E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6CCB-2DF3-4180-9A85-4280F6BF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C59E-7C9C-4359-B6E2-65ADBB31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9BC5-8105-45FE-ACBE-C21E3A066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navarraconfidencial.com/portal/images/handstied-767635.jpg&amp;imgrefurl=http://www.navarraconfidencial.com/portal/modules.php%3Fname%3DNoticias%26file%3Darticle%26sid%3D652&amp;h=616&amp;w=779&amp;sz=67&amp;hl=es&amp;start=16&amp;usg=__aUn7q0u1WDaHgIcjGivyShMzalY=&amp;tbnid=O60BAAO2xlj-QM:&amp;tbnh=112&amp;tbnw=142&amp;prev=/images%3Fq%3DSOCIEDADES%26gbv%3D2%26hl%3Des%26sa%3D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illo.cl/dibujos/presos.gif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 EMPRESA INDIVIDUAL DE RESPONSABILIDAD LIMI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836640"/>
            <a:ext cx="77770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) La actividad económica que constituirá el objeto o giro de la empresa y el ramo o rubro específico en que dentro de ella se desempeñar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) El domicilio de la empresa, y 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f) El plazo de duración. Si nada se dice, se entenderá que su duración es indefinid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836640"/>
            <a:ext cx="777708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menciones de la Escritura establecidas en el Art. 4 son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OBLIGATORIAS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, ninguna puede faltar al momento de constituir la EIR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INSCRIPCIÓN EN EL CONSER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UN EXTRACTO DE LA ESCRITURA DEBE INSCRIBIRSE EN EL REGISTRO DE COMERCIO DEL CB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QUE CORRESP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6012000" y="465300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836640"/>
            <a:ext cx="77770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PUB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Debe publicarse en el Diario Oficial el extracto dentro del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plazo de 60 días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siguientes a la fecha de la escritur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Publicación en el Diario Oficial del ..."/>
          <p:cNvPicPr/>
          <p:nvPr/>
        </p:nvPicPr>
        <p:blipFill>
          <a:blip r:embed="rId2"/>
          <a:stretch/>
        </p:blipFill>
        <p:spPr>
          <a:xfrm>
            <a:off x="4427640" y="4076640"/>
            <a:ext cx="11570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MODIF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981000"/>
            <a:ext cx="7777080" cy="44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900" spc="-1" strike="noStrike">
                <a:solidFill>
                  <a:srgbClr val="3333cc"/>
                </a:solidFill>
                <a:latin typeface="Verdana"/>
              </a:rPr>
              <a:t>MODIFICACIONES AL ESTATUTO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ben cumplir con todas las solemnidades establecidas en el Art. 6 de la Ley. Remisión al Art.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MODIFICACIONES SE ANOTAN AL MARGEN DE LA INSCRIP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56000" y="21337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MODIF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981000"/>
            <a:ext cx="7777080" cy="54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ículo 6º de la 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Toda modificación a las menciones señaladas en el artículo 4º, deberá observar las solemnidades establecidas en el artículo 3º.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En el extracto deberá hacerse referencia al contenido específico de la modificación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2087640" cy="141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981000"/>
            <a:ext cx="7777080" cy="41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ANCIONES POR EL NO CUMPLIMIENTO DE LAS 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misión de alguna de las solemnidades de los Art. 4 o 5 (Art. 6 en caso de modificaciones) importará la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NULIDAD ABSOLUT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l acto resp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981000"/>
            <a:ext cx="7777080" cy="61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¿ Qué ocurre en el caso que la nulidad afecte al acto constitutiv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ley señala una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ANCIÓN ESPECÍ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Artículo 7º.- La omisión de alguna de las solemnidades de los artículos 4º, 5º y 6º, importará la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nulidad absoluta del acto respectivo. Si se tratare de la nulidad absoluta del acto constitutivo, el titular responderá personal e ilimitadamente de las obligaciones que contraiga en el giro de la empresa</a:t>
            </a: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. Lo anterior, sin perjuicio del sane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2565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125360"/>
            <a:ext cx="7777440" cy="38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RESPONSABILIDAD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(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Art.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1)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mpresa Individual responde exclusivamente por obligaciones contraídas dentro de su giro con todos sus bie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 responderá nunca por deudas contraídas por su tit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125360"/>
            <a:ext cx="777744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limita la responsabilidad del titular constituyente, no de la empresa, ya que esta responde ilimitadamente con todos los bienes de su 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Agosto 30, 2007"/>
          <p:cNvPicPr/>
          <p:nvPr/>
        </p:nvPicPr>
        <p:blipFill>
          <a:blip r:embed="rId2"/>
          <a:stretch/>
        </p:blipFill>
        <p:spPr>
          <a:xfrm>
            <a:off x="3564000" y="3500280"/>
            <a:ext cx="1508040" cy="20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125360"/>
            <a:ext cx="7777440" cy="50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TIT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l titular de la empresa responde con su patrimonio propio sólo del pago efectivo del aporte que se hubiese comprometido a realizar en conformidad al acto constitu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SABILIDAD SE ENCUENTRA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1197000"/>
            <a:ext cx="2303640" cy="144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836640"/>
            <a:ext cx="777708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cc"/>
                </a:solidFill>
                <a:latin typeface="Verdana"/>
              </a:rPr>
              <a:t>EMPRESAS INDIVIDUALES DE RESPONSABILIDAD LIMIT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276640"/>
            <a:ext cx="2592360" cy="107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DISTINTO AL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TIT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3333cc"/>
                </a:solidFill>
                <a:latin typeface="Verdana"/>
              </a:rPr>
              <a:t>RESPONDE SÓ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i="1" lang="es-CL" sz="1600" spc="-1" strike="noStrike">
                <a:solidFill>
                  <a:srgbClr val="3333cc"/>
                </a:solidFill>
                <a:latin typeface="Verdana"/>
              </a:rPr>
              <a:t>HASTA EL A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4919760"/>
            <a:ext cx="73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atrimonio del titular no se verá afectado,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salvo el caso ya estudiado de las omisiones y los casos del Art.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1125360"/>
            <a:ext cx="7777440" cy="49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Artículo 12.- El titular responderá ilimitadamente con sus bienes, en los siguientes casos: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a) Por los actos y contratos efectuados fuera del objeto de la empresa, para pagar las obligaciones que emanen de esos actos y contratos;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b) Por los actos y contratos que se ejecutaren sin el nombre o representación de la empresa, para cumplir las obligaciones que emanen de tales actos y contr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1125360"/>
            <a:ext cx="777744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c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) Si la empresa celebrare actos y contratos simulados, ocultare sus bienes o reconociere deudas supuestas, aunque de ello no se siga perjuicio inmedia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d) Si el titular percibiere rentas de la empresa que no guarden relación con la importancia de su giro, o efectuare retiros que no correspondieren a utilidades líquidas y realizables que pueda percibir, o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) Si la empresa fuere declarada en quiebra culpable o fraudul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NOMIN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981000"/>
            <a:ext cx="777708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 Art. 4 letra b de la Ley entrega dos posibilidades: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mbre y apellido del titular más el giro y la expresión E.I.R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mbre de Fantasía, más alusión al giro de la empresa y</a:t>
            </a: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expresión E.I.R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981000"/>
            <a:ext cx="7777080" cy="38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ADMINISTRACIÓN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(ART. 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dministración de la empresa corresponde al titular, quien la representa judicial y extrajudicialmente con todas las facultades de administración y dis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981000"/>
            <a:ext cx="7777080" cy="52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 titular o su mandatario pueden designar un gerente general que tendrá las facultades que se expresen en la escritura pública en que lo desig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A ESCRITURA PÚBLICA DEBE INSCRIBIRSE EN EL REGISTRO DE COMERCIO Y SUBINSCRIBIRSE AL MARGEN DE LA INSCRIPCIÓN ESTAT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3605400" y="36028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981000"/>
            <a:ext cx="777708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in perjuicio de esta facultad de designar gerente general podrá conferir MANDATOS GENERALES O ESPECIALES para actuar a nombre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(Iguales requisitos que el caso anteri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780000" y="3789360"/>
            <a:ext cx="1584000" cy="18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TRATOS 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981000"/>
            <a:ext cx="777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entiende por contratos relacionados, los actos y contratos que el titular de la empresa individual celebre con su patrimonio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no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comprometido en la empresa, por una parte, y con el patrimonio de la empresa, por la otra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LEY ESTABLECE REQUISITOS PARA ESTE TIPO DE CONTRATOS  O ACTOS .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3605400" y="4034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TRATOS 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981000"/>
            <a:ext cx="777708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berán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constar por escrito y protocolizarse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ante notario públic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anotarán al margen de la inscripción estatutaria dentro del plazo de 60 día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contados desde su otorg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SANCIÓN- NUL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08080"/>
                </a:solidFill>
                <a:latin typeface="Verdana"/>
              </a:rPr>
              <a:t>CON ESTO SE BUSCA REGULAR LA AUTOCONTRA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3605400" y="4537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UTILIDADES LÍQU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981000"/>
            <a:ext cx="777708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UTILIDADES LÍQUIDAS pertenecen al titular de la empresa y, una vez que se hubieren retirado por este no habrá acción contra ellas por obligaciones de la EIR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3333cc"/>
                </a:solidFill>
                <a:latin typeface="Verdana"/>
              </a:rPr>
              <a:t>¿En qué casos habrá responsabilidad?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4292640"/>
            <a:ext cx="2159280" cy="1547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ORIGEN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836640"/>
            <a:ext cx="77770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EMPRESAS INDIVIDUALES DE RESPONSABILIDAD LIMITADA (EIRL) son bastante rec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Antecedentes e importancia de su c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ey 19857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, publicada en el Diario Oficial el 11 de febrero del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UTILIDADES LÍQU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981000"/>
            <a:ext cx="77770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elebración de actos y contratos simulados, ocultar bi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cepción de rentas fuera del gir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claración de quiebra culpable o fraudulenta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L EMPRESARIO EN TODOS ESTOS CASOS RESPONDE CON SU PATRIMONIO   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Verdana"/>
              </a:rPr>
              <a:t>RESPONSABILIDAD  PERSONAL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(Art. 12)  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4941720"/>
            <a:ext cx="719280" cy="270000"/>
          </a:xfrm>
          <a:prstGeom prst="rightArrow">
            <a:avLst>
              <a:gd name="adj1" fmla="val 60139"/>
              <a:gd name="adj2" fmla="val 71163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TRANSFORMACIÓN 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98100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odrán transformarse otras sociedades en EIR cuando se produzca la reunión en manos de una sola persona, de las acciones, derechos o participaciones en el capital, de cualquier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Siempre que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cumpla con las formalidades de constitución de la EI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867280" y="2997360"/>
            <a:ext cx="1944720" cy="129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TRANSFORMACIÓN 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981000"/>
            <a:ext cx="777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escritura pública respectiva, en la que deberá constar la transformación y la individualización de la sociedad que se transforma, deberá extenderse dentro de los treinta días siguientes a la fecha en que dicha reunión se produz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extracto correspondiente deberá inscribirse y publicarse dentro de 60 dí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TRATOS 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98100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¿Puede una EIRL transformarse en otro tipo de socieda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Una empresa individual de responsabilidad limitada podrá transformarse en una sociedad de cualquier tipo, cumpliendo los requisitos y formalidades que establece el estatuto jurídico de la sociedad en la cual se transforma. (Art. 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219640" y="5084640"/>
            <a:ext cx="1800360" cy="1190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 rot="5400000">
            <a:off x="3555360" y="2358360"/>
            <a:ext cx="790560" cy="341280"/>
          </a:xfrm>
          <a:prstGeom prst="rightArrow">
            <a:avLst>
              <a:gd name="adj1" fmla="val 50000"/>
              <a:gd name="adj2" fmla="val 57911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TÉRMINO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981000"/>
            <a:ext cx="7777080" cy="65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causales de término las establece el Art. 15 de la Ley, entre ellas destaca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1_  Por voluntad del empres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2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_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Por la llegada del plazo previsto en el acto constit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3_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Por la muerte del tit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causales de terminación se establecen tanto en favor del empresario como de sus acreedo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1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Derecho Comercial. Actos de Comerci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. Tomo I, volumen 1. Editorial Jurídica de Ch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ORIGEN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836640"/>
            <a:ext cx="777708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Una empresa individual de responsabilidad limitada es una persona jurídica con patrimo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propio distinto al del titul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 Ley 19.857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autoriza a toda persona natural el establecimiento de empresas individuales de responsabilidad limitad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marketing viral comercio elctronico"/>
          <p:cNvPicPr/>
          <p:nvPr/>
        </p:nvPicPr>
        <p:blipFill>
          <a:blip r:embed="rId2"/>
          <a:stretch/>
        </p:blipFill>
        <p:spPr>
          <a:xfrm>
            <a:off x="5003640" y="4508640"/>
            <a:ext cx="2303640" cy="1906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836640"/>
            <a:ext cx="77770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CONCEPTO (Artículo 2 de la L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empresa individual de responsabilidad limitada es una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sona jurídica con patrimonio propio distinto al del titular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, es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iempre comercial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y está sometida al Código de Comercio cualquiera que sea su objeto; podrá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alizar toda clase de operaciones civiles y comerciales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, excepto las reservadas por la ley a las sociedades anón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ÍSTICAS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836640"/>
            <a:ext cx="7777080" cy="64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3) CARACTERÍ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ersonalidad Jurídica con patrimonio          pro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iempre es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stá sometida al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ódigo de Comercio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cualquiera sea su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alizar todo tipo de operacione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, salvo aquellas reservadas por ley a las Sociedades Anónim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ÍSTICAS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836640"/>
            <a:ext cx="777708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mite limitar la responsabilidad del empresario en actividades de su giro. La responsabilidad de la EIRL está limitada al monto de su a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No se requiere otro s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mite emprender actividades empresariales de giros distintos con RUT y contabilidad sepa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836640"/>
            <a:ext cx="777708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3) CONSTITUCIÓN (ART.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critura pública e Inscripción del Extracto en el Registro de Comercio y su respectiva pub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2340000" y="436572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5" name="" descr="Publicación en el Diario Oficial del ..."/>
          <p:cNvPicPr/>
          <p:nvPr/>
        </p:nvPicPr>
        <p:blipFill>
          <a:blip r:embed="rId3"/>
          <a:stretch/>
        </p:blipFill>
        <p:spPr>
          <a:xfrm>
            <a:off x="5003640" y="4437000"/>
            <a:ext cx="115740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4140360" y="4869000"/>
            <a:ext cx="358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836640"/>
            <a:ext cx="77770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NCIONES DE LA ESCRITURA (ART.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)  Individualización completa del constituyente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b)  El nombre de la empresa, más giro de la empresa, más EI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)  El monto del capital que se transfiere a la empresa (dinero o biene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1-04T04:48:38Z</dcterms:modified>
  <cp:revision>93</cp:revision>
  <dc:subject/>
  <dc:title>Diapositiva 1</dc:title>
</cp:coreProperties>
</file>