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D79-B47A-4736-8028-EAB51C74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DB2-A78F-4D08-A7FC-9243FFB2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090-D335-491D-A1A2-67F7F9ED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63C-73DB-444A-BE59-C8D9A4CF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9AE-D173-4444-B8B5-B2AC1BBB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710-DC1C-4711-A931-1BA21A66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652-477B-4F4B-A52A-9BD2E1C2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574-6D4F-4D76-91AB-1E833AD9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FD1-BAB3-4F48-9762-BCB77BB9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19B-7955-465A-83C4-78B1F738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8DD-088D-412E-A5F6-A9593693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84C-3682-4E92-A01D-D0C2FB7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DBD9-2842-4DC2-A69B-783D465A6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illo.cl/dibujos/presos.gif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EMPRESA INDIVIDUAL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) La actividad económica que constituirá el objeto o giro de la empresa y el ramo o rubro específico en que dentro de ella se desempeñ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) El domicilio de la empresa, y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f) El plazo de duración. Si nada se dice, se entenderá que su duración es indefinid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836640"/>
            <a:ext cx="77770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enciones de la Escritura establecidas en el Art. 4 son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OBLIGATORIA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ninguna puede faltar al momento de constituir la EI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EN EL CON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UN EXTRACTO DE LA ESCRITURA DEBE INSCRIBIRSE EN EL REGISTRO DE COMERCIO DEL CB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QUE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01200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7777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ebe publicarse en el Diario Oficial el extracto dentro del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plazo de 60 día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siguientes a la fecha de la escri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Publicación en el Diario Oficial del ..."/>
          <p:cNvPicPr/>
          <p:nvPr/>
        </p:nvPicPr>
        <p:blipFill>
          <a:blip r:embed="rId2"/>
          <a:stretch/>
        </p:blipFill>
        <p:spPr>
          <a:xfrm>
            <a:off x="4427640" y="4076640"/>
            <a:ext cx="11570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81000"/>
            <a:ext cx="777708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900" spc="-1" strike="noStrike">
                <a:solidFill>
                  <a:srgbClr val="3333cc"/>
                </a:solidFill>
                <a:latin typeface="Verdana"/>
              </a:rPr>
              <a:t>MODIFICACIONES AL ESTATUTO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cumplir con todas las solemnidades establecidas en el Art. 6 de la Ley. Remisión al Art.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ODIFICACIONES SE ANOTAN AL MARGEN DE LA INSCRIP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2133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981000"/>
            <a:ext cx="7777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6º de la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Toda modificación a las menciones señaladas en el artículo 4º, deberá observar las solemnidades establecidas en el artículo 3º.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En el extracto deberá hacerse referencia al contenido específico de la modificación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087640" cy="14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981000"/>
            <a:ext cx="77770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ONES POR EL NO CUMPLIMIENTO DE LAS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misión de alguna de las solemnidades de los Art. 4 o 5 (Art. 6 en caso de modificaciones) importará l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NULIDAD ABSOLUT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l acto resp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81000"/>
            <a:ext cx="777708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¿ Qué ocurre en el caso que la nulidad afecte al acto constit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señala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ÓN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Artículo 7º.- La omisión de alguna de las solemnidades de los artículos 4º, 5º y 6º, importará la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nulidad absoluta del acto respectivo. Si se tratare de la nulidad absoluta del acto constitutivo, el titular responderá personal e ilimitadamente de las obligaciones que contraiga en el giro de la empresa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. Lo anterior, sin perjuicio del sane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565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25360"/>
            <a:ext cx="777744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rt.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1)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mpresa Individual responde exclusivamente por obligaciones contraídas dentro de su giro con todos sus bie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responderá nunca por deudas contraídas por su tit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25360"/>
            <a:ext cx="7777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limita la responsabilidad del titular constituyente, no de la empresa, ya que esta responde ilimitadamente con todos los bienes de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Agosto 30, 2007"/>
          <p:cNvPicPr/>
          <p:nvPr/>
        </p:nvPicPr>
        <p:blipFill>
          <a:blip r:embed="rId2"/>
          <a:stretch/>
        </p:blipFill>
        <p:spPr>
          <a:xfrm>
            <a:off x="3564000" y="3500280"/>
            <a:ext cx="150804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25360"/>
            <a:ext cx="777744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TIT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titular de la empresa responde con su patrimonio propio sólo del pago efectivo del aporte que se hubiese comprometido a realizar en conformidad al acto constit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SE ENCUENTRA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19700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EMPRESAS INDIVIDUALES DE RESPONSABILIDAD LIMIT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DISTINTO AL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TIT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RESPONDE SÓ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HASTA EL A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19760"/>
            <a:ext cx="73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atrimonio del titular no se verá afectado,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salvo el caso ya estudiado de las omisiones y los casos del Art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25360"/>
            <a:ext cx="777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rtículo 12.- El titular responderá ilimitadamente con sus bienes, en los siguientes casos: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) Por los actos y contratos efectuados fuera del objeto de la empresa, para pagar las obligaciones que emanen de esos actos y contratos;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b) Por los actos y contratos que se ejecutaren sin el nombre o representación de la empresa, para cumplir las obligaciones que emanen de tales actos y contr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25360"/>
            <a:ext cx="77774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) Si la empresa celebrare actos y contratos simulados, ocultare sus bienes o reconociere deudas supuestas, aunque de ello no se siga perjuicio inmedi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) Si el titular percibiere rentas de la empresa que no guarden relación con la importancia de su giro, o efectuare retiros que no correspondieren a utilidades líquidas y realizables que pueda percibir, 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) Si la empresa fuere declarada en quiebra culpable o fraudul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NOMIN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Art. 4 letra b de la Ley entrega dos posibilidades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y apellido del titular más el giro y 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de Fantasía, más alusión al giro de la empresa y</a:t>
            </a: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981000"/>
            <a:ext cx="777708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dministración de la empresa corresponde al titular, quien la representa judicial y extrajudicialmente con todas las facultades de administración y dis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981000"/>
            <a:ext cx="777708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titular o su mandatario pueden designar un gerente general que tendrá las facultades que se expresen en la escritura pública en que lo des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ESCRITURA PÚBLICA DEBE INSCRIBIRSE EN EL REGISTRO DE COMERCIO Y SUBINSCRIBIRSE AL MARGEN DE LA INSCRIPCIÓN ESTAT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3605400" y="360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n perjuicio de esta facultad de designar gerente general podrá conferir MANDATOS GENERALES O ESPECIALES para actuar a nombre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(Iguales requisitos que el caso anteri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80000" y="3789360"/>
            <a:ext cx="158400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entiende por contratos relacionados, los actos y contratos que el titular de la empresa individual celebre con su patrimoni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n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mprometido en la empresa, por una parte, y con el patrimonio de la empresa, por la otra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ESTABLECE REQUISITOS PARA ESTE TIPO DE CONTRATOS  O ACTOS .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605400" y="4034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981000"/>
            <a:ext cx="7777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berá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constar por escrito y protocolizars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ante notario públ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anotarán al margen de la inscripción estatutaria dentro del plazo de 60 dí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ntados desde su otor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ANCIÓN- NUL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08080"/>
                </a:solidFill>
                <a:latin typeface="Verdana"/>
              </a:rPr>
              <a:t>CON ESTO SE BUSCA REGULAR LA AUTOCONTRA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3605400" y="453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981000"/>
            <a:ext cx="7777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UTILIDADES LÍQUIDAS pertenecen al titular de la empresa y, una vez que se hubieren retirado por este no habrá acción contra ellas por obligaciones de la EIR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33cc"/>
                </a:solidFill>
                <a:latin typeface="Verdana"/>
              </a:rPr>
              <a:t>¿En qué casos habrá responsabilidad?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292640"/>
            <a:ext cx="2159280" cy="154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EMPRESAS INDIVIDUALES DE RESPONSABILIDAD LIMITADA (EIRL) son bastante rec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ntecedentes e importancia de su c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857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11 de febrero de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981000"/>
            <a:ext cx="7777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elebración de actos y contratos simulados, ocultar bi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cepción de rentas fuera del gir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claración de quiebra culpable o fraudulenta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EMPRESARIO EN TODOS ESTOS CASOS RESPONDE CON SU PATRIMONIO   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Verdana"/>
              </a:rPr>
              <a:t>RESPONSABILIDAD  PERSONAL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(Art. 12)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941720"/>
            <a:ext cx="719280" cy="270000"/>
          </a:xfrm>
          <a:prstGeom prst="rightArrow">
            <a:avLst>
              <a:gd name="adj1" fmla="val 60139"/>
              <a:gd name="adj2" fmla="val 71163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drán transformarse otras sociedades en EIR cuando se produzca la reunión en manos de una sola persona, de las acciones, derechos o participaciones en el capital, de cualquier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iempre qu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cumpla con las formalidades de constitución de la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escritura pública respectiva, en la que deberá constar la transformación y la individualización de la sociedad que se transforma, deberá extenderse dentro de los treinta días siguientes a la fecha en que dicha reunión se produz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extracto correspondiente deberá inscribirse y publicarse dentro de 60 d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¿Puede una EIRL transformarse en otro tipo de socie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Una empresa individual de responsabilidad limitada podrá transformarse en una sociedad de cualquier tipo, cumpliendo los requisitos y formalidades que establece el estatuto jurídico de la sociedad en la cual se transforma. (Art.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19640" y="5084640"/>
            <a:ext cx="1800360" cy="119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 rot="5400000">
            <a:off x="3555360" y="2358360"/>
            <a:ext cx="790560" cy="341280"/>
          </a:xfrm>
          <a:prstGeom prst="rightArrow">
            <a:avLst>
              <a:gd name="adj1" fmla="val 50000"/>
              <a:gd name="adj2" fmla="val 57911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ÉRMINO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981000"/>
            <a:ext cx="777708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ausales de término las establece el Art. 15 de la Ley, entre ellas destac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 Por voluntad del empr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2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_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Por la llegada del plazo previsto en el acto constit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Por la muerte del tit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causales de terminación se establecen tanto en favor del empresario como de sus acree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7777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Una empresa individual de responsabilidad limitada es una persona jurídica con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opio distinto al del titu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Ley 19.857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utoriza a toda persona natural el establecimiento de empresas individuales de responsabilidad limitad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marketing viral comercio elctronico"/>
          <p:cNvPicPr/>
          <p:nvPr/>
        </p:nvPicPr>
        <p:blipFill>
          <a:blip r:embed="rId2"/>
          <a:stretch/>
        </p:blipFill>
        <p:spPr>
          <a:xfrm>
            <a:off x="5003640" y="4508640"/>
            <a:ext cx="2303640" cy="190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ículo 2 de la L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empresa individual de responsabilidad limitada es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 con patrimonio propio distinto al del titular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comercial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y está sometida al Código de Comercio cualquiera que sea su objeto; podrá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a clase de operaciones civiles y comerciales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xcepto las reservadas por la ley a las sociedades anó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836640"/>
            <a:ext cx="7777080" cy="64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rsonalidad Jurídica con patrimonio          pro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á sometida al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Comerci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ualquiera sea su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o tipo de operacion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salvo aquellas reservadas por ley a las Sociedades Anóni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836640"/>
            <a:ext cx="77770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limitar la responsabilidad del empresario en actividades de su giro. La responsabilidad de la EIRL está limitada al monto de su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o se requiere otro s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emprender actividades empresariales de giros distintos con RUT y contabilidad sepa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 (ART.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ONES DE LA ESCRITURA (ART.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)  Individualización completa del constituyente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  El nombre de la empresa, más giro de la empresa, más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)  El monto del capital que se transfiere a la empresa (dinero o bien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8:38Z</dcterms:modified>
  <cp:revision>93</cp:revision>
  <dc:subject/>
  <dc:title>Diapositiva 1</dc:title>
</cp:coreProperties>
</file>