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0C7-A30A-4D24-A485-F75E14A3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572-EE7A-4813-AE9F-EDFBE847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6B1-746C-4987-B528-744E06B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0A4-99C0-4338-AC6D-4F4D8A03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6A3-15E9-4BB0-A752-7A063FD5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358-298B-48BA-BCDF-3409DC5E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CFD-6E17-4BAE-968D-9CD44A15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DC5-8FC0-435D-B4C3-FFADFD8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BE9-A692-4045-85CF-AD5EC70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BE3-1CEA-404E-BD31-7F5DF85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638-0EC8-4BAD-91C0-EA3C328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493-410F-458F-9882-2701BFD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841A-663F-44F1-BEE8-0F5D9B65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820000" cy="59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 (Art. 57 LSA)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Enajenación total del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Otorgamiento de garantías reales o personales por         obligaciones de terc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765000"/>
            <a:ext cx="84978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Modificación del plaz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olución antic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Cambio de domicilio so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Disminución del capital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792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29852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”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71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 aporte de capital en las sociedades anónimas sólo puede ser en dinero efectivo o en otros bienes, muebles o inmuebles (Art. 15 L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78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”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están prohibidas las acciones de industria y organización (Art. 13 L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826920"/>
            <a:ext cx="84981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”. (Art. 3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2:31Z</dcterms:modified>
  <cp:revision>113</cp:revision>
  <dc:subject/>
  <dc:title>Diapositiva 1</dc:title>
</cp:coreProperties>
</file>