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316-F508-4035-B5E2-0962DC93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727-C055-4F02-91EA-321CF6F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DC0-74A5-4B97-86B0-2A3C2AEF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448-460D-4FDD-BCC1-CCC61BB9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1F9-BDB7-4278-9924-005043C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020-A3BA-4B32-AF26-55AE40EB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9BD-06AE-4C96-BD12-5BFC0465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FB8-3487-4940-A5AE-7EE28DA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667-35E4-4D8A-93D8-A15187DA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686-5B32-4EDE-B67C-4AA76F1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39C-8141-40AA-868B-83E9CB3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09A-3AAB-4E8D-810D-84EA59A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D7AB-3513-4405-8135-C57046C20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4797360"/>
            <a:ext cx="7345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SOCIE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DOMINIO ADMINISTRACIO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052640"/>
            <a:ext cx="849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s decisiones más significativas las adoptan los accionistas reunidos en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juntas de accionistas pueden ser ordinarias y extraordinarias.   (Art. 55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ordinaria se celebra una vez al año en la época fijada en los estatutos para examinar la situación de la sociedad, los informes de los fiscalizadores y pronunciarse sobre memoria, balance y resultados.  (Art. 56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misma oportunidad, se aprueba la distribución de utilidades y el reparto de dividendos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inalmente, se elige cuando proceda a los directores, liquidadores y fiscalizadores de la sociedad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extraordinaria se celebra en cualquier tiempo que lo exijan las necesidades sociales.  (Art. 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820000" cy="59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materias que debe tratar la junta extraordinaria, son todas resoluciones sobre asuntos que no están en el giro ordinario de la sociedad (Art. 57 LSA)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sión o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forma esta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misión de bonos o debentures, convertibles en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ajenación del activo fijo y pasivo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Enajenación total del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Otorgamiento de garantías reales o personales por         obligaciones de terc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765000"/>
            <a:ext cx="84978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acuerdos en la junta de accionistas se adoptan por mayoría absoluta de las acciones emitidas con derecho a voto.  (Art. 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iertas materias especiales requieren 2/3 de las acciones emitidas con derecho a voto.  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sión y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Modificación del plaz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Disolución antic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Cambio de domicilio so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Disminución del capital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fiscalización se ejerce por regla general por los propios s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n perjuicio, dentro del principio de la autonomía de la voluntad, podría acordarse una forma de fiscalización disti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la fiscalización se ejerce a través de auditores externos o inspectores de cuenta que debe designar la junta ordinaria de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fiscalizadores deben revisar los libros de la sociedad e imponerse en detalle de todos los negocios y de los principios de contabilidad que se han utilizado para confeccionar el balance.  (Activos y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n entregar anualmente un informe de su fiscalización tanto al directorio como a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e informe deberá quedar a disposición de los accionistas durante los 15 días anteriores a la junta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erecho de dominio lo tienen en las sociedades las personas que la integran como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éstas están integradas por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socio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quienes son dueños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derech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sociedad.  El derecho corresponde al interés o cuota de participación que cada socio tiene en esa persona juríd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e derecho nace del aporte de capital que hace el soci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792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29852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aporte de capital en las sociedades de personas puede hacerse en dinero, en crédito o cualquiera otra clase de bienes, muebles o inmuebles (Art. 352 Nº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ser objetos de aporte dinero, créditos, muebles e inmuebles, mercedes, privilegios de invención, trabajo manual, la mera industria y cualquier cosa comerciables capaz de prestar alguna utilidad”.  (Art. 37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713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n las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es anónimas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 las personas que la integran se denominan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cionistas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Los accionistas son dueños de su título de inversión que se denomina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ción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ste derecho nace del aporte de capital que hace el accionista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l aporte de capital en las sociedades anónimas sólo puede ser en dinero efectivo o en otros bienes, muebles o inmuebles (Art. 15 L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Por regla general (salvo acuerdo unánime de las acciones), los aportes que no sean dineros deben ser tasados por peritos y en caso de aumento de capital, aprobados por la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878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administración corresponde por regla general a todos los socios, Arts. 365, 366, 367, 368, 369, 3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dministración corresponde de derecho a todos y cada uno de los socios y éstos pueden desempeñarla por sí mismos, o por sus delegados, sean socios o extraños”.  (Art. 3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están prohibidas las acciones de industria y organización (Art. 13 L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826920"/>
            <a:ext cx="84981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ando en el contrato social no se designa administración, se entiende que todos los socios se confieren recíprocamente la facultad de administrar”. (Art. 3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legada la facultad de administrar en uno o más socios, los demás quedan inhibidos de administrar.  (Art. 3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ando no hay delegados, y existen diferencias de opiniones entre los socios, el acuerdo de la mayoría obliga a la minoría siempre que recaiga sobre actos de simple administración o materias comprendidas en el giro social.  (Art. 3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 administración la ejerce un directorio elegido por la junta de accionistas.  (Art. 31,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funciones de director no son delegables y se ejercen colectivamente en sala legalmente constituid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da director tiene derecho a ser informado plena y directamente por el gerente de todo lo relacionado con la marcha de la empres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legidos por un grupo o clase de acciones tienen los mismos deberes para con la sociedad y los demás accionistas que los directores restantes, no pudiendo faltar a éstos o a aquella, a pretexto de defender los intereses de quienes los eligieron.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irectorio de una sociedad la representa judicial y extrajudicialmente y para el cumplimiento del objeto está investida de todas las facultades de administración que no sean privativas de la junta de accionistas.  (Art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sujetos a los deberes de actuar de buena fe, con prudencia y lealtad para con la sociedad, no pudiendo adoptar decisiones que no tengan por fin el interés social sino que sus propios intereses o los de terceros relacionados.  (Art. 4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obligados a guardar reserva respecto de los negocios de la sociedad que no hayan sido divulgados oficialmente.  (Art. 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27T02:12:31Z</dcterms:modified>
  <cp:revision>113</cp:revision>
  <dc:subject/>
  <dc:title>Diapositiva 1</dc:title>
</cp:coreProperties>
</file>