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53D-B35E-48D5-9309-271D5259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ED9-C31C-4F1C-8358-4FE1B52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1E9-F73F-43D6-B325-E280A58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6FE-FE31-4431-A61C-5BB6FFB0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D69-51D0-499E-8B59-82F2CACB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540-41EC-4E37-8F86-95959C09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95F-6A89-43D8-963A-A9842F2A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2C7-6D45-4818-8F4C-E9980A4D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AD3-8A3C-4C2B-9AD3-30004E4C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E74-BA6E-45F3-A835-7C56FD0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CCC-A03F-4BDA-A380-2938C76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23A-F63A-4455-829B-DD71D71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208A-7CAC-46D3-922D-243854FB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820000" cy="59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 (Art. 57 LSA)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Enajenación total del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Otorgamiento de garantías reales o personales por         obligaciones de terc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765000"/>
            <a:ext cx="84978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Modificación del plaz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olución antic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Cambio de domicilio so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minución del capital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792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29852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”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71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 aporte de capital en las sociedades anónimas sólo puede ser en dinero efectivo o en otros bienes, muebles o inmuebles (Art. 15 L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78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”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están prohibidas las acciones de industria y organización (Art. 13 L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826920"/>
            <a:ext cx="84981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”. (Art. 3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2:31Z</dcterms:modified>
  <cp:revision>113</cp:revision>
  <dc:subject/>
  <dc:title>Diapositiva 1</dc:title>
</cp:coreProperties>
</file>