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F0A7-EE8D-40EA-877C-B9A279F6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324C-4D34-4CA9-8A08-5567156C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DC03-0094-4E85-800F-0F1D1064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7C4E-B717-4125-87D9-A54F64D7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408C-661E-45B2-81E7-24482D95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668B-81D5-4AA7-A0AA-8D6C3ACE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A363-6DA3-47EA-B96E-A8146538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F5E-1115-4D74-8BE1-DD60DC2A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612E-2481-48FC-B9E0-6313518D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3A37-C1F7-486E-985D-56BDA4A2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3812-2A60-4DB1-BBD4-BE1007FD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3C24-6E11-44DA-A973-F5FBBB1A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6721-33CD-4F23-B4AC-6D5876886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EDAD ANO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30040" y="9810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115920"/>
            <a:ext cx="813744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ELEMENTOS NO ESENCIALES (Artículo 4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4) La duración de la socie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7) La fecha en que debe cerrarse el ejercici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nfeccionarse el balance y la época en que de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elebrarse la junta ordinaria de accionist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8) La forma de distribución de las utilidad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9) La forma en que debe hacerse la liquidació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0) La naturaleza del arbitra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1) La designación de los integrantes 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irectorio provisorio y de los auditores extern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2) Los demás pactos que acordaren los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24000" y="1413000"/>
          <a:ext cx="8028000" cy="4192560"/>
        </p:xfrm>
        <a:graphic>
          <a:graphicData uri="http://schemas.openxmlformats.org/drawingml/2006/table">
            <a:tbl>
              <a:tblPr/>
              <a:tblGrid>
                <a:gridCol w="2952720"/>
                <a:gridCol w="507528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ANONIM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GU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Ley de Sociedades Anónimas Nº 18.046. y Ley de Mercado de Valores Nº 18.04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NOM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El que se decida, terminado en Sociedad Anónima o S.A. (Artículo 4 Nº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DMINIS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rresponde a un órganos colegiado llamada Directorio, separado de las Propiedad de la Socieda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8366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2205000"/>
            <a:ext cx="2376360" cy="107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atrimon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08720" y="2060640"/>
            <a:ext cx="2592360" cy="158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ocios respon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con su patrimon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LILIMITADAME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HAS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EL MONT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US APOR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3678480" y="3890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49197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E ENCUENTRA LIMITADA LA 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DMINISTRACION DE LA SOCIEDAD ANON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1484280"/>
            <a:ext cx="28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44720" y="1413000"/>
            <a:ext cx="72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273320"/>
            <a:ext cx="84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</a:rPr>
              <a:t>Asamblea o junta general de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s la conformada por los accionistas de la sociedad, que se reunen para la adopción de decisiones de importancia sobre la sociedad Anó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Clases de juntas: Artículo 55 Ley 18.04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</a:rPr>
              <a:t>Junta ordinaria de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xaminan la situación de la sociedad, aprueban los balances, distribuyen las utilidades de cada ejercici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0040" y="1125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CITACION A JUNTA ORDINARIA DE ACCI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-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be hacerse mediante aviso destacado publicado al menos 3 veces en vías difer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 La publicación de los avisos debe realizarse dentro de los 20 días anteriores a la junta. Y el primer aviso debe publicarse con no menos de 15 días de anticipación a la ju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680" y="1052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432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El DIREC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3640" y="1553760"/>
            <a:ext cx="8134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-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Órgano colegiado elegido por la junta de accionistas, según lo dispone el artículo 31 Ley 18.046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e establece en los estatutos un número invariable de directores, el directorio puede tener una duración máxima de 3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ociedad anónima cerrada: No menos de 3 direct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ociedad anónima abierta: No menos de 5 direct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1680" y="1125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CARACTERISTICAS DEL DIR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401840"/>
            <a:ext cx="805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on mandatarios revocables, el directorio sólo podrá ser revocado en su totalidad por la junta de accionistas, artículo 38 Ley 18.04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da periodo dura entre 1 y 3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Las funciones del director no son delegables y se ejercen colectivamente, en sala legalmente constituida. Artículo 39 Ley 18.04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elegibles indefinidamente, artículo 31 Ley 18.04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l número de directores es variable, pero debe quedar estipulado en el estatuto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0040" y="1052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1760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FACULTADES DEL DIREC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1342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presentación judicial y extrajudicial de la socie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osee todas las facultades de administración y disposición necesarias para que la sociedad lleve a cabo sus funciones, salvo aquellas que son exclusivas de la junta de accioni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ombramiento del ger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ueden delegar algunas funciones en el gerente, sub-gerente; director o comisión de directores; abog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4760" y="1052640"/>
            <a:ext cx="69339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RESPONSABILIDAD DEL DIREC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or regla general responde por culpa leve, para sus obligaciones de diligencia deb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ponde solidariamente por los perjuicios ocasionados a la Sociedad y a los accionistas por sus actuaciones dolosas o culp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e sanciona con nulidad cualquier acuerdo estatutario que limite estas oblig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4760" y="1052640"/>
            <a:ext cx="69339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EL GER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La sociedad anónima puede tener uno o más gerentes, designados por el direc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Le corresponderá al gerente la representación judicial de la sociedad, estando legalmente investido de las facultades de ambos incisos del artículo 7, C.P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iene derecho a voz en las reuniones de direc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l cargo de gerente es incompatible con el de presidente, auditor o contador de la sociedad, y para el caso de las sociedades anónimas abiertas, también será incompatible con el de dir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040" y="9810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DEFINI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55736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rt. 1°(LSA) “La sociedad anónima es una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jurídica formada por la reunión de un fondo común, suministrado por accionistas responsables sólo por sus respectivos aportes y administrada por un directorio integrado por miembros esencialmente revocabl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ARACTERISTICAS</a:t>
            </a: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052640"/>
            <a:ext cx="8569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1) Es una persona juríd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2) Sus accionistas aportan dinero o bienes estimados en din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3) Persigue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4) Las perdidas son soportadas por el fondo constituido por los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5) Los derechos de los socios están representados por acciones que constan en un tít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6) Es siempre comer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7) Es solemne, tanto en su formación, modificación y di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8) La responsabilidad de los accionistas es hasta el monto del aporte realizado a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981000"/>
            <a:ext cx="8569080" cy="59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Comic Sans MS"/>
              </a:rPr>
              <a:t>- Sociedad anónima general y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Comic Sans MS"/>
              </a:rPr>
              <a:t>Sociedad anónima abierta (Art.2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Comic Sans MS"/>
              </a:rPr>
              <a:t>1) Aquellas que tienen 500 o más accionista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Comic Sans MS"/>
              </a:rPr>
              <a:t>2) Aquellas en las que, a lo menos, el 10% de su capital suscrito pertenece a un mínimo de 100 accionistas, excluidos los que individualmente, o a través de otras personas naturales o jurídicas, excedan dicho porcentaje, 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Comic Sans MS"/>
              </a:rPr>
              <a:t>3) Aquéllas que inscriban voluntariamente sus acciones en el Registro de Valor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Comic Sans MS"/>
              </a:rPr>
              <a:t>Son sociedades anónimas cerradas las no comprendidas en el inciso anteri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549360"/>
            <a:ext cx="8640720" cy="62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 SA se forma,  prueba y existe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.- Escritura 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.- Inscripción de un extracto de la escritura social autorizado ante notario; en el registro de comercio correspondiente al domicilio de la socie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3.- Publicación en el Diario Oficial por una sola vez. Inscripción y publicación deberán efectuarse dentro del plazo de 60 días contados desde la fecha de la escritura social art. 3º Ley 1804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3004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NTENIDO (ARTICULO 4º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907920"/>
            <a:ext cx="864072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ESEN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El nombre, profesión y domicilio de los accionist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El nombre y domicilio de la socieda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3)  La enunciación del o de los objetos específicos de la socieda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4) El capital de la sociedad, la forma y plazos en que los 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accionistas deben pagar su aporte, y la indicación y 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valoración de todo aporte que no consista en diner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86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EL CAPI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1553760"/>
            <a:ext cx="85690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s diferente al patrimo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e determina en dinero o bienes avalu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incipio de efectividad del capi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incipio de conservación del capi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xcep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pital Nom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pital Suscr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pital Pag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8760" y="1125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Comic Sans MS"/>
              </a:rPr>
              <a:t>Las accio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35164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Es un titulo representativo de una parte alícuota del capital social y que representa derechos políticos y económicos respecto de la sociedad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-Esencialmente enajenable (Libre cesibilida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- Ordinarias, prefer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040" y="1341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Comic Sans MS"/>
              </a:rPr>
              <a:t>Las accio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1342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 acción otorga tres derechos princip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Comic Sans MS"/>
              </a:rPr>
              <a:t>Participar con voz y voto en las juntas de accioni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rticipar en la distribución de las ganancias y las perdidas durante la existencia de la sociedad y al momento de su liquid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ibre cesibilidad de las acciones / diferencia con sociedades de person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0040" y="1341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0-27T02:15:19Z</dcterms:modified>
  <cp:revision>95</cp:revision>
  <dc:subject/>
  <dc:title>Diapositiva 1</dc:title>
</cp:coreProperties>
</file>