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50207-5DE3-48F0-8001-1766B9814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F2B01-ABB2-4BD4-8458-C3F4663F3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EF4B8-204C-44DD-BA05-4BEAEAE57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7B691-D806-4E8D-83A0-CDB3AEEFD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132E1-7253-437E-8A11-A34952F7C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27DDF-B3E6-44FA-8A8F-C73CD9DC1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F3F93-5527-4463-BEAB-230D912AC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833EC-AF00-4879-9225-A23958F78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EFFF6-1B43-494C-AC41-6982670C9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B4DE1-CD1D-49E2-AFC6-FC17A4616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5FBDE-3032-4D70-9B60-DB2AEE3D3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FAC0C-DA6D-490A-A82B-FD2FDAB7D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9791B-74F9-4F69-AF01-A3C6A121D2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66720" y="241200"/>
            <a:ext cx="45471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Universidad de Chi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Facultad de Derech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Derecho Comercia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Profesor Sr. José Luis López Blan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619280" y="1844640"/>
            <a:ext cx="6016680" cy="2840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3" name=""/>
          <p:cNvGraphicFramePr/>
          <p:nvPr/>
        </p:nvGraphicFramePr>
        <p:xfrm>
          <a:off x="304920" y="304920"/>
          <a:ext cx="698400" cy="1371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920" y="304920"/>
                    <a:ext cx="698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"/>
          <p:cNvSpPr/>
          <p:nvPr/>
        </p:nvSpPr>
        <p:spPr>
          <a:xfrm>
            <a:off x="900000" y="4941720"/>
            <a:ext cx="73454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DERECHO  COMERCIAL 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SOCIEDAD ANONIM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230040" y="9810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4000" y="1125360"/>
            <a:ext cx="777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50920" y="115920"/>
            <a:ext cx="8137440" cy="58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0792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0792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cc"/>
                </a:solidFill>
                <a:latin typeface="Comic Sans MS"/>
              </a:rPr>
              <a:t>ELEMENTOS NO ESENCIALES (Artículo 4º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0792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0792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0792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0792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4) La duración de la socied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0792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7) La fecha en que debe cerrarse el ejercicio 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0792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confeccionarse el balance y la época en que de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0792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celebrarse la junta ordinaria de accionista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0792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8) La forma de distribución de las utilidade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0792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9) La forma en que debe hacerse la liquidación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0792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10) La naturaleza del arbitraj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0792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11) La designación de los integrantes de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0792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directorio provisorio y de los auditores externo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0792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12) Los demás pactos que acordaren los accionist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0792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CUADRO RESUM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95280" y="981000"/>
            <a:ext cx="7777080" cy="13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Comic Sans MS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324000" y="1413000"/>
          <a:ext cx="8028000" cy="4192560"/>
        </p:xfrm>
        <a:graphic>
          <a:graphicData uri="http://schemas.openxmlformats.org/drawingml/2006/table">
            <a:tbl>
              <a:tblPr/>
              <a:tblGrid>
                <a:gridCol w="2952720"/>
                <a:gridCol w="5075280"/>
              </a:tblGrid>
              <a:tr h="712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30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ASPECTOS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30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SOCIEDAD ANONIMA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44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0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REGULA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Ley de Sociedades Anónimas Nº 18.046. y Ley de Mercado de Valores Nº 18.045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44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0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NOMB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El que se decida, terminado en Sociedad Anónima o S.A. (Artículo 4 Nº 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0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0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ADMINISTRA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Corresponde a un órganos colegiado llamada Directorio, separado de las Propiedad de la Sociedad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" dur="5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95280" y="836640"/>
            <a:ext cx="7777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55640" y="2205000"/>
            <a:ext cx="2376360" cy="10796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Patrimoni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de la socie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508720" y="2060640"/>
            <a:ext cx="2592360" cy="15843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333cc"/>
                </a:solidFill>
                <a:latin typeface="Verdana"/>
              </a:rPr>
              <a:t>Socios responde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333cc"/>
                </a:solidFill>
                <a:latin typeface="Verdana"/>
              </a:rPr>
              <a:t>con su patrimoni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333cc"/>
                </a:solidFill>
                <a:latin typeface="Verdana"/>
              </a:rPr>
              <a:t>LILIMITADAMENT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333cc"/>
                </a:solidFill>
                <a:latin typeface="Verdana"/>
              </a:rPr>
              <a:t>HAST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333cc"/>
                </a:solidFill>
                <a:latin typeface="Verdana"/>
              </a:rPr>
              <a:t>EL MONTO D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333cc"/>
                </a:solidFill>
                <a:latin typeface="Verdana"/>
              </a:rPr>
              <a:t>SUS APORT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780000" y="256536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0000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5400000">
            <a:off x="3678480" y="389016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0000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900000" y="4919760"/>
            <a:ext cx="73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Verdana"/>
              </a:rPr>
              <a:t>SE ENCUENTRA LIMITADA LA  RESPONSABIL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" dur="2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ADMINISTRACION DE LA SOCIEDAD ANONI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00000" y="1484280"/>
            <a:ext cx="2808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044720" y="1413000"/>
            <a:ext cx="727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1273320"/>
            <a:ext cx="8497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3333cc"/>
                </a:solidFill>
                <a:uFillTx/>
                <a:latin typeface="Comic Sans MS"/>
              </a:rPr>
              <a:t>Asamblea o junta general de accionist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Es la conformada por los accionistas de la sociedad, que se reunen para la adopción de decisiones de importancia sobre la sociedad Anónim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- Clases de juntas: Artículo 55 Ley 18.046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3333cc"/>
                </a:solidFill>
                <a:uFillTx/>
                <a:latin typeface="Comic Sans MS"/>
              </a:rPr>
              <a:t>Junta ordinaria de accionist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Examinan la situación de la sociedad, aprueban los balances, distribuyen las utilidades de cada ejercicio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30040" y="112536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124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Comic Sans MS"/>
              </a:rPr>
              <a:t>CITACION A JUNTA ORDINARIA DE ACCIONIS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94920" y="1700280"/>
            <a:ext cx="80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Verdana"/>
              </a:rPr>
              <a:t>- 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Debe hacerse mediante aviso destacado publicado al menos 3 veces en vías diferent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- La publicación de los avisos debe realizarse dentro de los 20 días anteriores a la junta. Y el primer aviso debe publicarse con no menos de 15 días de anticipación a la junt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5680" y="105264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84320" y="198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Comic Sans MS"/>
              </a:rPr>
              <a:t>     </a:t>
            </a:r>
            <a:r>
              <a:rPr b="1" lang="es-ES_tradnl" sz="2400" spc="-1" strike="noStrike">
                <a:solidFill>
                  <a:srgbClr val="3333cc"/>
                </a:solidFill>
                <a:latin typeface="Comic Sans MS"/>
              </a:rPr>
              <a:t>El DIRECTORI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23640" y="1553760"/>
            <a:ext cx="81342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Verdana"/>
              </a:rPr>
              <a:t>- </a:t>
            </a:r>
            <a:r>
              <a:rPr b="0" lang="es-ES_tradnl" sz="3200" spc="-1" strike="noStrike">
                <a:solidFill>
                  <a:srgbClr val="3333cc"/>
                </a:solidFill>
                <a:latin typeface="Comic Sans MS"/>
              </a:rPr>
              <a:t>Órgano colegiado elegido por la junta de accionistas, según lo dispone el artículo 31 Ley 18.046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3333cc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cc"/>
                </a:solidFill>
                <a:latin typeface="Comic Sans MS"/>
              </a:rPr>
              <a:t>Se establece en los estatutos un número invariable de directores, el directorio puede tener una duración máxima de 3 añ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3333cc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cc"/>
                </a:solidFill>
                <a:latin typeface="Comic Sans MS"/>
              </a:rPr>
              <a:t>Sociedad anónima cerrada: No menos de 3 director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3333cc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cc"/>
                </a:solidFill>
                <a:latin typeface="Comic Sans MS"/>
              </a:rPr>
              <a:t>Sociedad anónima abierta: No menos de 5 director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01680" y="112536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s-ES_tradnl" sz="2400" spc="-1" strike="noStrike">
                <a:solidFill>
                  <a:srgbClr val="3333cc"/>
                </a:solidFill>
                <a:latin typeface="Comic Sans MS"/>
              </a:rPr>
              <a:t>CARACTERISTICAS DEL DIRECT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24000" y="1401840"/>
            <a:ext cx="8059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Son mandatarios revocables, el directorio sólo podrá ser revocado en su totalidad por la junta de accionistas, artículo 38 Ley 18.046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Cada periodo dura entre 1 y 3 añ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Las funciones del director no son delegables y se ejercen colectivamente, en sala legalmente constituida. Artículo 39 Ley 18.046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Reelegibles indefinidamente, artículo 31 Ley 18.046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El número de directores es variable, pero debe quedar estipulado en el estatuto soci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30040" y="105264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-17604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Comic Sans MS"/>
              </a:rPr>
              <a:t>FACULTADES DEL DIRECTO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23640" y="1413000"/>
            <a:ext cx="813420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Representación judicial y extrajudicial de la socied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Posee todas las facultades de administración y disposición necesarias para que la sociedad lleve a cabo sus funciones, salvo aquellas que son exclusivas de la junta de accionist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Nombramiento del geren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Pueden delegar algunas funciones en el gerente, sub-gerente; director o comisión de directores; abog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4760" y="1052640"/>
            <a:ext cx="693396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Comic Sans MS"/>
              </a:rPr>
              <a:t>RESPONSABILIDAD DEL DIRECTORI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Por regla general responde por culpa leve, para sus obligaciones de diligencia debid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Responde solidariamente por los perjuicios ocasionados a la Sociedad y a los accionistas por sus actuaciones dolosas o culpab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Se sanciona con nulidad cualquier acuerdo estatutario que limite estas obligacion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74760" y="1052640"/>
            <a:ext cx="693396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436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Comic Sans MS"/>
              </a:rPr>
              <a:t>   </a:t>
            </a:r>
            <a:r>
              <a:rPr b="1" lang="es-ES_tradnl" sz="2400" spc="-1" strike="noStrike">
                <a:solidFill>
                  <a:srgbClr val="3333cc"/>
                </a:solidFill>
                <a:latin typeface="Comic Sans MS"/>
              </a:rPr>
              <a:t>EL GERE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23640" y="1341000"/>
            <a:ext cx="856908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La sociedad anónima puede tener uno o más gerentes, designados por el directori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Le corresponderá al gerente la representación judicial de la sociedad, estando legalmente investido de las facultades de ambos incisos del artículo 7, C.P.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Tiene derecho a voz en las reuniones de directori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El cargo de gerente es incompatible con el de presidente, auditor o contador de la sociedad, y para el caso de las sociedades anónimas abiertas, también será incompatible con el de direct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46040" y="9810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DEFINIC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39640" y="1125360"/>
            <a:ext cx="7777440" cy="9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1557360"/>
            <a:ext cx="84978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Art. 1°(LSA) “La sociedad anónima es una perso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jurídica formada por la reunión de un fondo común, suministrado por accionistas responsables sólo por sus respectivos aportes y administrada por un directorio integrado por miembros esencialmente revocables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CARACTERISTICAS</a:t>
            </a: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79280" y="1052640"/>
            <a:ext cx="856944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omic Sans MS"/>
              </a:rPr>
              <a:t>1) Es una persona jurídic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omic Sans MS"/>
              </a:rPr>
              <a:t>2) Sus accionistas aportan dinero o bienes estimados en diner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omic Sans MS"/>
              </a:rPr>
              <a:t>3) Persigue fines de lucr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omic Sans MS"/>
              </a:rPr>
              <a:t>4) Las perdidas son soportadas por el fondo constituido por los accionist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omic Sans MS"/>
              </a:rPr>
              <a:t>5) Los derechos de los socios están representados por acciones que constan en un títul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omic Sans MS"/>
              </a:rPr>
              <a:t>6) Es siempre comerci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omic Sans MS"/>
              </a:rPr>
              <a:t>7) Es solemne, tanto en su formación, modificación y disolu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omic Sans MS"/>
              </a:rPr>
              <a:t>8) La responsabilidad de los accionistas es hasta el monto del aporte realizado a la socied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83664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CLASIFICAC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24000" y="981000"/>
            <a:ext cx="8569080" cy="59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Comic Sans MS"/>
              </a:rPr>
              <a:t>- Sociedad anónima general y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Comic Sans MS"/>
              </a:rPr>
              <a:t>Sociedad anónima abierta (Art.2º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3333cc"/>
                </a:solidFill>
                <a:latin typeface="Comic Sans MS"/>
              </a:rPr>
              <a:t>1) Aquellas que tienen 500 o más accionistas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3333cc"/>
                </a:solidFill>
                <a:latin typeface="Comic Sans MS"/>
              </a:rPr>
              <a:t>2) Aquellas en las que, a lo menos, el 10% de su capital suscrito pertenece a un mínimo de 100 accionistas, excluidos los que individualmente, o a través de otras personas naturales o jurídicas, excedan dicho porcentaje, 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3333cc"/>
                </a:solidFill>
                <a:latin typeface="Comic Sans MS"/>
              </a:rPr>
              <a:t>3) Aquéllas que inscriban voluntariamente sus acciones en el Registro de Valores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3333cc"/>
                </a:solidFill>
                <a:latin typeface="Comic Sans MS"/>
              </a:rPr>
              <a:t>Son sociedades anónimas cerradas las no comprendidas en el inciso anterior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CONSTITUC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08000" y="549360"/>
            <a:ext cx="8640720" cy="626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cc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Verdana"/>
              </a:rPr>
              <a:t>    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La SA se forma,  prueba y existe po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1.- Escritura públic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2.- Inscripción de un extracto de la escritura social autorizado ante notario; en el registro de comercio correspondiente al domicilio de la socied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3.- Publicación en el Diario Oficial por una sola vez. Inscripción y publicación deberán efectuarse dentro del plazo de 60 días contados desde la fecha de la escritura social art. 3º Ley 18046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23004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58920" y="304920"/>
            <a:ext cx="666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Verdana"/>
              </a:rPr>
              <a:t>CONTENIDO (ARTICULO 4º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24000" y="1125360"/>
            <a:ext cx="777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24000" y="907920"/>
            <a:ext cx="8640720" cy="58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0792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0792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cc"/>
                </a:solidFill>
                <a:latin typeface="Comic Sans MS"/>
              </a:rPr>
              <a:t>ESENCIA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0792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Verdana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07920" indent="-457200">
              <a:lnSpc>
                <a:spcPct val="100000"/>
              </a:lnSpc>
              <a:buClr>
                <a:srgbClr val="3333cc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Comic Sans MS"/>
              </a:rPr>
              <a:t>El nombre, profesión y domicilio de los accionist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907920" indent="-457200">
              <a:lnSpc>
                <a:spcPct val="100000"/>
              </a:lnSpc>
              <a:buClr>
                <a:srgbClr val="3333cc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Comic Sans MS"/>
              </a:rPr>
              <a:t>El nombre y domicilio de la sociedad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90792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Comic Sans MS"/>
              </a:rPr>
              <a:t>3)  La enunciación del o de los objetos específicos de la sociedad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90792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Comic Sans MS"/>
              </a:rPr>
              <a:t>4) El capital de la sociedad, la forma y plazos en que los </a:t>
            </a:r>
            <a:r>
              <a:rPr b="0" lang="es-ES" sz="2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" sz="2800" spc="-1" strike="noStrike">
                <a:solidFill>
                  <a:srgbClr val="3333cc"/>
                </a:solidFill>
                <a:latin typeface="Comic Sans MS"/>
              </a:rPr>
              <a:t>accionistas deben pagar su aporte, y la indicación y </a:t>
            </a:r>
            <a:r>
              <a:rPr b="0" lang="es-ES" sz="2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" sz="2800" spc="-1" strike="noStrike">
                <a:solidFill>
                  <a:srgbClr val="3333cc"/>
                </a:solidFill>
                <a:latin typeface="Comic Sans MS"/>
              </a:rPr>
              <a:t>valoración de todo aporte que no consista en diner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90792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90792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286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cc"/>
                </a:solidFill>
                <a:latin typeface="Comic Sans MS"/>
              </a:rPr>
              <a:t>EL CAPIT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50560" y="1553760"/>
            <a:ext cx="856908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Es diferente al patrimoni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Se determina en dinero o bienes avaluad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Principio de efectividad del capit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Principio de conservación del capit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Excep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Capital Nomin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Capital Suscri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Capital Pag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58760" y="112536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9528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Comic Sans MS"/>
              </a:rPr>
              <a:t>Las accione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23640" y="1700280"/>
            <a:ext cx="835164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cc"/>
                </a:solidFill>
                <a:latin typeface="Comic Sans MS"/>
              </a:rPr>
              <a:t>“</a:t>
            </a:r>
            <a:r>
              <a:rPr b="0" lang="es-ES_tradnl" sz="3200" spc="-1" strike="noStrike">
                <a:solidFill>
                  <a:srgbClr val="3333cc"/>
                </a:solidFill>
                <a:latin typeface="Comic Sans MS"/>
              </a:rPr>
              <a:t>Es un titulo representativo de una parte alícuota del capital social y que representa derechos políticos y económicos respecto de la sociedad”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cc"/>
                </a:solidFill>
                <a:latin typeface="Comic Sans MS"/>
              </a:rPr>
              <a:t>-Esencialmente enajenable (Libre cesibilidad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cc"/>
                </a:solidFill>
                <a:latin typeface="Comic Sans MS"/>
              </a:rPr>
              <a:t>- Ordinarias, preferen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30040" y="134136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Comic Sans MS"/>
              </a:rPr>
              <a:t>Las accione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23640" y="1700280"/>
            <a:ext cx="813420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La acción otorga tres derechos principal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3333cc"/>
                </a:solidFill>
                <a:latin typeface="Comic Sans MS"/>
              </a:rPr>
              <a:t>Participar con voz y voto en las juntas de accionist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Participar en la distribución de las ganancias y las perdidas durante la existencia de la sociedad y al momento de su liquidac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Libre cesibilidad de las acciones / diferencia con sociedades de person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30040" y="134136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4T16:53:20Z</dcterms:created>
  <dc:creator>JLLB_</dc:creator>
  <dc:description/>
  <dc:language>en-US</dc:language>
  <cp:lastModifiedBy>Elizabeth</cp:lastModifiedBy>
  <dcterms:modified xsi:type="dcterms:W3CDTF">2008-10-27T02:15:19Z</dcterms:modified>
  <cp:revision>95</cp:revision>
  <dc:subject/>
  <dc:title>Diapositiva 1</dc:title>
</cp:coreProperties>
</file>