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BED-3C9E-44F5-93BD-D40004DD7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7994-4644-40BC-BACE-4DD434D2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B99F-0055-416F-B383-F32F8EA1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1F81-B074-4063-86F3-E45EEEDA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556-8467-4A64-A315-A62FF1CA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866-55F6-417B-8205-ECAFDFBD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77B-CEF1-4D08-AF93-28018D12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CDCF-C875-4226-9B8F-A64230F5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085-0B39-42C8-B258-2890EFBE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4214-BE7C-4BCA-8FC5-D35407AA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670-EB03-476A-88EF-E3D5B991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977-67CA-4C19-9804-9A40A862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B965-C733-46E8-8A13-9762627AC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 ANO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0040" y="9810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15920"/>
            <a:ext cx="813744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ELEMENTOS NO ESENCIALES (Artículo 4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4) La duración de la soc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7) La fecha en que debe cerrarse el ejercici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nfeccionarse el balance y la época en que de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elebrarse la junta ordinaria de accionist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8) La forma de distribución de las utilidad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9) La forma en que debe hacerse la liquidació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0) La naturaleza del arbitraj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1) La designación de los integrantes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irectorio provisorio y de los auditores extern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2) Los demás pactos que acordaren los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24000" y="1413000"/>
          <a:ext cx="8028000" cy="419256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ANONIMA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ey de Sociedades Anónimas Nº 18.046. y Ley de Mercado de Valores Nº 18.04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MB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El que se decida, terminado en Sociedad Anónima o S.A. (Artículo 4 Nº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un órganos colegiado llamada Directorio, separado de las Propiedad de la Socied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2060640"/>
            <a:ext cx="259236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cios respon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con su patrimon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LILIMITADAM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HA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EL MONT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US APOR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49197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ENCUENTRA LIMITADA LA 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DMINISTRACION DE LA SOCIEDAD ANO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148428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44720" y="141300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27332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</a:rPr>
              <a:t>Asamblea o junta general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 la conformada por los accionistas de la sociedad, que se reunen para la adopción de decisiones de importancia sobre la sociedad Anó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Clases de juntas: Artículo 55 Ley 18.0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Comic Sans MS"/>
              </a:rPr>
              <a:t>Junta ordinaria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xaminan la situación de la sociedad, aprueban los balances, distribuyen las utilidades de cada ejercici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0040" y="112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ITACION A JUNTA ORDINARIA DE ACC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-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be hacerse mediante aviso destacado publicado al menos 3 veces en vías difer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 La publicación de los avisos debe realizarse dentro de los 20 días anteriores a la junta. Y el primer aviso debe publicarse con no menos de 15 días de anticipación a la ju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5680" y="1052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432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El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3640" y="1553760"/>
            <a:ext cx="8134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Verdana"/>
              </a:rPr>
              <a:t>-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Órgano colegiado elegido por la junta de accionistas, según lo dispone el artículo 31 Ley 18.04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e establece en los estatutos un número invariable de directores, el directorio puede tener una duración máxima de 3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ociedad anónima cerrada: No menos de 3 direct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ociedad anónima abierta: No menos de 5 direct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1680" y="112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CARACTERISTICAS DEL DIR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401840"/>
            <a:ext cx="805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on mandatarios revocables, el directorio sólo podrá ser revocado en su totalidad por la junta de accionistas, artículo 38 Ley 18.0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da periodo dura entre 1 y 3 añ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Las funciones del director no son delegables y se ejercen colectivamente, en sala legalmente constituida. Artículo 39 Ley 18.0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elegibles indefinidamente, artículo 31 Ley 18.0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 número de directores es variable, pero debe quedar estipulado en el estatuto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040" y="1052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1760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FACULTADES DEL DIREC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1342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presentación judicial y extrajudicial de la soc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osee todas las facultades de administración y disposición necesarias para que la sociedad lleve a cabo sus funciones, salvo aquellas que son exclusivas de la junta de accion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ombramiento del ger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ueden delegar algunas funciones en el gerente, sub-gerente; director o comisión de directores; abo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4760" y="1052640"/>
            <a:ext cx="69339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RESPONSABILIDAD DEL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or regla general responde por culpa leve, para sus obligaciones de diligencia debi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ponde solidariamente por los perjuicios ocasionados a la Sociedad y a los accionistas por sus actuaciones dolosas o culp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e sanciona con nulidad cualquier acuerdo estatutario que limite estas oblig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4760" y="1052640"/>
            <a:ext cx="69339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EL GER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La sociedad anónima puede tener uno o más gerentes, designados por el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Le corresponderá al gerente la representación judicial de la sociedad, estando legalmente investido de las facultades de ambos incisos del artículo 7, C.P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ne derecho a voz en las reuniones de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 cargo de gerente es incompatible con el de presidente, auditor o contador de la sociedad, y para el caso de las sociedades anónimas abiertas, también será incompatible con el de dir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040" y="9810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FINI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557360"/>
            <a:ext cx="849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rt. 1°(LSA) “La sociedad anónima es una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jurídica formada por la reunión de un fondo común, suministrado por accionistas responsables sólo por sus respectivos aportes y administrada por un directorio integrado por miembros esencialmente revocabl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ARACTERISTICAS</a:t>
            </a: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052640"/>
            <a:ext cx="8569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1) Es una persona juríd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2) Sus accionistas aportan dinero o bienes estimados en din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3) Persigue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4) Las perdidas son soportadas por el fondo constituido por los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5) Los derechos de los socios están representados por acciones que constan en un títu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6) Es siempre comer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7) Es solemne, tanto en su formación, modificación y di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8) La responsabilidad de los accionistas es hasta el monto del aporte realizado a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981000"/>
            <a:ext cx="8569080" cy="59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Comic Sans MS"/>
              </a:rPr>
              <a:t>- Sociedad anónima general y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Comic Sans MS"/>
              </a:rPr>
              <a:t>Sociedad anónima abierta (Art.2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Comic Sans MS"/>
              </a:rPr>
              <a:t>1) Aquellas que tienen 500 o más accionista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Comic Sans MS"/>
              </a:rPr>
              <a:t>2) Aquellas en las que, a lo menos, el 10% de su capital suscrito pertenece a un mínimo de 100 accionistas, excluidos los que individualmente, o a través de otras personas naturales o jurídicas, excedan dicho porcentaje,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Comic Sans MS"/>
              </a:rPr>
              <a:t>3) Aquéllas que inscriban voluntariamente sus acciones en el Registro de Valor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33cc"/>
                </a:solidFill>
                <a:latin typeface="Comic Sans MS"/>
              </a:rPr>
              <a:t>Son sociedades anónimas cerradas las no comprendidas en el inciso anteri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549360"/>
            <a:ext cx="8640720" cy="62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SA se forma,  prueba y existe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.- Escritura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.- Inscripción de un extracto de la escritura social autorizado ante notario; en el registro de comercio correspondiente al domicilio de la soci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3.- Publicación en el Diario Oficial por una sola vez. Inscripción y publicación deberán efectuarse dentro del plazo de 60 días contados desde la fecha de la escritura social art. 3º Ley 1804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3004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CONTENIDO (ARTICULO 4º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12536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907920"/>
            <a:ext cx="864072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ESEN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El nombre, profesión y domicilio de los accionist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El nombre y domicilio de la socieda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3)  La enunciación del o de los objetos específicos de la socieda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4) El capital de la sociedad, la forma y plazos en que los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accionistas deben pagar su aporte, y la indicación y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valoración de todo aporte que no consista en diner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079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86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EL CA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553760"/>
            <a:ext cx="8569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s diferente al patrimon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e determina en dinero o bienes avalu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efectividad del ca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conservación del ca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xcep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pital Nom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pital Suscri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pital Pag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8760" y="1125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Comic Sans MS"/>
              </a:rPr>
              <a:t>Las accio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3516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Es un titulo representativo de una parte alícuota del capital social y que representa derechos políticos y económicos respecto de la sociedad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-Esencialmente enajenable (Libre cesibilida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- Ordinarias, prefer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040" y="1341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Comic Sans MS"/>
              </a:rPr>
              <a:t>Las accio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1342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a acción otorga tres derechos princip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Comic Sans MS"/>
              </a:rPr>
              <a:t>Participar con voz y voto en las juntas de accion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rticipar en la distribución de las ganancias y las perdidas durante la existencia de la sociedad y al momento de su liquid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Libre cesibilidad de las acciones / diferencia con sociedades de person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0040" y="134136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27T02:15:19Z</dcterms:modified>
  <cp:revision>95</cp:revision>
  <dc:subject/>
  <dc:title>Diapositiva 1</dc:title>
</cp:coreProperties>
</file>