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7FE-616E-4659-ADAA-494B82AC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467-FB32-42C8-A664-A30255CC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B19-4A37-4171-A900-012EE6A8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D5F-A320-410B-ADCF-A78A4C70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00C-961F-4E5A-A4D8-D745AA4B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2EE-45E9-4209-AA1D-8027563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673-1EE2-413A-BA19-347DAA3D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99A-8315-4D04-8EA9-D7EDF4F0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0CB-09F4-4321-B26D-811BD56E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692-0DBD-462E-8E47-6F58625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282-8C4F-4771-9429-D663A3B1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823-56F7-4D0F-A14F-61E7708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9964-2779-4E7E-A902-DD174614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VENIOS DE COOPERACION EMPRESA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836640"/>
            <a:ext cx="777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UERDOS DE ACTUACIÓN CON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la convención entre dos o más personas que participan simultáneamente en la propiedad de una sociedad, directamente o a través de otras personas naturales o jurídicas controladas, mediante la cual se comprometen a participar con idéntico interés en la gestión de la sociedad y obtener el control de la mi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 presume que existe tal acuerdo ent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Representantes y represe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Una persona, su cónyuge y parientes hasta un 2º 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Entidades pertenecientes a un mismo grupo empres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Una sociedad y su contro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69960"/>
            <a:ext cx="777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OINT VENTUR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1 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una reunión de fuerzas entre dos o más empresas del mismo o de diferentes países con la finalidad de realizar una o varias operaciones específicas: industrial, comercial, inversión, producción, comerci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un acuerdo de asociación entre dos o más personas naturales o jurídicas para llevar adelante una empresa particular, con fines de lucro, para el cual combinan propiedad, dinero, efectos, capacidades y conocimi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U.S. courts have defined a joint venture as an association of two or more persons ( whether corporate, individual, or otherwise ) combining property and expertise to carry out a single business enterprise and having a joint proprietary interest, a joint right to control, and a sharing of profits and lo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69960"/>
            <a:ext cx="777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2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Forma jur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está reglamentad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consecuencia del principio de la autonomía de la volun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uede constar en cualquier instrumento jurídico, privado o público, en donde se exprese la voluntad de las 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requiere solemnidad alg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s partes en su autonomía determinarán la forma y el 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uede constar como pacto de accionistas o como acuerdo de actuación conjunta, u otro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69960"/>
            <a:ext cx="7777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3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Vinculada a un proyecto específico de interés para la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unidad de intereses entre la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terminación de contribuciones y aportes de cada una de 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rticipación en las utilidades y en las pér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 conjunto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aturaleza fiduciaria de la r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ber de lealtad y de no competencia entre los partíci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de solución de controvers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70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sarrollo económ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recimiento del comercio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ecesidad de nuevas 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úsqueda de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ecesidad de enfrentar competenc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ESULTA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tudio de nuevas formas de cooperación y asociación empresa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836640"/>
            <a:ext cx="7777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EVAS FORMAS DE ASOCIACION Y COOP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sorcios, agrupamientos o unión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F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corpo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Grupos empresa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uerdos de actuación conju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Joint Ventur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ORCIOS, AGRUPAMIENTOS O UNION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consorcio es un acuerdo entre dos o más sociedades que acuerdan realizar cierto tipo de actividades en forma común, sin perder su identidad y su personalidad jurí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consorcio tiende a especializarse en algún tipo de actividades que sean comunes para los asociad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Importaciones de 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studio de mer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Investigación tecnológ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n ciertos países sajones (Australia, Nueva Zelandia, Sud Africa) se conocen con el nombre de “Board” y por lo general se orientan a la exportación de ciertos productos, estableciendo requisitos de calidad, precios y procedimiento de ventas al extranj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836640"/>
            <a:ext cx="777708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SIONES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fusión consiste en la reunión de dos o más sociedades en una sola que las sucede en todos sus derechos y obligaciones y a la cual se incorporan la totalidad del patrimonio y accionistas de los entes fusio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fusión puede ser por creación o por incor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Hay fusión por creación cuando el activo y pasivo de dos o más sociedades que se disuelven se aporta a una nueva sociedad que se constituy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Hay fusión por incorporación cuando una o más sociedades que se disuelven son absorbidas por una sociedad ya existente la que adquiere todos sus activos y pa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(Art. 99 Ley Sociedades Anóni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777708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UPOS EMPRESA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rtículo 96.- 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Grupo empresarial es el conjunto de  entidades que presentan vínculos de tal naturaleza en  su propiedad, administración o responsabilidad  crediticia, que hacen presumir que la actu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conómica y financiera de sus integrantes está guiada por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ntereses comunes del grupo o subordinada a éstos, o que existen riesgos financieros comunes en los créditos que se les otorgan o en la adquisición de valores que em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Forman parte de un mismo grupo empresar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) Una sociedad y su controlad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b) Todas las sociedades que tienen un controlador comú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y este último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) Toda entidad que determine la Superint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onsiderando la concurrencia de una o más d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iguientes circunsta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620640"/>
            <a:ext cx="828036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1. Que un porcentaje significativo del activo de la sociedad está comprometido en el grupo empresarial, ya sea en la forma de inversión en valores, derechos en sociedades, acreencias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garantí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2. Que la sociedad tiene un significativo nivel de endeudamiento y que el grupo empresarial tiene importante participación como acreedor o garante de dicha deu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3. Que la sociedad sea miembro de un controlador de algunas de las entidades mencionadas en las letras a) o b), cuando este controlador corresponda a un grupo de personas y existan razones fundadas en lo dispuesto en el inciso primero para incluirla en el grupo empresarial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4. Que la sociedad sea controlada por uno o más miembros del controlador de alguna de las entidades del grupo empresarial, si dicho controlador está compuesto por más de una perso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y existan razones fundadas en lo dispuesto en el inciso primero para incluirla en el grupo empresa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836640"/>
            <a:ext cx="77770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 D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ador de una sociedad es toda persona o grupo de personas con acuerdo de actuación conjunta que directamente o a través de otras personas naturales o jurídicas participan en su propiedad y tiene poder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Asegurar la mayoría de votos en las juntas de accionistas y elegir a la mayoría de los directores o designar al administrador o representante legal o la mayoría de ell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Influir decisivamente en la administración de la socie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. 97 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9T02:15:07Z</dcterms:modified>
  <cp:revision>102</cp:revision>
  <dc:subject/>
  <dc:title>Diapositiva 1</dc:title>
</cp:coreProperties>
</file>