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494-C9B9-4F5D-BB94-C1E510A2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CFC-6429-48E6-B31A-EA23CBD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07B-7745-42B5-94BE-1CD9B801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3B3-BFDF-43AF-AA1B-3C66610E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6B2-4115-4BCA-9DB2-D47D985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C8B-B460-40BD-AD5F-B023BB2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315-97A5-45B3-ACF0-F0900D5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B55-7555-408C-98B3-CE9A3B6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696-F1F3-4A11-81FD-F6771FDA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2B1-8CC0-42E5-8E3F-0E2B4EC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CBC-3A53-4D3D-8823-4A9F2FC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452-D107-42BE-8612-B9118575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5A7-382C-4B7E-BE06-5316F49BF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VENIOS DE COOPERACION EMPRESA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83664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UERDOS DE ACTUACIÓN CON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la convención entre dos o más personas que participan simultáneamente en la propiedad de una sociedad, directamente o a través de otras personas naturales o jurídicas controladas, mediante la cual se comprometen a participar con idéntico interés en la gestión de la sociedad y obtener el control de la mi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presume que existe tal acuerdo ent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Representantes y repres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persona, su cónyuge y parientes hasta un 2º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Entidades pertenecientes a un mismo grupo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sociedad y su contr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69960"/>
            <a:ext cx="777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1 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a reunión de fuerzas entre dos o más empresas del mismo o de diferentes países con la finalidad de realizar una o varias operaciones específicas: industrial, comercial, inversión, producción, comerci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 acuerdo de asociación entre dos o más personas naturales o jurídicas para llevar adelante una empresa particular, con fines de lucro, para el cual combinan propiedad, dinero, efectos, capacidades y conocimi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.S. courts have defined a joint venture as an association of two or more persons ( whether corporate, individual, or otherwise ) combining property and expertise to carry out a single business enterprise and having a joint proprietary interest, a joint right to control, and a sharing of profits and lo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6996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2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Form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está reglamentad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consecuencia del principio de la autonomía de la volun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en cualquier instrumento jurídico, privado o público, en donde se exprese la voluntad d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requiere solemnidad al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s partes en su autonomía determinarán la forma y el 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como pacto de accionistas o como acuerdo de actuación conjunta, u otro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69960"/>
            <a:ext cx="777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3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Vinculada a un proyecto específico de interés para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unidad de intereses entre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terminación de contribuciones y aportes de cada una d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icipación en las utilidades y en las pér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conjunt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aturaleza fiduciaria de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ber de lealtad y de no competencia entre los partíc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de solución de controvers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sarrollo econó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recimiento del comerci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nuevas 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úsqueda de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enfrentar compete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SULTA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tudio de nuevas formas de cooperación y asociación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77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S FORMAS DE ASOCIACION Y COOP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orcios, agrupamientos o unió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corpo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uerdos de actuación conju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ORCIOS, AGRUPAMIENTOS O UNIO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es un acuerdo entre dos o más sociedades que acuerdan realizar cierto tipo de actividades en forma común, sin perder su identidad y su personalidad jurí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tiende a especializarse en algún tipo de actividades que sean comunes para los asocia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mportaciones de 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studio de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nvestigación tecnológ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ciertos países sajones (Australia, Nueva Zelandia, Sud Africa) se conocen con el nombre de “Board” y por lo general se orientan a la exportación de ciertos productos, estableciendo requisitos de calidad, precios y procedimiento de ventas al extranj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SIONES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consiste en la reunión de dos o más sociedades en una sola que las sucede en todos sus derechos y obligaciones y a la cual se incorporan la totalidad del patrimonio y accionistas de los entes fusio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puede ser por creación o por incor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creación cuando el activo y pasivo de dos o más sociedades que se disuelven se aporta a una nueva sociedad que se constituy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incorporación cuando una o más sociedades que se disuelven son absorbidas por una sociedad ya existente la que adquiere todos sus activos y pa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(Art. 99 Ley Sociedades Anóni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7777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rtículo 96.-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rupo empresarial es el conjunto de  entidades que presentan vínculos de tal naturaleza en  su propiedad, administración o responsabilidad  crediticia, que hacen presumir que la actu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conómica y financiera de sus integrantes está guiada por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ntereses comunes del grupo o subordinada a éstos, o que existen riesgos financieros comunes en los créditos que se les otorgan o en la adquisición de valores que em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Forman parte de un mismo grupo empresa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) Una sociedad y su control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b) Todas las sociedades que tienen un controlador comú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ste último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) Toda entidad que determine la Superint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onsiderando la concurrencia de una o más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guientes circunsta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0640"/>
            <a:ext cx="82803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1. Que un porcentaje significativo del activo de la sociedad está comprometido en el grupo empresarial, ya sea en la forma de inversión en valores, derechos en sociedades, acreencia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arantí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2. Que la sociedad tiene un significativo nivel de endeudamiento y que el grupo empresarial tiene importante participación como acreedor o garante de dicha de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3. Que la sociedad sea miembro de un controlador de algunas de las entidades mencionadas en las letras a) o b), cuando este controlador corresponda a un grupo de personas y existan razones fundadas en lo dispuesto en el inciso primero para incluirla en el grupo empresarial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4. Que la sociedad sea controlada por uno o más miembros del controlador de alguna de las entidades del grupo empresarial, si dicho controlador está compuesto por más de una perso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xistan razones fundadas en lo dispuesto en el inciso primero para incluirla en el grupo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836640"/>
            <a:ext cx="7777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 D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ador de una sociedad es toda persona o grupo de personas con acuerdo de actuación conjunta que directamente o a través de otras personas naturales o jurídicas participan en su propiedad y tiene poder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Asegurar la mayoría de votos en las juntas de accionistas y elegir a la mayoría de los directores o designar al administrador o representante legal o la mayoría de ell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Influir decisivamente en la administración de la soci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. 97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9T02:15:07Z</dcterms:modified>
  <cp:revision>102</cp:revision>
  <dc:subject/>
  <dc:title>Diapositiva 1</dc:title>
</cp:coreProperties>
</file>